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67E-FF97-4A61-99DA-E7E15983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AC6-8AB8-457A-B880-1409925D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3C5-6EB1-427F-9C5F-DFAB2D7A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04A-4E3B-47D5-B8B7-1DCA8DAD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E616-02F9-499C-8BCD-56C176D9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43B6-5BF7-4B25-A517-73A41774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C5AF-6411-460A-8EFB-AEFCC4B6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13A5-74D4-459C-AB19-A9A251F6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1E6C-D310-436B-A93B-892FC812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2E1C-A5EE-4A5A-B0C4-79C410DB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16DB-E6C4-42B1-8641-A8B4ACE2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C8A-7A83-4032-B028-25D65F1C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CA66-59B7-4474-AEED-D1AAFA75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9DE0-5AAB-4A60-A0B7-E8974768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2966-DFD2-4FF4-ACC2-2673FB88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5FE8-F948-4669-AD9D-E6404DE7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64E0-F9F6-48E5-8472-8F5A644B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665-2F22-4240-B305-5F4A99DD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D49-AF62-42DF-9C26-A50DA88A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95F-4981-4755-AB6C-F584DFF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B15-4C2A-4A6C-A966-5F3E9684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FB8-8C97-4BAB-BD5F-1717D1BE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E9F-BEE1-4F3B-9133-C8F57EC2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1F7-C2BC-41E8-B05E-6483293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6E78-0FE7-4BE1-AA0F-1FC7FBD119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D46C-5863-4320-A501-BE91D67153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“ </a:t>
            </a: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Математикалық логика негіздері”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Автор: Такишева Айгүл Сырымбет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Тайынша қаласының № 5 орта мектебінің математика пәнінің мұғалі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“ </a:t>
            </a: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Математикалық логика негіздері”  элективті курсының  мақсаттары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оқушылардың өзектілік позициясынан  өздеріне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ғылым сфераларында өз тағдырын өзі шешу, өнер техникасында, математикалық логика  курсын оқу барысында бағыт таңдауға саналы түрде дай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білім қызметінің мамандандыру элементтерін еңгізу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да әр алуан пәнаралық байланыс арқылы математика туралы біртұтас ой қалыптастыру, логикалық есептерді шешу әдістері туралы ертерек алған білімдерін бір жүйеге келтіруге мүмкіндік беред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“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Математикалық логика негіздері ” эликтивті курсын меңгеру позициясынан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ның логикалық мәдениет қалыпт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Бағдарлама модульдік принцип бойынша құрастырылған, бір оймен біріктірілген </a:t>
            </a:r>
            <a:br>
              <a:rPr sz="3400"/>
            </a:br>
            <a:r>
              <a:rPr b="1" lang="kk-KZ" sz="3400" spc="-1" strike="noStrike">
                <a:solidFill>
                  <a:srgbClr val="0000ff"/>
                </a:solidFill>
                <a:latin typeface="Times New Roman"/>
              </a:rPr>
              <a:t>екі блоктан</a:t>
            </a: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 тұра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3357720"/>
            <a:ext cx="380988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Бірінші модуль</a:t>
            </a:r>
            <a:r>
              <a:rPr b="1" lang="kk-KZ" sz="24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“Қызықты есептер, математикалық парадокстер және софизмдер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56000" y="3284640"/>
            <a:ext cx="47880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Екінші модуль: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“Есептердің  шешу барысында математикалық логиканың элементтерін пайдалану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276640"/>
            <a:ext cx="1297080" cy="107928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16000 h 1079280"/>
              <a:gd name="textAreaBottom" fmla="*/ 7552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7" stAng="-5400000" swAng="-5400000"/>
                <a:lnTo>
                  <a:pt x="0" y="10793"/>
                </a:lnTo>
                <a:arcTo wR="21600" hR="8647" stAng="10800000" swAng="-2913005"/>
                <a:lnTo>
                  <a:pt x="14400" y="21105"/>
                </a:lnTo>
                <a:lnTo>
                  <a:pt x="21600" y="18367"/>
                </a:lnTo>
                <a:lnTo>
                  <a:pt x="14400" y="14639"/>
                </a:lnTo>
                <a:lnTo>
                  <a:pt x="14400" y="16799"/>
                </a:lnTo>
                <a:arcTo wR="21600" hR="8647" stAng="7886995" swAng="2741046"/>
                <a:lnTo>
                  <a:pt x="167" y="9720"/>
                </a:lnTo>
                <a:arcTo wR="21600" hR="8647" stAng="-10628040" swAng="5228040"/>
                <a:close/>
              </a:path>
              <a:path fill="darkenLess" w="21600" h="21600">
                <a:moveTo>
                  <a:pt x="21600" y="0"/>
                </a:moveTo>
                <a:arcTo wR="21600" hR="8647" stAng="-5400000" swAng="-5400000"/>
                <a:lnTo>
                  <a:pt x="0" y="8647"/>
                </a:lnTo>
                <a:arcTo wR="21600" hR="8647" stAng="10800000" swAng="-171960"/>
                <a:lnTo>
                  <a:pt x="167" y="9720"/>
                </a:lnTo>
                <a:arcTo wR="21600" hR="8647" stAng="-10628040" swAng="5228040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2205000"/>
            <a:ext cx="1225440" cy="115272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229680 h 1152720"/>
              <a:gd name="textAreaBottom" fmla="*/ 807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2906680"/>
                <a:lnTo>
                  <a:pt x="7200" y="21107"/>
                </a:lnTo>
                <a:lnTo>
                  <a:pt x="0" y="18335"/>
                </a:lnTo>
                <a:lnTo>
                  <a:pt x="7200" y="14577"/>
                </a:lnTo>
                <a:lnTo>
                  <a:pt x="7200" y="16737"/>
                </a:lnTo>
                <a:arcTo wR="21600" hR="8615" stAng="2906680" swAng="-2729506"/>
                <a:lnTo>
                  <a:pt x="21422" y="9720"/>
                </a:lnTo>
                <a:arcTo wR="21600" hR="8615" stAng="-177174" swAng="-5222826"/>
                <a:close/>
              </a:path>
              <a:path fill="darkenLess"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-177174"/>
                <a:lnTo>
                  <a:pt x="21422" y="9720"/>
                </a:lnTo>
                <a:arcTo wR="21600" hR="8615" stAng="-177174" swAng="-5222826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ның ойын дам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кеңес бере отырып, бағыттап оқ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ізденушілік, зерттеушілік жұмыстарын ұйымдаст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ғылыми, техникалық, кәсіпшілік қызығушылықтырын қалыптастыруға жағдай жасау, бейім таңдауда өз тағдырын өзі шешуге мүмкіндік б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стандартты логикалық операцияларды жылдам  және дұрыс орындау  іскерлігін дамы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салмақты ойластырылған шешім қабылдауға,  өзінің және өзгенің  ойлау әрекеттері туралы дұрыс пікір білдіре білу, қарсы оппоненттердің  ой жүгіртулеріндегі қателерді  таб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400" spc="-1" strike="noStrike">
                <a:solidFill>
                  <a:srgbClr val="0000ff"/>
                </a:solidFill>
                <a:latin typeface="Times New Roman"/>
              </a:rPr>
              <a:t>Жоғарыда көрсетілген мақсаттарға  жету үшін келесі міндеттер  қойылады 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800" spc="-1" strike="noStrike">
                <a:solidFill>
                  <a:srgbClr val="0000ff"/>
                </a:solidFill>
                <a:latin typeface="Times New Roman"/>
              </a:rPr>
              <a:t>Курсты оқу барысында күтілетін нәтиже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білуі тиіст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 және софизм  ұғымдары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терден есеп “ қақпандардың ” айырмашылығын түсі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логикалық есептерді шешу тәсілдері: берілгендерді салыстыру, графтар, схемалар және кестелер арқылы, мүмкін варианттарды таңда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істей алуы тиіс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офизм,  парадокс, “ қақпан ” есептерін  анықтай 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шешу барысында софизм, парадокс, «қақпан» есептерінің элементтерін пайдал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логикалық есептерді әртүрлі тәсілдермен шеше бі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мүмкін варианттарды графтар, схемалар және кестелер арқылы таң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лған білімдерін практикалық есептерді шығаруда пайдалан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31:23Z</dcterms:created>
  <dc:creator>Customer</dc:creator>
  <dc:description/>
  <dc:language>en-US</dc:language>
  <cp:lastModifiedBy>Customer</cp:lastModifiedBy>
  <dcterms:modified xsi:type="dcterms:W3CDTF">2012-03-01T12:31:03Z</dcterms:modified>
  <cp:revision>6</cp:revision>
  <dc:subject/>
  <dc:title>“ Математикалыќ логика негіздері”  (элективті курс)</dc:title>
</cp:coreProperties>
</file>