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E0B-CCEF-4188-A6F7-8F35A088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932-10F6-46F1-ADFE-A5564C29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61A-9F31-47E3-8D0E-D9339C46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DC4B-4C2D-4A90-AC9A-99F51DD1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B983-D6FD-4943-ABFD-A3761D98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69B5-603A-465A-B544-3D7771BB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BAE9-B70D-4299-ADEC-56D9D7B7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28C7-992C-4BD1-827D-CE14FCFD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3E07-040F-4156-8C9C-5ECC7540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B612-112D-460A-9A38-FC5AF652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DCE0-1C8B-469D-85A3-816C4CF0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5497-F30E-48DF-9990-0A85ADA9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A7C8-E949-4ECA-AB0B-1B0B4E91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ACBC-EF90-4E88-8375-F0B5EE55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839D-E9D0-4D4F-8EAB-015F3E2E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96C8-F62B-4464-99D8-A81DD79A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9AC5-7E10-44D3-B23F-4A9571A3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C27-A40D-4859-97F3-EBB8A5F3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849-33D6-408D-890A-BE2444F2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92A-7A62-4D26-AA47-252A9529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F8AF-E8F3-4DE4-9D74-3BB0DFC9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654B-EC4B-444D-99B9-6344C3DF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3E26-88A1-411F-846C-437D9141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619-281E-4F81-9BA0-F2ECAE16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C6E9-88AE-45A2-B360-268B6B3177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0F39-E8C5-428D-BBDD-CE6210D51A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ff"/>
                </a:solidFill>
                <a:latin typeface="Times New Roman"/>
              </a:rPr>
              <a:t>“ </a:t>
            </a:r>
            <a:r>
              <a:rPr b="1" lang="kk-KZ" sz="4800" spc="-1" strike="noStrike">
                <a:solidFill>
                  <a:srgbClr val="0000ff"/>
                </a:solidFill>
                <a:latin typeface="Times New Roman"/>
              </a:rPr>
              <a:t>Математикалық логика негіздері”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Arial"/>
              </a:rPr>
              <a:t>Автор: Такишева Айгүл Сырымбетқы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Arial"/>
              </a:rPr>
              <a:t>Тайынша қаласының № 5 орта мектебінің математика пәнінің мұғалім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400" spc="-1" strike="noStrike">
                <a:solidFill>
                  <a:srgbClr val="330033"/>
                </a:solidFill>
                <a:latin typeface="Times New Roman"/>
              </a:rPr>
              <a:t>“ </a:t>
            </a:r>
            <a:r>
              <a:rPr b="1" lang="kk-KZ" sz="3400" spc="-1" strike="noStrike">
                <a:solidFill>
                  <a:srgbClr val="330033"/>
                </a:solidFill>
                <a:latin typeface="Times New Roman"/>
              </a:rPr>
              <a:t>Математикалық логика негіздері”  элективті курсының  мақсаттары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60436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ff"/>
                </a:solidFill>
                <a:latin typeface="Arial"/>
              </a:rPr>
              <a:t>оқушылардың өзектілік позициясынан  өздеріне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ғылым сфераларында өз тағдырын өзі шешу, өнер техникасында, математикалық логика  курсын оқу барысында бағыт таңдауға саналы түрде дайынд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ff"/>
                </a:solidFill>
                <a:latin typeface="Arial"/>
              </a:rPr>
              <a:t>білім қызметінің мамандандыру элементтерін еңгізу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оқушыда әр алуан пәнаралық байланыс арқылы математика туралы біртұтас ой қалыптастыру, логикалық есептерді шешу әдістері туралы ертерек алған білімдерін бір жүйеге келтіруге мүмкіндік беред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ff"/>
                </a:solidFill>
                <a:latin typeface="Arial"/>
              </a:rPr>
              <a:t>“ </a:t>
            </a:r>
            <a:r>
              <a:rPr b="0" lang="kk-KZ" sz="2800" spc="-1" strike="noStrike">
                <a:solidFill>
                  <a:srgbClr val="0000ff"/>
                </a:solidFill>
                <a:latin typeface="Arial"/>
              </a:rPr>
              <a:t>Математикалық логика негіздері ” эликтивті курсын меңгеру позициясынан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оқушының логикалық мәдениет қалыптас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0000ff"/>
                </a:solidFill>
                <a:latin typeface="Times New Roman"/>
              </a:rPr>
              <a:t>Бағдарлама модульдік принцип бойынша құрастырылған, бір оймен біріктірілген </a:t>
            </a:r>
            <a:br>
              <a:rPr sz="3400"/>
            </a:br>
            <a:r>
              <a:rPr b="1" lang="kk-KZ" sz="3400" spc="-1" strike="noStrike">
                <a:solidFill>
                  <a:srgbClr val="0000ff"/>
                </a:solidFill>
                <a:latin typeface="Times New Roman"/>
              </a:rPr>
              <a:t>екі блоктан</a:t>
            </a:r>
            <a:r>
              <a:rPr b="0" lang="kk-KZ" sz="3400" spc="-1" strike="noStrike">
                <a:solidFill>
                  <a:srgbClr val="0000ff"/>
                </a:solidFill>
                <a:latin typeface="Times New Roman"/>
              </a:rPr>
              <a:t> тұрады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3357720"/>
            <a:ext cx="380988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 u="sng">
                <a:solidFill>
                  <a:srgbClr val="ff0000"/>
                </a:solidFill>
                <a:uFillTx/>
                <a:latin typeface="Arial"/>
              </a:rPr>
              <a:t>Бірінші модуль</a:t>
            </a:r>
            <a:r>
              <a:rPr b="1" lang="kk-KZ" sz="24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 “Қызықты есептер, математикалық парадокстер және софизмдер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56000" y="3284640"/>
            <a:ext cx="47880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 u="sng">
                <a:solidFill>
                  <a:srgbClr val="ff0000"/>
                </a:solidFill>
                <a:uFillTx/>
                <a:latin typeface="Arial"/>
              </a:rPr>
              <a:t>Екінші модуль: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“Есептердің  шешу барысында математикалық логиканың элементтерін пайдалану 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2276640"/>
            <a:ext cx="1297080" cy="1079280"/>
          </a:xfrm>
          <a:custGeom>
            <a:avLst/>
            <a:gdLst>
              <a:gd name="textAreaLeft" fmla="*/ 173520 w 1297080"/>
              <a:gd name="textAreaRight" fmla="*/ 1123560 w 1297080"/>
              <a:gd name="textAreaTop" fmla="*/ 216000 h 1079280"/>
              <a:gd name="textAreaBottom" fmla="*/ 75528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47" stAng="-5400000" swAng="-5400000"/>
                <a:lnTo>
                  <a:pt x="0" y="10793"/>
                </a:lnTo>
                <a:arcTo wR="21600" hR="8647" stAng="10800000" swAng="-2913005"/>
                <a:lnTo>
                  <a:pt x="14400" y="21105"/>
                </a:lnTo>
                <a:lnTo>
                  <a:pt x="21600" y="18367"/>
                </a:lnTo>
                <a:lnTo>
                  <a:pt x="14400" y="14639"/>
                </a:lnTo>
                <a:lnTo>
                  <a:pt x="14400" y="16799"/>
                </a:lnTo>
                <a:arcTo wR="21600" hR="8647" stAng="7886995" swAng="2741046"/>
                <a:lnTo>
                  <a:pt x="167" y="9720"/>
                </a:lnTo>
                <a:arcTo wR="21600" hR="8647" stAng="-10628040" swAng="5228040"/>
                <a:close/>
              </a:path>
              <a:path fill="darkenLess" w="21600" h="21600">
                <a:moveTo>
                  <a:pt x="21600" y="0"/>
                </a:moveTo>
                <a:arcTo wR="21600" hR="8647" stAng="-5400000" swAng="-5400000"/>
                <a:lnTo>
                  <a:pt x="0" y="8647"/>
                </a:lnTo>
                <a:arcTo wR="21600" hR="8647" stAng="10800000" swAng="-171960"/>
                <a:lnTo>
                  <a:pt x="167" y="9720"/>
                </a:lnTo>
                <a:arcTo wR="21600" hR="8647" stAng="-10628040" swAng="5228040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59640" y="2205000"/>
            <a:ext cx="1225440" cy="1152720"/>
          </a:xfrm>
          <a:custGeom>
            <a:avLst/>
            <a:gdLst>
              <a:gd name="textAreaLeft" fmla="*/ 164160 w 1225440"/>
              <a:gd name="textAreaRight" fmla="*/ 1061280 w 1225440"/>
              <a:gd name="textAreaTop" fmla="*/ 229680 h 1152720"/>
              <a:gd name="textAreaBottom" fmla="*/ 807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15" stAng="-5400000" swAng="5400000"/>
                <a:lnTo>
                  <a:pt x="21600" y="10825"/>
                </a:lnTo>
                <a:arcTo wR="21600" hR="8615" stAng="0" swAng="2906680"/>
                <a:lnTo>
                  <a:pt x="7200" y="21107"/>
                </a:lnTo>
                <a:lnTo>
                  <a:pt x="0" y="18335"/>
                </a:lnTo>
                <a:lnTo>
                  <a:pt x="7200" y="14577"/>
                </a:lnTo>
                <a:lnTo>
                  <a:pt x="7200" y="16737"/>
                </a:lnTo>
                <a:arcTo wR="21600" hR="8615" stAng="2906680" swAng="-2729506"/>
                <a:lnTo>
                  <a:pt x="21422" y="9720"/>
                </a:lnTo>
                <a:arcTo wR="21600" hR="8615" stAng="-177174" swAng="-5222826"/>
                <a:close/>
              </a:path>
              <a:path fill="darkenLess" w="21600" h="21600">
                <a:moveTo>
                  <a:pt x="0" y="0"/>
                </a:moveTo>
                <a:arcTo wR="21600" hR="8615" stAng="-5400000" swAng="5400000"/>
                <a:lnTo>
                  <a:pt x="21600" y="10825"/>
                </a:lnTo>
                <a:arcTo wR="21600" hR="8615" stAng="0" swAng="-177174"/>
                <a:lnTo>
                  <a:pt x="21422" y="9720"/>
                </a:lnTo>
                <a:arcTo wR="21600" hR="8615" stAng="-177174" swAng="-5222826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280" y="1599840"/>
            <a:ext cx="8604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ның ойын дамы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кеңес бере отырып, бағыттап оқы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ізденушілік, зерттеушілік жұмыстарын ұйымдасты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 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лардың ғылыми, техникалық, кәсіпшілік қызығушылықтырын қалыптастыруға жағдай жасау, бейім таңдауда өз тағдырын өзі шешуге мүмкіндік бе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  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лардың стандартты логикалық операцияларды жылдам  және дұрыс орындау  іскерлігін дамы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салмақты ойластырылған шешім қабылдауға,  өзінің және өзгенің  ойлау әрекеттері туралы дұрыс пікір білдіре білу, қарсы оппоненттердің  ой жүгіртулеріндегі қателерді  таба бі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400" spc="-1" strike="noStrike">
                <a:solidFill>
                  <a:srgbClr val="0000ff"/>
                </a:solidFill>
                <a:latin typeface="Times New Roman"/>
              </a:rPr>
              <a:t>Жоғарыда көрсетілген мақсаттарға  жету үшін келесі міндеттер  қойылады 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800" spc="-1" strike="noStrike">
                <a:solidFill>
                  <a:srgbClr val="0000ff"/>
                </a:solidFill>
                <a:latin typeface="Times New Roman"/>
              </a:rPr>
              <a:t>Курсты оқу барысында күтілетін нәтижелер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ff0000"/>
                </a:solidFill>
                <a:uFillTx/>
                <a:latin typeface="Arial"/>
              </a:rPr>
              <a:t>Курсты оқу нәтижесінде оқушылар білуі тиіст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парадокс және софизм  ұғымдары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парадокстерден есеп “ қақпандардың ” айырмашылығын түсі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логикалық есептерді шешу тәсілдері: берілгендерді салыстыру, графтар, схемалар және кестелер арқылы, мүмкін варианттарды таңда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ff0000"/>
                </a:solidFill>
                <a:uFillTx/>
                <a:latin typeface="Arial"/>
              </a:rPr>
              <a:t>Курсты оқу нәтижесінде оқушылар істей алуы тиіс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софизм,  парадокс, “ қақпан ” есептерін  анықтай 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шешу барысында софизм, парадокс, «қақпан» есептерінің элементтерін пайдала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логикалық есептерді әртүрлі тәсілдермен шеше бі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мүмкін варианттарды графтар, схемалар және кестелер арқылы таңд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лған білімдерін практикалық есептерді шығаруда пайдалана бі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9:31:23Z</dcterms:created>
  <dc:creator>Customer</dc:creator>
  <dc:description/>
  <dc:language>en-US</dc:language>
  <cp:lastModifiedBy>Customer</cp:lastModifiedBy>
  <dcterms:modified xsi:type="dcterms:W3CDTF">2012-03-01T12:31:03Z</dcterms:modified>
  <cp:revision>6</cp:revision>
  <dc:subject/>
  <dc:title>“ Математикалыќ логика негіздері”  (элективті курс)</dc:title>
</cp:coreProperties>
</file>