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BD0-A73B-43A9-ADAA-78CE206C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22B-7FD8-44FD-B975-8442AF1D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BEF-3395-4B35-A30B-42554014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287-A8EF-43E4-BDA9-BD2C63DA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A4A2-BCAA-4DA9-8D41-AD698CF2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2CDE-0D83-465A-AFC9-C39FB5AC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0134-C00A-424E-93B6-668EFC13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CB9E-6F58-4ED4-813A-875B8B72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AF40-3C1F-464E-A4ED-CD50C666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0CFF-31BD-4169-B87C-5A1C57F1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5195-A4A7-4564-B79E-FC8F5CDC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634-CB2A-4079-8F67-30FD9671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44EC-0433-43ED-94EB-C7C3967A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B034-D106-40C3-806B-AD481746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7739-0948-45E5-B7C3-48461859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57B4-20C1-469A-8CA9-2C85174A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AD91-562E-41A9-8F43-2D969941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1C0F-90BB-4107-8895-51A9073B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89A-69A9-49E4-9B85-1C630492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CF1-F654-481E-89FC-A2D3A15A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613-BA80-40CB-9342-7642E1A5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78C-5E25-4778-893A-1E3D5C2B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202-948D-465F-BCDC-16573A4A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CFC-DFE8-4009-B231-7A694364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2669-2654-447E-887E-7F48A923AA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2460-029D-4C24-B9B1-10376FAAB8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“ </a:t>
            </a: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Математикалық логика негіздері”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Автор: Такишева Айгүл Сырымбет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Тайынша қаласының № 5 орта мектебінің математика пәнінің мұғалі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“ </a:t>
            </a: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Математикалық логика негіздері”  элективті курсының  мақсаттары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оқушылардың өзектілік позициясынан  өздеріне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ғылым сфераларында өз тағдырын өзі шешу, өнер техникасында, математикалық логика  курсын оқу барысында бағыт таңдауға саналы түрде дай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білім қызметінің мамандандыру элементтерін еңгізу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да әр алуан пәнаралық байланыс арқылы математика туралы біртұтас ой қалыптастыру, логикалық есептерді шешу әдістері туралы ертерек алған білімдерін бір жүйеге келтіруге мүмкіндік беред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“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Математикалық логика негіздері ” эликтивті курсын меңгеру позициясынан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ның логикалық мәдениет қалыпт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Бағдарлама модульдік принцип бойынша құрастырылған, бір оймен біріктірілген </a:t>
            </a:r>
            <a:br>
              <a:rPr sz="3400"/>
            </a:br>
            <a:r>
              <a:rPr b="1" lang="kk-KZ" sz="3400" spc="-1" strike="noStrike">
                <a:solidFill>
                  <a:srgbClr val="0000ff"/>
                </a:solidFill>
                <a:latin typeface="Times New Roman"/>
              </a:rPr>
              <a:t>екі блоктан</a:t>
            </a: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 тұрады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3357720"/>
            <a:ext cx="380988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Бірінші модуль</a:t>
            </a:r>
            <a:r>
              <a:rPr b="1" lang="kk-KZ" sz="24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“Қызықты есептер, математикалық парадокстер және софизмдер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56000" y="3284640"/>
            <a:ext cx="47880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Екінші модуль: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“Есептердің  шешу барысында математикалық логиканың элементтерін пайдалану 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276640"/>
            <a:ext cx="1297080" cy="107928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216000 h 1079280"/>
              <a:gd name="textAreaBottom" fmla="*/ 75528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7" stAng="-5400000" swAng="-5400000"/>
                <a:lnTo>
                  <a:pt x="0" y="10793"/>
                </a:lnTo>
                <a:arcTo wR="21600" hR="8647" stAng="10800000" swAng="-2913005"/>
                <a:lnTo>
                  <a:pt x="14400" y="21105"/>
                </a:lnTo>
                <a:lnTo>
                  <a:pt x="21600" y="18367"/>
                </a:lnTo>
                <a:lnTo>
                  <a:pt x="14400" y="14639"/>
                </a:lnTo>
                <a:lnTo>
                  <a:pt x="14400" y="16799"/>
                </a:lnTo>
                <a:arcTo wR="21600" hR="8647" stAng="7886995" swAng="2741046"/>
                <a:lnTo>
                  <a:pt x="167" y="9720"/>
                </a:lnTo>
                <a:arcTo wR="21600" hR="8647" stAng="-10628040" swAng="5228040"/>
                <a:close/>
              </a:path>
              <a:path fill="darkenLess" w="21600" h="21600">
                <a:moveTo>
                  <a:pt x="21600" y="0"/>
                </a:moveTo>
                <a:arcTo wR="21600" hR="8647" stAng="-5400000" swAng="-5400000"/>
                <a:lnTo>
                  <a:pt x="0" y="8647"/>
                </a:lnTo>
                <a:arcTo wR="21600" hR="8647" stAng="10800000" swAng="-171960"/>
                <a:lnTo>
                  <a:pt x="167" y="9720"/>
                </a:lnTo>
                <a:arcTo wR="21600" hR="8647" stAng="-10628040" swAng="5228040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2205000"/>
            <a:ext cx="1225440" cy="115272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229680 h 1152720"/>
              <a:gd name="textAreaBottom" fmla="*/ 807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2906680"/>
                <a:lnTo>
                  <a:pt x="7200" y="21107"/>
                </a:lnTo>
                <a:lnTo>
                  <a:pt x="0" y="18335"/>
                </a:lnTo>
                <a:lnTo>
                  <a:pt x="7200" y="14577"/>
                </a:lnTo>
                <a:lnTo>
                  <a:pt x="7200" y="16737"/>
                </a:lnTo>
                <a:arcTo wR="21600" hR="8615" stAng="2906680" swAng="-2729506"/>
                <a:lnTo>
                  <a:pt x="21422" y="9720"/>
                </a:lnTo>
                <a:arcTo wR="21600" hR="8615" stAng="-177174" swAng="-5222826"/>
                <a:close/>
              </a:path>
              <a:path fill="darkenLess"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-177174"/>
                <a:lnTo>
                  <a:pt x="21422" y="9720"/>
                </a:lnTo>
                <a:arcTo wR="21600" hR="8615" stAng="-177174" swAng="-5222826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ның ойын дам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кеңес бере отырып, бағыттап оқ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ізденушілік, зерттеушілік жұмыстарын ұйымдасты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ғылыми, техникалық, кәсіпшілік қызығушылықтырын қалыптастыруға жағдай жасау, бейім таңдауда өз тағдырын өзі шешуге мүмкіндік бе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стандартты логикалық операцияларды жылдам  және дұрыс орындау  іскерлігін дамы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салмақты ойластырылған шешім қабылдауға,  өзінің және өзгенің  ойлау әрекеттері туралы дұрыс пікір білдіре білу, қарсы оппоненттердің  ой жүгіртулеріндегі қателерді  таб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400" spc="-1" strike="noStrike">
                <a:solidFill>
                  <a:srgbClr val="0000ff"/>
                </a:solidFill>
                <a:latin typeface="Times New Roman"/>
              </a:rPr>
              <a:t>Жоғарыда көрсетілген мақсаттарға  жету үшін келесі міндеттер  қойылады 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800" spc="-1" strike="noStrike">
                <a:solidFill>
                  <a:srgbClr val="0000ff"/>
                </a:solidFill>
                <a:latin typeface="Times New Roman"/>
              </a:rPr>
              <a:t>Курсты оқу барысында күтілетін нәтижелер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білуі тиіст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 және софизм  ұғымдары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терден есеп “ қақпандардың ” айырмашылығын түсі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логикалық есептерді шешу тәсілдері: берілгендерді салыстыру, графтар, схемалар және кестелер арқылы, мүмкін варианттарды таңда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істей алуы тиіс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софизм,  парадокс, “ қақпан ” есептерін  анықтай 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шешу барысында софизм, парадокс, «қақпан» есептерінің элементтерін пайдала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логикалық есептерді әртүрлі тәсілдермен шеше бі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мүмкін варианттарды графтар, схемалар және кестелер арқылы таңд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лған білімдерін практикалық есептерді шығаруда пайдалан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9:31:23Z</dcterms:created>
  <dc:creator>Customer</dc:creator>
  <dc:description/>
  <dc:language>en-US</dc:language>
  <cp:lastModifiedBy>Customer</cp:lastModifiedBy>
  <dcterms:modified xsi:type="dcterms:W3CDTF">2012-03-01T12:31:03Z</dcterms:modified>
  <cp:revision>6</cp:revision>
  <dc:subject/>
  <dc:title>“ Математикалыќ логика негіздері”  (элективті курс)</dc:title>
</cp:coreProperties>
</file>