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B71-4A7C-4EB4-9145-0919E45D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D5B-6F2D-4D27-9D22-0BD04B9A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D9B-7C6D-46AF-B6D4-1BDF1F42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6D3-F88D-484A-BF60-C5CFAA45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C230-D16E-41E3-AE83-1219D2B5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2A29-CD78-45F1-BBB3-2EDEB391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5B14-0A75-4357-8D20-DFDBFC98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105A-EE65-4636-8170-D0B9F0E5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1D4C-BE41-450A-8316-F01487D6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0AC0-BE98-4DF7-9ADA-2FBAA97A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6CF4-ED7E-4878-9585-4AB406F3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E78-721D-4462-9374-746A77E6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DD73-35D1-40C1-893A-11749168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EFE7-3840-4F4A-A21E-A83D96E5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3EA4-2BA1-41B6-BAC6-5EEF9AE3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8C38-FA7F-4195-BAF3-0FB62E5A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1B87-58BD-47E4-A4F6-6F8E2BEC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F59-CF41-4731-A496-71429A53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F18-36BE-4744-9780-C9CE44E2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C33-5FA7-4135-B2FA-97954D35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E84-4CD0-465A-B6ED-3727F65C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35E-C002-4AB7-9518-AD929D3F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D0A-A5C0-4223-9E94-9200BC58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69D-66B3-41E1-B6DB-1F6D03D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73F1-78C8-4A79-8B29-14875B7E03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4CE3-771C-42CC-861B-731282DE1E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“ </a:t>
            </a: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Математикалық логика негіздері”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Автор: Такишева Айгүл Сырымбет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Тайынша қаласының № 5 орта мектебінің математика пәнінің мұғалі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“ </a:t>
            </a: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Математикалық логика негіздері”  элективті курсының  мақсаттары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оқушылардың өзектілік позициясынан  өздеріне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ғылым сфераларында өз тағдырын өзі шешу, өнер техникасында, математикалық логика  курсын оқу барысында бағыт таңдауға саналы түрде дай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білім қызметінің мамандандыру элементтерін еңгізу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да әр алуан пәнаралық байланыс арқылы математика туралы біртұтас ой қалыптастыру, логикалық есептерді шешу әдістері туралы ертерек алған білімдерін бір жүйеге келтіруге мүмкіндік беред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“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Математикалық логика негіздері ” эликтивті курсын меңгеру позициясынан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ның логикалық мәдениет қалыпт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Бағдарлама модульдік принцип бойынша құрастырылған, бір оймен біріктірілген </a:t>
            </a:r>
            <a:br>
              <a:rPr sz="3400"/>
            </a:br>
            <a:r>
              <a:rPr b="1" lang="kk-KZ" sz="3400" spc="-1" strike="noStrike">
                <a:solidFill>
                  <a:srgbClr val="0000ff"/>
                </a:solidFill>
                <a:latin typeface="Times New Roman"/>
              </a:rPr>
              <a:t>екі блоктан</a:t>
            </a: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 тұра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3357720"/>
            <a:ext cx="380988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Бірінші модуль</a:t>
            </a:r>
            <a:r>
              <a:rPr b="1" lang="kk-KZ" sz="24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“Қызықты есептер, математикалық парадокстер және софизмдер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3284640"/>
            <a:ext cx="47880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Екінші модуль: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“Есептердің  шешу барысында математикалық логиканың элементтерін пайдалану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276640"/>
            <a:ext cx="1297080" cy="107928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16000 h 1079280"/>
              <a:gd name="textAreaBottom" fmla="*/ 7552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7" stAng="-5400000" swAng="-5400000"/>
                <a:lnTo>
                  <a:pt x="0" y="10793"/>
                </a:lnTo>
                <a:arcTo wR="21600" hR="8647" stAng="10800000" swAng="-2913005"/>
                <a:lnTo>
                  <a:pt x="14400" y="21105"/>
                </a:lnTo>
                <a:lnTo>
                  <a:pt x="21600" y="18367"/>
                </a:lnTo>
                <a:lnTo>
                  <a:pt x="14400" y="14639"/>
                </a:lnTo>
                <a:lnTo>
                  <a:pt x="14400" y="16799"/>
                </a:lnTo>
                <a:arcTo wR="21600" hR="8647" stAng="7886995" swAng="2741046"/>
                <a:lnTo>
                  <a:pt x="167" y="9720"/>
                </a:lnTo>
                <a:arcTo wR="21600" hR="8647" stAng="-10628040" swAng="5228040"/>
                <a:close/>
              </a:path>
              <a:path fill="darkenLess" w="21600" h="21600">
                <a:moveTo>
                  <a:pt x="21600" y="0"/>
                </a:moveTo>
                <a:arcTo wR="21600" hR="8647" stAng="-5400000" swAng="-5400000"/>
                <a:lnTo>
                  <a:pt x="0" y="8647"/>
                </a:lnTo>
                <a:arcTo wR="21600" hR="8647" stAng="10800000" swAng="-171960"/>
                <a:lnTo>
                  <a:pt x="167" y="9720"/>
                </a:lnTo>
                <a:arcTo wR="21600" hR="8647" stAng="-10628040" swAng="5228040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1225440" cy="1152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229680 h 1152720"/>
              <a:gd name="textAreaBottom" fmla="*/ 807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2906680"/>
                <a:lnTo>
                  <a:pt x="7200" y="21107"/>
                </a:lnTo>
                <a:lnTo>
                  <a:pt x="0" y="18335"/>
                </a:lnTo>
                <a:lnTo>
                  <a:pt x="7200" y="14577"/>
                </a:lnTo>
                <a:lnTo>
                  <a:pt x="7200" y="16737"/>
                </a:lnTo>
                <a:arcTo wR="21600" hR="8615" stAng="2906680" swAng="-2729506"/>
                <a:lnTo>
                  <a:pt x="21422" y="9720"/>
                </a:lnTo>
                <a:arcTo wR="21600" hR="8615" stAng="-177174" swAng="-5222826"/>
                <a:close/>
              </a:path>
              <a:path fill="darkenLess"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-177174"/>
                <a:lnTo>
                  <a:pt x="21422" y="9720"/>
                </a:lnTo>
                <a:arcTo wR="21600" hR="8615" stAng="-177174" swAng="-522282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ның ойын дам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кеңес бере отырып, бағыттап оқ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ізденушілік, зерттеушілік жұмыстарын ұйымд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ғылыми, техникалық, кәсіпшілік қызығушылықтырын қалыптастыруға жағдай жасау, бейім таңдауда өз тағдырын өзі шешуге мүмкіндік б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стандартты логикалық операцияларды жылдам  және дұрыс орындау  іскерлігін дам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салмақты ойластырылған шешім қабылдауға,  өзінің және өзгенің  ойлау әрекеттері туралы дұрыс пікір білдіре білу, қарсы оппоненттердің  ой жүгіртулеріндегі қателерді  таб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400" spc="-1" strike="noStrike">
                <a:solidFill>
                  <a:srgbClr val="0000ff"/>
                </a:solidFill>
                <a:latin typeface="Times New Roman"/>
              </a:rPr>
              <a:t>Жоғарыда көрсетілген мақсаттарға  жету үшін келесі міндеттер  қойылады 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800" spc="-1" strike="noStrike">
                <a:solidFill>
                  <a:srgbClr val="0000ff"/>
                </a:solidFill>
                <a:latin typeface="Times New Roman"/>
              </a:rPr>
              <a:t>Курсты оқу барысында күтілетін нәтиже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білуі тиіст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 және софизм  ұғымдары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терден есеп “ қақпандардың ” айырмашылығын түсі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логикалық есептерді шешу тәсілдері: берілгендерді салыстыру, графтар, схемалар және кестелер арқылы, мүмкін варианттарды таңда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істей алуы тиіс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офизм,  парадокс, “ қақпан ” есептерін  анықтай 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шешу барысында софизм, парадокс, «қақпан» есептерінің элементтерін пайдал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логикалық есептерді әртүрлі тәсілдермен шеше бі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үмкін варианттарды графтар, схемалар және кестелер арқылы таң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лған білімдерін практикалық есептерді шығаруда пайдалан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31:23Z</dcterms:created>
  <dc:creator>Customer</dc:creator>
  <dc:description/>
  <dc:language>en-US</dc:language>
  <cp:lastModifiedBy>Customer</cp:lastModifiedBy>
  <dcterms:modified xsi:type="dcterms:W3CDTF">2012-03-01T12:31:03Z</dcterms:modified>
  <cp:revision>6</cp:revision>
  <dc:subject/>
  <dc:title>“ Математикалыќ логика негіздері”  (элективті курс)</dc:title>
</cp:coreProperties>
</file>