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DCF-D06F-44AF-B44C-32063060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AFA-94B4-453F-B1EA-D97AC6F7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D80-F763-43DF-BCC1-EE679F44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73F-1CB3-4407-88EA-DB718124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6082-0FB6-4EA2-B5DF-82BA9392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57B3-902D-4B75-9033-C0BA188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1466-7EA8-4D80-909A-6891A022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319B-E394-42C3-A37F-70456746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E68E-61B7-45DF-9E9B-89B9CEEF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2640-0553-4384-BD0D-C2277102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D20D-1EAC-4383-8FF9-1019B1F0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33D-2FEA-4A23-8E39-3333E738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5ABA-BB3C-45FB-950F-CF38935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2DD0-D0C7-4A70-BAEF-EC6AC5D6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8F16-8EC3-46CD-8B42-56F1C155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E8C0-00D6-4D1C-A400-1F746B87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1B26-4BD0-407F-84C3-7A3CB31D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AF5-AAE8-479C-A2F1-9E1950B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36A-33CB-4B83-83C5-B4D5B476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A92-BFF0-4584-A0BC-3516E354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7B8-B206-45F9-A628-6BFFBD01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5F4-02BA-48ED-B632-B52036CF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0A0-DD31-4F5D-91E6-38C6E65D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FE7-6D98-4351-8224-2A6C2B7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F46F-1A4E-4FBF-A6F4-930D1EB92E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EA28-ECA1-40AC-87FF-702C75E05B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“ </a:t>
            </a: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Математикалық логика негіздері”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Автор: Такишева Айгүл Сырымбет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Тайынша қаласының № 5 орта мектебінің математика пәнінің мұғал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“ </a:t>
            </a: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Математикалық логика негіздері”  элективті курсының  мақсаттары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оқушылардың өзектілік позициясынан  өздеріне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ғылым сфераларында өз тағдырын өзі шешу, өнер техникасында, математикалық логика  курсын оқу барысында бағыт таңдауға саналы түрде дай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білім қызметінің мамандандыру элементтерін еңгізу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да әр алуан пәнаралық байланыс арқылы математика туралы біртұтас ой қалыптастыру, логикалық есептерді шешу әдістері туралы ертерек алған білімдерін бір жүйеге келтіруге мүмкіндік беред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Математикалық логика негіздері ” эликтивті курсын меңгеру позициясынан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ның логикалық мәдениет қалыпт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Бағдарлама модульдік принцип бойынша құрастырылған, бір оймен біріктірілген </a:t>
            </a:r>
            <a:br>
              <a:rPr sz="3400"/>
            </a:br>
            <a:r>
              <a:rPr b="1" lang="kk-KZ" sz="3400" spc="-1" strike="noStrike">
                <a:solidFill>
                  <a:srgbClr val="0000ff"/>
                </a:solidFill>
                <a:latin typeface="Times New Roman"/>
              </a:rPr>
              <a:t>екі блоктан</a:t>
            </a: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 тұра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3357720"/>
            <a:ext cx="38098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Бірінші модуль</a:t>
            </a:r>
            <a:r>
              <a:rPr b="1" lang="kk-KZ" sz="24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“Қызықты есептер, математикалық парадокстер және софизмде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3284640"/>
            <a:ext cx="47880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Екінші модуль: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“Есептердің  шешу барысында математикалық логиканың элементтерін пайдалану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276640"/>
            <a:ext cx="1297080" cy="10792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16000 h 1079280"/>
              <a:gd name="textAreaBottom" fmla="*/ 7552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7" stAng="-5400000" swAng="-5400000"/>
                <a:lnTo>
                  <a:pt x="0" y="10793"/>
                </a:lnTo>
                <a:arcTo wR="21600" hR="8647" stAng="10800000" swAng="-2913005"/>
                <a:lnTo>
                  <a:pt x="14400" y="21105"/>
                </a:lnTo>
                <a:lnTo>
                  <a:pt x="21600" y="18367"/>
                </a:lnTo>
                <a:lnTo>
                  <a:pt x="14400" y="14639"/>
                </a:lnTo>
                <a:lnTo>
                  <a:pt x="14400" y="16799"/>
                </a:lnTo>
                <a:arcTo wR="21600" hR="8647" stAng="7886995" swAng="2741046"/>
                <a:lnTo>
                  <a:pt x="167" y="9720"/>
                </a:lnTo>
                <a:arcTo wR="21600" hR="8647" stAng="-10628040" swAng="5228040"/>
                <a:close/>
              </a:path>
              <a:path fill="darkenLess" w="21600" h="21600">
                <a:moveTo>
                  <a:pt x="21600" y="0"/>
                </a:moveTo>
                <a:arcTo wR="21600" hR="8647" stAng="-5400000" swAng="-5400000"/>
                <a:lnTo>
                  <a:pt x="0" y="8647"/>
                </a:lnTo>
                <a:arcTo wR="21600" hR="8647" stAng="10800000" swAng="-171960"/>
                <a:lnTo>
                  <a:pt x="167" y="9720"/>
                </a:lnTo>
                <a:arcTo wR="21600" hR="8647" stAng="-10628040" swAng="5228040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1225440" cy="1152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229680 h 1152720"/>
              <a:gd name="textAreaBottom" fmla="*/ 80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2906680"/>
                <a:lnTo>
                  <a:pt x="7200" y="21107"/>
                </a:lnTo>
                <a:lnTo>
                  <a:pt x="0" y="18335"/>
                </a:lnTo>
                <a:lnTo>
                  <a:pt x="7200" y="14577"/>
                </a:lnTo>
                <a:lnTo>
                  <a:pt x="7200" y="16737"/>
                </a:lnTo>
                <a:arcTo wR="21600" hR="8615" stAng="2906680" swAng="-2729506"/>
                <a:lnTo>
                  <a:pt x="21422" y="9720"/>
                </a:lnTo>
                <a:arcTo wR="21600" hR="8615" stAng="-177174" swAng="-5222826"/>
                <a:close/>
              </a:path>
              <a:path fill="darkenLess"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-177174"/>
                <a:lnTo>
                  <a:pt x="21422" y="9720"/>
                </a:lnTo>
                <a:arcTo wR="21600" hR="8615" stAng="-177174" swAng="-522282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ның ойын дам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кеңес бере отырып, бағыттап оқ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ізденушілік, зерттеушілік жұмыстарын ұйымд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ғылыми, техникалық, кәсіпшілік қызығушылықтырын қалыптастыруға жағдай жасау, бейім таңдауда өз тағдырын өзі шешуге мүмкіндік б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стандартты логикалық операцияларды жылдам  және дұрыс орындау  іскерлігін дам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салмақты ойластырылған шешім қабылдауға,  өзінің және өзгенің  ойлау әрекеттері туралы дұрыс пікір білдіре білу, қарсы оппоненттердің  ой жүгіртулеріндегі қателерді  таб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400" spc="-1" strike="noStrike">
                <a:solidFill>
                  <a:srgbClr val="0000ff"/>
                </a:solidFill>
                <a:latin typeface="Times New Roman"/>
              </a:rPr>
              <a:t>Жоғарыда көрсетілген мақсаттарға  жету үшін келесі міндеттер  қойылады 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800" spc="-1" strike="noStrike">
                <a:solidFill>
                  <a:srgbClr val="0000ff"/>
                </a:solidFill>
                <a:latin typeface="Times New Roman"/>
              </a:rPr>
              <a:t>Курсты оқу барысында күтілетін нәтиже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білуі тиіст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 және софизм  ұғымдары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терден есеп “ қақпандардың ” айырмашылығын түсі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логикалық есептерді шешу тәсілдері: берілгендерді салыстыру, графтар, схемалар және кестелер арқылы, мүмкін варианттарды таңда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істей алуы тиіс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офизм,  парадокс, “ қақпан ” есептерін  анықтай 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шешу барысында софизм, парадокс, «қақпан» есептерінің элементтерін пайдал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логикалық есептерді әртүрлі тәсілдермен шеше бі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үмкін варианттарды графтар, схемалар және кестелер арқылы таң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лған білімдерін практикалық есептерді шығаруда пайдалан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31:23Z</dcterms:created>
  <dc:creator>Customer</dc:creator>
  <dc:description/>
  <dc:language>en-US</dc:language>
  <cp:lastModifiedBy>Customer</cp:lastModifiedBy>
  <dcterms:modified xsi:type="dcterms:W3CDTF">2012-03-01T12:31:03Z</dcterms:modified>
  <cp:revision>6</cp:revision>
  <dc:subject/>
  <dc:title>“ Математикалыќ логика негіздері”  (элективті курс)</dc:title>
</cp:coreProperties>
</file>