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B06-74A0-422F-9A6C-F04F46AB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3AC-0976-40AF-AB21-0CEDC35F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D650-338B-4A6E-9FFD-DADB4B79C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56B-8F26-4322-A7B6-34A0DB7B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C44A-5510-4FD3-8C6D-92C8CE81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F834-1BB3-407B-B4EE-636EF4E5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E47C-0331-4819-889B-2BFC9866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12C5-B21A-4F83-8D31-23A94B6C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5747-3C97-49CB-9095-2E652030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DE6B-2998-481F-B03E-2887AC21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F46D-6B73-42ED-A6D0-2D42DB34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C9D3-905D-40A5-BEFB-821DF742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302E-209A-4B1A-8AD3-55924F90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59A5-6F7A-4E4E-B640-60F88B4A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5CCD-08DD-4A21-9F82-2743DCA9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CCA1-2834-4CE8-BCDD-FF6B8B34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552E-0350-4519-8D7E-AA810DCD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789-C813-4EDB-B116-72F54E07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B5A-DCFC-412C-BE64-39345C85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924-34D1-4FE6-AAE6-D0107882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B33-01F3-420F-8615-EDD99FA3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A97-2499-4BC5-9D93-16437B66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CF1C-9D4E-4E69-863D-FA0E9C05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0CD-4B4D-4B95-A146-2EF7CE44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E306-D153-47A0-A4B0-14F5C51B60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E502-5604-4C42-B907-2FA8BBD547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ff"/>
                </a:solidFill>
                <a:latin typeface="Times New Roman"/>
              </a:rPr>
              <a:t>“ </a:t>
            </a:r>
            <a:r>
              <a:rPr b="1" lang="kk-KZ" sz="4800" spc="-1" strike="noStrike">
                <a:solidFill>
                  <a:srgbClr val="0000ff"/>
                </a:solidFill>
                <a:latin typeface="Times New Roman"/>
              </a:rPr>
              <a:t>Математикалық логика негіздері”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Arial"/>
              </a:rPr>
              <a:t>Автор: Такишева Айгүл Сырымбетқы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ff"/>
                </a:solidFill>
                <a:latin typeface="Arial"/>
              </a:rPr>
              <a:t>Тайынша қаласының № 5 орта мектебінің математика пәнінің мұғалім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400" spc="-1" strike="noStrike">
                <a:solidFill>
                  <a:srgbClr val="330033"/>
                </a:solidFill>
                <a:latin typeface="Times New Roman"/>
              </a:rPr>
              <a:t>“ </a:t>
            </a:r>
            <a:r>
              <a:rPr b="1" lang="kk-KZ" sz="3400" spc="-1" strike="noStrike">
                <a:solidFill>
                  <a:srgbClr val="330033"/>
                </a:solidFill>
                <a:latin typeface="Times New Roman"/>
              </a:rPr>
              <a:t>Математикалық логика негіздері”  элективті курсының  мақсаттары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60436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ff"/>
                </a:solidFill>
                <a:latin typeface="Arial"/>
              </a:rPr>
              <a:t>оқушылардың өзектілік позициясынан  өздеріне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ғылым сфераларында өз тағдырын өзі шешу, өнер техникасында, математикалық логика  курсын оқу барысында бағыт таңдауға саналы түрде дайында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0000ff"/>
                </a:solidFill>
                <a:latin typeface="Arial"/>
              </a:rPr>
              <a:t>білім қызметінің мамандандыру элементтерін еңгізу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оқушыда әр алуан пәнаралық байланыс арқылы математика туралы біртұтас ой қалыптастыру, логикалық есептерді шешу әдістері туралы ертерек алған білімдерін бір жүйеге келтіруге мүмкіндік беред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ff"/>
                </a:solidFill>
                <a:latin typeface="Arial"/>
              </a:rPr>
              <a:t>“ </a:t>
            </a:r>
            <a:r>
              <a:rPr b="0" lang="kk-KZ" sz="2800" spc="-1" strike="noStrike">
                <a:solidFill>
                  <a:srgbClr val="0000ff"/>
                </a:solidFill>
                <a:latin typeface="Arial"/>
              </a:rPr>
              <a:t>Математикалық логика негіздері ” эликтивті курсын меңгеру позициясынан: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оқушының логикалық мәдениет қалыптас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400" spc="-1" strike="noStrike">
                <a:solidFill>
                  <a:srgbClr val="0000ff"/>
                </a:solidFill>
                <a:latin typeface="Times New Roman"/>
              </a:rPr>
              <a:t>Бағдарлама модульдік принцип бойынша құрастырылған, бір оймен біріктірілген </a:t>
            </a:r>
            <a:br>
              <a:rPr sz="3400"/>
            </a:br>
            <a:r>
              <a:rPr b="1" lang="kk-KZ" sz="3400" spc="-1" strike="noStrike">
                <a:solidFill>
                  <a:srgbClr val="0000ff"/>
                </a:solidFill>
                <a:latin typeface="Times New Roman"/>
              </a:rPr>
              <a:t>екі блоктан</a:t>
            </a:r>
            <a:r>
              <a:rPr b="0" lang="kk-KZ" sz="3400" spc="-1" strike="noStrike">
                <a:solidFill>
                  <a:srgbClr val="0000ff"/>
                </a:solidFill>
                <a:latin typeface="Times New Roman"/>
              </a:rPr>
              <a:t> тұрады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3357720"/>
            <a:ext cx="380988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ff0000"/>
                </a:solidFill>
                <a:uFillTx/>
                <a:latin typeface="Arial"/>
              </a:rPr>
              <a:t>Бірінші модуль</a:t>
            </a:r>
            <a:r>
              <a:rPr b="1" lang="kk-KZ" sz="24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 “Қызықты есептер, математикалық парадокстер және софизмдер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56000" y="3284640"/>
            <a:ext cx="47880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 u="sng">
                <a:solidFill>
                  <a:srgbClr val="ff0000"/>
                </a:solidFill>
                <a:uFillTx/>
                <a:latin typeface="Arial"/>
              </a:rPr>
              <a:t>Екінші модуль: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“Есептердің  шешу барысында математикалық логиканың элементтерін пайдалану 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2276640"/>
            <a:ext cx="1297080" cy="1079280"/>
          </a:xfrm>
          <a:custGeom>
            <a:avLst/>
            <a:gdLst>
              <a:gd name="textAreaLeft" fmla="*/ 173520 w 1297080"/>
              <a:gd name="textAreaRight" fmla="*/ 1123560 w 1297080"/>
              <a:gd name="textAreaTop" fmla="*/ 216000 h 1079280"/>
              <a:gd name="textAreaBottom" fmla="*/ 75528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7" stAng="-5400000" swAng="-5400000"/>
                <a:lnTo>
                  <a:pt x="0" y="10793"/>
                </a:lnTo>
                <a:arcTo wR="21600" hR="8647" stAng="10800000" swAng="-2913005"/>
                <a:lnTo>
                  <a:pt x="14400" y="21105"/>
                </a:lnTo>
                <a:lnTo>
                  <a:pt x="21600" y="18367"/>
                </a:lnTo>
                <a:lnTo>
                  <a:pt x="14400" y="14639"/>
                </a:lnTo>
                <a:lnTo>
                  <a:pt x="14400" y="16799"/>
                </a:lnTo>
                <a:arcTo wR="21600" hR="8647" stAng="7886995" swAng="2741046"/>
                <a:lnTo>
                  <a:pt x="167" y="9720"/>
                </a:lnTo>
                <a:arcTo wR="21600" hR="8647" stAng="-10628040" swAng="5228040"/>
                <a:close/>
              </a:path>
              <a:path fill="darkenLess" w="21600" h="21600">
                <a:moveTo>
                  <a:pt x="21600" y="0"/>
                </a:moveTo>
                <a:arcTo wR="21600" hR="8647" stAng="-5400000" swAng="-5400000"/>
                <a:lnTo>
                  <a:pt x="0" y="8647"/>
                </a:lnTo>
                <a:arcTo wR="21600" hR="8647" stAng="10800000" swAng="-171960"/>
                <a:lnTo>
                  <a:pt x="167" y="9720"/>
                </a:lnTo>
                <a:arcTo wR="21600" hR="8647" stAng="-10628040" swAng="5228040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59640" y="2205000"/>
            <a:ext cx="1225440" cy="1152720"/>
          </a:xfrm>
          <a:custGeom>
            <a:avLst/>
            <a:gdLst>
              <a:gd name="textAreaLeft" fmla="*/ 164160 w 1225440"/>
              <a:gd name="textAreaRight" fmla="*/ 1061280 w 1225440"/>
              <a:gd name="textAreaTop" fmla="*/ 229680 h 1152720"/>
              <a:gd name="textAreaBottom" fmla="*/ 8074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15" stAng="-5400000" swAng="5400000"/>
                <a:lnTo>
                  <a:pt x="21600" y="10825"/>
                </a:lnTo>
                <a:arcTo wR="21600" hR="8615" stAng="0" swAng="2906680"/>
                <a:lnTo>
                  <a:pt x="7200" y="21107"/>
                </a:lnTo>
                <a:lnTo>
                  <a:pt x="0" y="18335"/>
                </a:lnTo>
                <a:lnTo>
                  <a:pt x="7200" y="14577"/>
                </a:lnTo>
                <a:lnTo>
                  <a:pt x="7200" y="16737"/>
                </a:lnTo>
                <a:arcTo wR="21600" hR="8615" stAng="2906680" swAng="-2729506"/>
                <a:lnTo>
                  <a:pt x="21422" y="9720"/>
                </a:lnTo>
                <a:arcTo wR="21600" hR="8615" stAng="-177174" swAng="-5222826"/>
                <a:close/>
              </a:path>
              <a:path fill="darkenLess" w="21600" h="21600">
                <a:moveTo>
                  <a:pt x="0" y="0"/>
                </a:moveTo>
                <a:arcTo wR="21600" hR="8615" stAng="-5400000" swAng="5400000"/>
                <a:lnTo>
                  <a:pt x="21600" y="10825"/>
                </a:lnTo>
                <a:arcTo wR="21600" hR="8615" stAng="0" swAng="-177174"/>
                <a:lnTo>
                  <a:pt x="21422" y="9720"/>
                </a:lnTo>
                <a:arcTo wR="21600" hR="8615" stAng="-177174" swAng="-5222826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280" y="1599840"/>
            <a:ext cx="8604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ның ойын дамы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кеңес бере отырып, бағыттап оқы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ізденушілік, зерттеушілік жұмыстарын ұйымдасты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 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лардың ғылыми, техникалық, кәсіпшілік қызығушылықтырын қалыптастыруға жағдай жасау, бейім таңдауда өз тағдырын өзі шешуге мүмкіндік бер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  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оқушылардың стандартты логикалық операцияларды жылдам  және дұрыс орындау  іскерлігін дамы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Kartika"/>
              </a:rPr>
              <a:t>салмақты ойластырылған шешім қабылдауға,  өзінің және өзгенің  ойлау әрекеттері туралы дұрыс пікір білдіре білу, қарсы оппоненттердің  ой жүгіртулеріндегі қателерді  таба бі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400" spc="-1" strike="noStrike">
                <a:solidFill>
                  <a:srgbClr val="0000ff"/>
                </a:solidFill>
                <a:latin typeface="Times New Roman"/>
              </a:rPr>
              <a:t>Жоғарыда көрсетілген мақсаттарға  жету үшін келесі міндеттер  қойылады 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800" spc="-1" strike="noStrike">
                <a:solidFill>
                  <a:srgbClr val="0000ff"/>
                </a:solidFill>
                <a:latin typeface="Times New Roman"/>
              </a:rPr>
              <a:t>Курсты оқу барысында күтілетін нәтижелер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ff0000"/>
                </a:solidFill>
                <a:uFillTx/>
                <a:latin typeface="Arial"/>
              </a:rPr>
              <a:t>Курсты оқу нәтижесінде оқушылар білуі тиіст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парадокс және софизм  ұғымдары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парадокстерден есеп “ қақпандардың ” айырмашылығын түсі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логикалық есептерді шешу тәсілдері: берілгендерді салыстыру, графтар, схемалар және кестелер арқылы, мүмкін варианттарды таңда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 u="sng">
                <a:solidFill>
                  <a:srgbClr val="ff0000"/>
                </a:solidFill>
                <a:uFillTx/>
                <a:latin typeface="Arial"/>
              </a:rPr>
              <a:t>Курсты оқу нәтижесінде оқушылар істей алуы тиіс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софизм,  парадокс, “ қақпан ” есептерін  анықтай а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шешу барысында софизм, парадокс, «қақпан» есептерінің элементтерін пайдала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логикалық есептерді әртүрлі тәсілдермен шеше бі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мүмкін варианттарды графтар, схемалар және кестелер арқылы таңд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алған білімдерін практикалық есептерді шығаруда пайдалана бі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9:31:23Z</dcterms:created>
  <dc:creator>Customer</dc:creator>
  <dc:description/>
  <dc:language>en-US</dc:language>
  <cp:lastModifiedBy>Customer</cp:lastModifiedBy>
  <dcterms:modified xsi:type="dcterms:W3CDTF">2012-03-01T12:31:03Z</dcterms:modified>
  <cp:revision>6</cp:revision>
  <dc:subject/>
  <dc:title>“ Математикалыќ логика негіздері”  (элективті курс)</dc:title>
</cp:coreProperties>
</file>