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BB5-5443-4CE0-9196-C68D7616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9AA-CACA-4DC6-92F8-C714F5A4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37C-A14A-4C34-8C1B-4F23B38C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89F-D6D5-419A-86C8-233720C5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3122-16AD-42F5-942E-66599AEE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67C3-B30F-4306-B01C-99E25AED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EA09-BFBC-450F-B1D9-69DD9CC9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DA78-7A83-43D7-B8CE-70ADBDC1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BDA1-91FC-4655-8882-804FA906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E877-AD2C-45E6-BEC0-B61947E2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4FF8-5709-4C23-8E57-38DA8B89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542F-381C-408D-8FDF-9DBA75BF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6811-2848-46BE-B1C9-6868CD92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0744-2086-4B50-A1F3-FB499CBA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E2F5-9D79-4737-9894-5A0EC914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5230-1B6C-4174-B4F7-91C68F26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A4B3-5C3E-4A1D-A5AE-C8D43E38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4A48-4ADA-44E9-96ED-A9684A9E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35C-5583-490F-B216-5DC91575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5808-3290-4C3E-9402-7F4F54CA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F56-2E9E-483B-A38B-789E39BD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CF6-1E9E-4A25-AE8B-BE2A3712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C60-9E3F-40D8-8F53-38627F8B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877-F50B-4916-B30E-4AA6DBDC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C7F7-A771-4263-8B7F-55D2D8725C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A0E3-CE3C-4ED5-9B12-FADD0B5A65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ff"/>
                </a:solidFill>
                <a:latin typeface="Times New Roman"/>
              </a:rPr>
              <a:t>“ </a:t>
            </a:r>
            <a:r>
              <a:rPr b="1" lang="kk-KZ" sz="4800" spc="-1" strike="noStrike">
                <a:solidFill>
                  <a:srgbClr val="0000ff"/>
                </a:solidFill>
                <a:latin typeface="Times New Roman"/>
              </a:rPr>
              <a:t>Математикалық логика негіздері”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Arial"/>
              </a:rPr>
              <a:t>Автор: Такишева Айгүл Сырымбетқы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Arial"/>
              </a:rPr>
              <a:t>Тайынша қаласының № 5 орта мектебінің математика пәнінің мұғалім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400" spc="-1" strike="noStrike">
                <a:solidFill>
                  <a:srgbClr val="330033"/>
                </a:solidFill>
                <a:latin typeface="Times New Roman"/>
              </a:rPr>
              <a:t>“ </a:t>
            </a:r>
            <a:r>
              <a:rPr b="1" lang="kk-KZ" sz="3400" spc="-1" strike="noStrike">
                <a:solidFill>
                  <a:srgbClr val="330033"/>
                </a:solidFill>
                <a:latin typeface="Times New Roman"/>
              </a:rPr>
              <a:t>Математикалық логика негіздері”  элективті курсының  мақсаттары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60436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ff"/>
                </a:solidFill>
                <a:latin typeface="Arial"/>
              </a:rPr>
              <a:t>оқушылардың өзектілік позициясынан  өздеріне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ғылым сфераларында өз тағдырын өзі шешу, өнер техникасында, математикалық логика  курсын оқу барысында бағыт таңдауға саналы түрде дайынд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ff"/>
                </a:solidFill>
                <a:latin typeface="Arial"/>
              </a:rPr>
              <a:t>білім қызметінің мамандандыру элементтерін еңгізу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оқушыда әр алуан пәнаралық байланыс арқылы математика туралы біртұтас ой қалыптастыру, логикалық есептерді шешу әдістері туралы ертерек алған білімдерін бір жүйеге келтіруге мүмкіндік беред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ff"/>
                </a:solidFill>
                <a:latin typeface="Arial"/>
              </a:rPr>
              <a:t>“ </a:t>
            </a:r>
            <a:r>
              <a:rPr b="0" lang="kk-KZ" sz="2800" spc="-1" strike="noStrike">
                <a:solidFill>
                  <a:srgbClr val="0000ff"/>
                </a:solidFill>
                <a:latin typeface="Arial"/>
              </a:rPr>
              <a:t>Математикалық логика негіздері ” эликтивті курсын меңгеру позициясынан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оқушының логикалық мәдениет қалыптас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0000ff"/>
                </a:solidFill>
                <a:latin typeface="Times New Roman"/>
              </a:rPr>
              <a:t>Бағдарлама модульдік принцип бойынша құрастырылған, бір оймен біріктірілген </a:t>
            </a:r>
            <a:br>
              <a:rPr sz="3400"/>
            </a:br>
            <a:r>
              <a:rPr b="1" lang="kk-KZ" sz="3400" spc="-1" strike="noStrike">
                <a:solidFill>
                  <a:srgbClr val="0000ff"/>
                </a:solidFill>
                <a:latin typeface="Times New Roman"/>
              </a:rPr>
              <a:t>екі блоктан</a:t>
            </a:r>
            <a:r>
              <a:rPr b="0" lang="kk-KZ" sz="3400" spc="-1" strike="noStrike">
                <a:solidFill>
                  <a:srgbClr val="0000ff"/>
                </a:solidFill>
                <a:latin typeface="Times New Roman"/>
              </a:rPr>
              <a:t> тұрады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3357720"/>
            <a:ext cx="380988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ff0000"/>
                </a:solidFill>
                <a:uFillTx/>
                <a:latin typeface="Arial"/>
              </a:rPr>
              <a:t>Бірінші модуль</a:t>
            </a:r>
            <a:r>
              <a:rPr b="1" lang="kk-KZ" sz="24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 “Қызықты есептер, математикалық парадокстер және софизмдер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56000" y="3284640"/>
            <a:ext cx="47880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ff0000"/>
                </a:solidFill>
                <a:uFillTx/>
                <a:latin typeface="Arial"/>
              </a:rPr>
              <a:t>Екінші модуль: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“Есептердің  шешу барысында математикалық логиканың элементтерін пайдалану 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2276640"/>
            <a:ext cx="1297080" cy="1079280"/>
          </a:xfrm>
          <a:custGeom>
            <a:avLst/>
            <a:gdLst>
              <a:gd name="textAreaLeft" fmla="*/ 173520 w 1297080"/>
              <a:gd name="textAreaRight" fmla="*/ 1123560 w 1297080"/>
              <a:gd name="textAreaTop" fmla="*/ 216000 h 1079280"/>
              <a:gd name="textAreaBottom" fmla="*/ 75528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7" stAng="-5400000" swAng="-5400000"/>
                <a:lnTo>
                  <a:pt x="0" y="10793"/>
                </a:lnTo>
                <a:arcTo wR="21600" hR="8647" stAng="10800000" swAng="-2913005"/>
                <a:lnTo>
                  <a:pt x="14400" y="21105"/>
                </a:lnTo>
                <a:lnTo>
                  <a:pt x="21600" y="18367"/>
                </a:lnTo>
                <a:lnTo>
                  <a:pt x="14400" y="14639"/>
                </a:lnTo>
                <a:lnTo>
                  <a:pt x="14400" y="16799"/>
                </a:lnTo>
                <a:arcTo wR="21600" hR="8647" stAng="7886995" swAng="2741046"/>
                <a:lnTo>
                  <a:pt x="167" y="9720"/>
                </a:lnTo>
                <a:arcTo wR="21600" hR="8647" stAng="-10628040" swAng="5228040"/>
                <a:close/>
              </a:path>
              <a:path fill="darkenLess" w="21600" h="21600">
                <a:moveTo>
                  <a:pt x="21600" y="0"/>
                </a:moveTo>
                <a:arcTo wR="21600" hR="8647" stAng="-5400000" swAng="-5400000"/>
                <a:lnTo>
                  <a:pt x="0" y="8647"/>
                </a:lnTo>
                <a:arcTo wR="21600" hR="8647" stAng="10800000" swAng="-171960"/>
                <a:lnTo>
                  <a:pt x="167" y="9720"/>
                </a:lnTo>
                <a:arcTo wR="21600" hR="8647" stAng="-10628040" swAng="5228040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59640" y="2205000"/>
            <a:ext cx="1225440" cy="1152720"/>
          </a:xfrm>
          <a:custGeom>
            <a:avLst/>
            <a:gdLst>
              <a:gd name="textAreaLeft" fmla="*/ 164160 w 1225440"/>
              <a:gd name="textAreaRight" fmla="*/ 1061280 w 1225440"/>
              <a:gd name="textAreaTop" fmla="*/ 229680 h 1152720"/>
              <a:gd name="textAreaBottom" fmla="*/ 807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15" stAng="-5400000" swAng="5400000"/>
                <a:lnTo>
                  <a:pt x="21600" y="10825"/>
                </a:lnTo>
                <a:arcTo wR="21600" hR="8615" stAng="0" swAng="2906680"/>
                <a:lnTo>
                  <a:pt x="7200" y="21107"/>
                </a:lnTo>
                <a:lnTo>
                  <a:pt x="0" y="18335"/>
                </a:lnTo>
                <a:lnTo>
                  <a:pt x="7200" y="14577"/>
                </a:lnTo>
                <a:lnTo>
                  <a:pt x="7200" y="16737"/>
                </a:lnTo>
                <a:arcTo wR="21600" hR="8615" stAng="2906680" swAng="-2729506"/>
                <a:lnTo>
                  <a:pt x="21422" y="9720"/>
                </a:lnTo>
                <a:arcTo wR="21600" hR="8615" stAng="-177174" swAng="-5222826"/>
                <a:close/>
              </a:path>
              <a:path fill="darkenLess" w="21600" h="21600">
                <a:moveTo>
                  <a:pt x="0" y="0"/>
                </a:moveTo>
                <a:arcTo wR="21600" hR="8615" stAng="-5400000" swAng="5400000"/>
                <a:lnTo>
                  <a:pt x="21600" y="10825"/>
                </a:lnTo>
                <a:arcTo wR="21600" hR="8615" stAng="0" swAng="-177174"/>
                <a:lnTo>
                  <a:pt x="21422" y="9720"/>
                </a:lnTo>
                <a:arcTo wR="21600" hR="8615" stAng="-177174" swAng="-5222826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280" y="1599840"/>
            <a:ext cx="8604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ның ойын дамы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кеңес бере отырып, бағыттап оқы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ізденушілік, зерттеушілік жұмыстарын ұйымдасты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 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лардың ғылыми, техникалық, кәсіпшілік қызығушылықтырын қалыптастыруға жағдай жасау, бейім таңдауда өз тағдырын өзі шешуге мүмкіндік бе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  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лардың стандартты логикалық операцияларды жылдам  және дұрыс орындау  іскерлігін дамы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салмақты ойластырылған шешім қабылдауға,  өзінің және өзгенің  ойлау әрекеттері туралы дұрыс пікір білдіре білу, қарсы оппоненттердің  ой жүгіртулеріндегі қателерді  таба бі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400" spc="-1" strike="noStrike">
                <a:solidFill>
                  <a:srgbClr val="0000ff"/>
                </a:solidFill>
                <a:latin typeface="Times New Roman"/>
              </a:rPr>
              <a:t>Жоғарыда көрсетілген мақсаттарға  жету үшін келесі міндеттер  қойылады 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800" spc="-1" strike="noStrike">
                <a:solidFill>
                  <a:srgbClr val="0000ff"/>
                </a:solidFill>
                <a:latin typeface="Times New Roman"/>
              </a:rPr>
              <a:t>Курсты оқу барысында күтілетін нәтижелер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ff0000"/>
                </a:solidFill>
                <a:uFillTx/>
                <a:latin typeface="Arial"/>
              </a:rPr>
              <a:t>Курсты оқу нәтижесінде оқушылар білуі тиіст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парадокс және софизм  ұғымдары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парадокстерден есеп “ қақпандардың ” айырмашылығын түсі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логикалық есептерді шешу тәсілдері: берілгендерді салыстыру, графтар, схемалар және кестелер арқылы, мүмкін варианттарды таңда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ff0000"/>
                </a:solidFill>
                <a:uFillTx/>
                <a:latin typeface="Arial"/>
              </a:rPr>
              <a:t>Курсты оқу нәтижесінде оқушылар істей алуы тиіс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софизм,  парадокс, “ қақпан ” есептерін  анықтай 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шешу барысында софизм, парадокс, «қақпан» есептерінің элементтерін пайдала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логикалық есептерді әртүрлі тәсілдермен шеше бі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мүмкін варианттарды графтар, схемалар және кестелер арқылы таңд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лған білімдерін практикалық есептерді шығаруда пайдалана бі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9:31:23Z</dcterms:created>
  <dc:creator>Customer</dc:creator>
  <dc:description/>
  <dc:language>en-US</dc:language>
  <cp:lastModifiedBy>Customer</cp:lastModifiedBy>
  <dcterms:modified xsi:type="dcterms:W3CDTF">2012-03-01T12:31:03Z</dcterms:modified>
  <cp:revision>6</cp:revision>
  <dc:subject/>
  <dc:title>“ Математикалыќ логика негіздері”  (элективті курс)</dc:title>
</cp:coreProperties>
</file>