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044-9D01-4501-A30C-A982791B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1FF-553D-4768-9302-C26A1AC0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944-B731-4F11-94EC-D6648FB0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43F-522D-4F7B-AD2E-E5145C51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A568-E528-447A-825D-A6575724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52B1-B5A3-4A31-9A0B-4BD9CC16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0F5C-5839-4BB2-8120-07D6E2A2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EE6F-D433-40BE-BFF5-AF07A069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C42B-AE84-45C8-A284-59CCCB59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70B6-1941-410B-B330-143D068A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67F8-7442-43A5-A9F6-43F59AE5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E06-14E1-495A-9EC8-17BC7607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8191-E37E-45BD-885E-79212C32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966A-F487-418F-B73C-391756A0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09AB-EE30-47EA-9B43-A9C9E09E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7411-4C17-4E2E-95D3-562FECA7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09EB-B6ED-44E8-8266-64056D54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D67-24FD-42A9-B44A-4E3A9276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A11-25C1-42BF-B628-0CC787F3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549-0E8A-43A5-A823-79AB7012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276-C4E8-4D7F-9110-7F019690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E11-B703-4006-9462-22ECBE61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649-D5A0-4106-A09B-6F6B195A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DCF-6649-4887-96DA-0491C1F9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167A-4551-4A5B-87CC-026B0F820F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5160" y="2772360"/>
                <a:ext cx="2101320" cy="2151720"/>
                <a:chOff x="155160" y="2772360"/>
                <a:chExt cx="2101320" cy="215172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400"/>
                  <a:ext cx="1627200" cy="149364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1240" y="3727080"/>
                  <a:ext cx="366480" cy="109656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160" y="339840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480" y="3358800"/>
                  <a:ext cx="885600" cy="85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320" y="3656520"/>
                  <a:ext cx="527040" cy="520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D24E-9923-4F28-9983-59265EB26154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572"/>
                </a:solidFill>
                <a:latin typeface="Arial Narrow"/>
              </a:rPr>
              <a:t>Экономика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856880" y="3785760"/>
            <a:ext cx="6767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1. Экономика түсінігі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2. А. Маслоу пирамидас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3. Өндіріс және өндіріс факторлар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4214880" y="6143760"/>
            <a:ext cx="676728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33"/>
                </a:solidFill>
                <a:latin typeface="Arial Narrow"/>
              </a:rPr>
              <a:t>Орында:ан7 Акпаева А.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5db6deb2fe"/>
          <p:cNvPicPr/>
          <p:nvPr/>
        </p:nvPicPr>
        <p:blipFill>
          <a:blip r:embed="rId1"/>
          <a:stretch/>
        </p:blipFill>
        <p:spPr>
          <a:xfrm>
            <a:off x="3564000" y="907920"/>
            <a:ext cx="5184720" cy="4249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7572"/>
                </a:solidFill>
                <a:latin typeface="Arial Narrow"/>
              </a:rPr>
              <a:t>Экономика  түсінігі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гректің «oikonomos» — «жеке шаруашылықты/үй шаруашылығын басқаратын тұлға» деген сөзінен шыққан. Бұл сөзді ең алғаш Аристотель өз еңбектерінде қолданған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ұқтаждықтар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бұл адамдардың белгілі бір пайдалылығы бар игіліктерді иелену мен пайдалануға деген ынталылығы. </a:t>
            </a:r>
            <a:r>
              <a:rPr b="0" lang="kk-KZ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Мұқтаждықтар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қанағаттандыратын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құралдар </a:t>
            </a:r>
            <a:r>
              <a:rPr b="0" i="1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игіліктер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болып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ылады. Бір игіліктер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сіз мөлшерде бола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ысалы, ауа), ал екіншісі -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лі (мұнай, көмір,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 с. с). Соңғылары </a:t>
            </a:r>
            <a:r>
              <a:rPr b="0" i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лық игіліктер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п аталады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Diagram 5"/>
          <p:cNvGrpSpPr/>
          <p:nvPr/>
        </p:nvGrpSpPr>
        <p:grpSpPr>
          <a:xfrm>
            <a:off x="51120" y="951120"/>
            <a:ext cx="8860680" cy="5746320"/>
            <a:chOff x="51120" y="951120"/>
            <a:chExt cx="8860680" cy="5746320"/>
          </a:xfrm>
        </p:grpSpPr>
        <p:sp>
          <p:nvSpPr>
            <p:cNvPr id="282" name="_s1028"/>
            <p:cNvSpPr/>
            <p:nvPr/>
          </p:nvSpPr>
          <p:spPr>
            <a:xfrm flipV="1">
              <a:off x="3594240" y="950400"/>
              <a:ext cx="1774080" cy="1148040"/>
            </a:xfrm>
            <a:custGeom>
              <a:avLst/>
              <a:gdLst>
                <a:gd name="textAreaLeft" fmla="*/ 636480 w 1774080"/>
                <a:gd name="textAreaRight" fmla="*/ 1137600 w 1774080"/>
                <a:gd name="textAreaTop" fmla="*/ 411840 h 1148040"/>
                <a:gd name="textAreaBottom" fmla="*/ 73620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Өзін-өзі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тану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_s1029"/>
            <p:cNvSpPr/>
            <p:nvPr/>
          </p:nvSpPr>
          <p:spPr>
            <a:xfrm flipV="1">
              <a:off x="2710080" y="2099160"/>
              <a:ext cx="3542400" cy="1150560"/>
            </a:xfrm>
            <a:custGeom>
              <a:avLst/>
              <a:gdLst>
                <a:gd name="textAreaLeft" fmla="*/ 779040 w 3542400"/>
                <a:gd name="textAreaRight" fmla="*/ 2763360 w 3542400"/>
                <a:gd name="textAreaTop" fmla="*/ 253080 h 1150560"/>
                <a:gd name="textAreaBottom" fmla="*/ 897480 h 11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Сыйластық қажеттілігі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(өзін-өзі сыйлау, мәртебе) 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_s1030"/>
            <p:cNvSpPr/>
            <p:nvPr/>
          </p:nvSpPr>
          <p:spPr>
            <a:xfrm flipV="1">
              <a:off x="1822320" y="3250440"/>
              <a:ext cx="5317920" cy="1272960"/>
            </a:xfrm>
            <a:custGeom>
              <a:avLst/>
              <a:gdLst>
                <a:gd name="textAreaLeft" fmla="*/ 923040 w 5317920"/>
                <a:gd name="textAreaRight" fmla="*/ 4394880 w 5317920"/>
                <a:gd name="textAreaTop" fmla="*/ 221040 h 1272960"/>
                <a:gd name="textAreaBottom" fmla="*/ 1051920 h 127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Әлеуметтік қажеттіліктер 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(сүйіспеншілдік, рухани жақындық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сезім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_s1031"/>
            <p:cNvSpPr/>
            <p:nvPr/>
          </p:nvSpPr>
          <p:spPr>
            <a:xfrm flipV="1">
              <a:off x="957240" y="4523400"/>
              <a:ext cx="7086240" cy="1001520"/>
            </a:xfrm>
            <a:custGeom>
              <a:avLst/>
              <a:gdLst>
                <a:gd name="textAreaLeft" fmla="*/ 1065960 w 7086240"/>
                <a:gd name="textAreaRight" fmla="*/ 6020280 w 7086240"/>
                <a:gd name="textAreaTop" fmla="*/ 150480 h 1001520"/>
                <a:gd name="textAreaBottom" fmla="*/ 851040 h 10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Өзін-өзі сақтау қажеттілігі (қауіпсіздік, қорғал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_s1032"/>
            <p:cNvSpPr/>
            <p:nvPr/>
          </p:nvSpPr>
          <p:spPr>
            <a:xfrm flipV="1">
              <a:off x="51120" y="5548680"/>
              <a:ext cx="8860680" cy="1148040"/>
            </a:xfrm>
            <a:custGeom>
              <a:avLst/>
              <a:gdLst>
                <a:gd name="textAreaLeft" fmla="*/ 1209960 w 8860680"/>
                <a:gd name="textAreaRight" fmla="*/ 7650720 w 8860680"/>
                <a:gd name="textAreaTop" fmla="*/ 156600 h 1148040"/>
                <a:gd name="textAreaBottom" fmla="*/ 99144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Физиологиялық қажеттіліктер (аштық, шөлде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88640" y="189000"/>
            <a:ext cx="8055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Arial Narrow"/>
              </a:rPr>
              <a:t>А. Маслоудың қажеттіліктер пирамидасы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838080" y="20574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AutoShape 207"/>
          <p:cNvSpPr/>
          <p:nvPr/>
        </p:nvSpPr>
        <p:spPr>
          <a:xfrm>
            <a:off x="2916360" y="765000"/>
            <a:ext cx="3456000" cy="1584360"/>
          </a:xfrm>
          <a:prstGeom prst="bevel">
            <a:avLst>
              <a:gd name="adj" fmla="val 125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Өндіріс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факторлар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AutoShape 208"/>
          <p:cNvSpPr/>
          <p:nvPr/>
        </p:nvSpPr>
        <p:spPr>
          <a:xfrm>
            <a:off x="324000" y="2997360"/>
            <a:ext cx="2089080" cy="1079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Жер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AutoShape 209"/>
          <p:cNvSpPr/>
          <p:nvPr/>
        </p:nvSpPr>
        <p:spPr>
          <a:xfrm>
            <a:off x="6443640" y="3141720"/>
            <a:ext cx="1943280" cy="115092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Еңбек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AutoShape 212"/>
          <p:cNvSpPr/>
          <p:nvPr/>
        </p:nvSpPr>
        <p:spPr>
          <a:xfrm>
            <a:off x="2050920" y="4365720"/>
            <a:ext cx="2881440" cy="122400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әсіпкерлі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AutoShape 213"/>
          <p:cNvSpPr/>
          <p:nvPr/>
        </p:nvSpPr>
        <p:spPr>
          <a:xfrm>
            <a:off x="5292720" y="4724280"/>
            <a:ext cx="2808360" cy="1511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апитал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Line 216"/>
          <p:cNvSpPr/>
          <p:nvPr/>
        </p:nvSpPr>
        <p:spPr>
          <a:xfrm flipH="1">
            <a:off x="1402920" y="1773360"/>
            <a:ext cx="1513080" cy="1224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Line 217"/>
          <p:cNvSpPr/>
          <p:nvPr/>
        </p:nvSpPr>
        <p:spPr>
          <a:xfrm>
            <a:off x="6372360" y="1773360"/>
            <a:ext cx="1008000" cy="1368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Line 218"/>
          <p:cNvSpPr/>
          <p:nvPr/>
        </p:nvSpPr>
        <p:spPr>
          <a:xfrm flipH="1">
            <a:off x="3348000" y="2349360"/>
            <a:ext cx="432000" cy="2016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Line 219"/>
          <p:cNvSpPr/>
          <p:nvPr/>
        </p:nvSpPr>
        <p:spPr>
          <a:xfrm>
            <a:off x="5148360" y="2349360"/>
            <a:ext cx="1368360" cy="2374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5"/>
          <p:cNvSpPr/>
          <p:nvPr/>
        </p:nvSpPr>
        <p:spPr>
          <a:xfrm rot="5400000">
            <a:off x="3887280" y="-1476360"/>
            <a:ext cx="863640" cy="3816360"/>
          </a:xfrm>
          <a:prstGeom prst="can">
            <a:avLst>
              <a:gd name="adj" fmla="val 250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Тауар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971640" y="1052640"/>
            <a:ext cx="6121440" cy="93636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оғамда айырбастау,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 жолымен бөлінеті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900000" y="2205000"/>
            <a:ext cx="7489800" cy="1297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ұны бар еңбек өнімі, яғни материалдық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заттық пішіндегі өндірістік-экономикал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ызметтің кез келген өнімі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900000" y="3716280"/>
            <a:ext cx="6264360" cy="100800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жеттілікті қанағаттандыратын жән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базарға жұрттың назарын аудару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684360" y="4941720"/>
            <a:ext cx="7272360" cy="1729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атып алу, пайдалану не тұтыну мақса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ымен ұсынылатын нәрселер, яғни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, сатушы мен сатып алушы арасын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ағы нарықтық қатынастар нысан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395280" y="476280"/>
            <a:ext cx="0" cy="5257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395280" y="476280"/>
            <a:ext cx="2016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395280" y="1413000"/>
            <a:ext cx="576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395280" y="285264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395280" y="422100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95280" y="5734080"/>
            <a:ext cx="2890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2980800" y="259920"/>
            <a:ext cx="38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ЫНОК ҚҰРЫЛЫМ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907920"/>
          <a:ext cx="9144000" cy="5739120"/>
        </p:xfrm>
        <a:graphic>
          <a:graphicData uri="http://schemas.openxmlformats.org/drawingml/2006/table">
            <a:tbl>
              <a:tblPr/>
              <a:tblGrid>
                <a:gridCol w="1258920"/>
                <a:gridCol w="2233440"/>
                <a:gridCol w="2303640"/>
                <a:gridCol w="1728720"/>
                <a:gridCol w="1619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Атау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Жеті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лы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ірнеше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алғыз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Баға рынокта анықталады, ал ком-пания оны қабылдайд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Әсер ету ауыстыру  мүмкіндігім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кте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 лидерінің әсері б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олық 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ауарды дифференциялд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Өнімдердің сапасы мен қасиеті бойынша айырмашылығы жоқ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зіндік рыноктарға арналып, тауар мен қызмет көрсету дифференциялаған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ейбір тауарлар-да көбірек байқа-лады. Стандарт-ты тауарларда аз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іру жеңілдігі (жаңа істі бастау мүмкіндігі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әдімгідей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те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ысалд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стық, темір нарығы, ұйымдастырылған биржаларда сатылатын акция мен облигациялар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іс пастасы, порошок нарығ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омпьютер нарығы, автомобиль өнеркәсібі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лефон, электр, сумен қамсыздандыру компаниялары,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азақтелеко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47"/>
          <p:cNvSpPr/>
          <p:nvPr/>
        </p:nvSpPr>
        <p:spPr>
          <a:xfrm>
            <a:off x="0" y="581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photo_47524"/>
          <p:cNvPicPr/>
          <p:nvPr/>
        </p:nvPicPr>
        <p:blipFill>
          <a:blip r:embed="rId1"/>
          <a:stretch/>
        </p:blipFill>
        <p:spPr>
          <a:xfrm>
            <a:off x="468360" y="3357720"/>
            <a:ext cx="4381560" cy="2438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Dp_3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381480" y="318960"/>
            <a:ext cx="5384520" cy="35942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Нары</a:t>
            </a:r>
            <a:r>
              <a:rPr b="0" lang="kk-KZ" sz="4400" spc="-1" strike="noStrike">
                <a:solidFill>
                  <a:srgbClr val="007572"/>
                </a:solidFill>
                <a:latin typeface="Arial Narrow"/>
              </a:rPr>
              <a:t>қ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Нарық</a:t>
            </a: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 — тауар өндірісі мен айналымы заңдары бойынша ұйымдастырылатын айырбасты сипаттайтын тауар қатынастарының жиынтығын білдіреді. Басқаша айтқанда, нарық — нақты тауар сатушылар мен оны сатып алушылардың басын қосатын кез келген институт немесе механизм. 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2556000" y="333360"/>
            <a:ext cx="4103640" cy="934920"/>
          </a:xfrm>
          <a:prstGeom prst="rect">
            <a:avLst/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Құн теорияс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611280" y="1773360"/>
            <a:ext cx="5329080" cy="244764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Классикалық және маркстік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да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құн жеке адамғ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тысы жоқ санат ретінд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ралып, ұсталған не жұмсалғ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шығын бірінші орынға қойыл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2340000" y="4437000"/>
            <a:ext cx="6408720" cy="1943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Еңбек құн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с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тұрғысын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л тауар түріндегі затқа айналған сап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жағынан бір текті абстрактілі қоғамд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ңбек болып табыла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2987280" y="1268280"/>
            <a:ext cx="792360" cy="5050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867280" y="1268280"/>
            <a:ext cx="1152720" cy="3168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06:12Z</dcterms:created>
  <dc:creator>Student</dc:creator>
  <dc:description/>
  <dc:language>en-US</dc:language>
  <cp:lastModifiedBy>User</cp:lastModifiedBy>
  <cp:lastPrinted>2013-01-26T11:34:14Z</cp:lastPrinted>
  <dcterms:modified xsi:type="dcterms:W3CDTF">2014-06-02T06:38:38Z</dcterms:modified>
  <cp:revision>42</cp:revision>
  <dc:subject/>
  <dc:title>Отрасли промышл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30000000000001024140</vt:lpwstr>
  </property>
</Properties>
</file>