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895-AA7C-40A0-B7B1-6F440529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C168-7C74-4D5F-B461-2B49694B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117-E1DF-42F6-BDEA-F63D147D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B15-6E41-498B-B818-5E0768BE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F694-0CF1-4C1F-ABDE-92D86A49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1426-B86E-4E51-8014-1EDB2FCD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7E66-A568-40E7-9F0E-1F0569B9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3A83-D894-4D36-95C8-06B1163A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E034-5173-405B-B607-E65DF984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A1C2-9999-4CD3-84B0-795CD7FC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7881-4782-4A59-B4DF-60DD46A1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79F-6F25-43B9-8578-FE520143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36B1-BFAE-456B-A3A2-ED79E6AE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159B-30C6-43FD-BE89-06C33F09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42DA-4580-460D-8E04-BA80C2BD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05B4-F8DB-40A0-9AC6-36DF217A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378E-F60F-48EF-BBAB-9CBE1D61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0512-F983-4310-8725-21A2CC27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E5A6-5BFC-4919-954F-1683FCEE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B127-5115-4FA3-A030-C0B47204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320-9B3B-4077-B5A8-6F727CA6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33B-C878-4BD3-ACE6-08B7D003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676-DEE1-44D6-B8E2-1F0083F2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936-20B6-4D5E-9F8A-757CCD08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Group 3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5264280" y="4719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495600" y="4078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635280" y="4809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45040" y="5621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6321600" y="287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906800" y="32479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rot="3318000">
                <a:off x="3580200" y="2980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2894040" y="4735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rot="6018000">
                <a:off x="3123360" y="5648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rot="6283800">
                <a:off x="5399640" y="4840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951200" y="4307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82520" y="4065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46240" y="4740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19469400">
                <a:off x="1174680" y="59130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2894040" y="3075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593720" y="32353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 rot="3318000">
                <a:off x="-113400" y="31582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-19080" y="4665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 rot="5508000">
                <a:off x="-36000" y="5560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 rot="6283800">
                <a:off x="1857240" y="45802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92420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155520" y="712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-284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14768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867040" y="-30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566720" y="13032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 rot="3318000">
                <a:off x="297360" y="-174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297000" y="148428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 rot="2428800">
                <a:off x="-254160" y="2646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 rot="6283800">
                <a:off x="2059200" y="1475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524988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481560" y="712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2972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447372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6192720" y="-3024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4892760" y="130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 rot="3318000">
                <a:off x="3184920" y="53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3032280" y="167472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 rot="2428800">
                <a:off x="3071520" y="2646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 rot="6283800">
                <a:off x="5385240" y="147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 flipH="1">
                <a:off x="8059680" y="1349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808680" y="727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6624720" y="1763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8086680" y="24796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667640" y="111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 rot="3318000">
                <a:off x="6569280" y="-103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6873840" y="1479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 rot="2428800">
                <a:off x="6608880" y="2527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 rot="6283800">
                <a:off x="7779240" y="1203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Freeform 71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Freeform 72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Freeform 73"/>
              <p:cNvSpPr/>
              <p:nvPr/>
            </p:nvSpPr>
            <p:spPr>
              <a:xfrm rot="6521400">
                <a:off x="8094600" y="4663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Freeform 74"/>
              <p:cNvSpPr/>
              <p:nvPr/>
            </p:nvSpPr>
            <p:spPr>
              <a:xfrm>
                <a:off x="6808680" y="4079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Freeform 75"/>
              <p:cNvSpPr/>
              <p:nvPr/>
            </p:nvSpPr>
            <p:spPr>
              <a:xfrm>
                <a:off x="6624720" y="5116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Freeform 76"/>
              <p:cNvSpPr/>
              <p:nvPr/>
            </p:nvSpPr>
            <p:spPr>
              <a:xfrm rot="5845200">
                <a:off x="8009280" y="570456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Freeform 77"/>
              <p:cNvSpPr/>
              <p:nvPr/>
            </p:nvSpPr>
            <p:spPr>
              <a:xfrm>
                <a:off x="7705800" y="3211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Freeform 78"/>
              <p:cNvSpPr/>
              <p:nvPr/>
            </p:nvSpPr>
            <p:spPr>
              <a:xfrm rot="3318000">
                <a:off x="6512400" y="3172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Freeform 79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Freeform 80"/>
              <p:cNvSpPr/>
              <p:nvPr/>
            </p:nvSpPr>
            <p:spPr>
              <a:xfrm>
                <a:off x="6359400" y="50418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 rot="6819600">
                <a:off x="6608880" y="57463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Freeform 82"/>
              <p:cNvSpPr/>
              <p:nvPr/>
            </p:nvSpPr>
            <p:spPr>
              <a:xfrm rot="6283800">
                <a:off x="7283880" y="406152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Freeform 83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Freeform 84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AutoShape 86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88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AutoShape 89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Freeform 91"/>
            <p:cNvSpPr/>
            <p:nvPr/>
          </p:nvSpPr>
          <p:spPr>
            <a:xfrm>
              <a:off x="154080" y="476280"/>
              <a:ext cx="1374840" cy="1262160"/>
            </a:xfrm>
            <a:prstGeom prst="pie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Group 92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Freeform 93"/>
              <p:cNvSpPr/>
              <p:nvPr/>
            </p:nvSpPr>
            <p:spPr>
              <a:xfrm>
                <a:off x="216000" y="166320"/>
                <a:ext cx="1253880" cy="1152360"/>
              </a:xfrm>
              <a:prstGeom prst="pie">
                <a:avLst/>
              </a:pr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234720" y="172800"/>
                <a:ext cx="287640" cy="8456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298440" y="149400"/>
                <a:ext cx="1057320" cy="3092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582480" y="460080"/>
                <a:ext cx="682560" cy="66168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487440" y="379080"/>
                <a:ext cx="406080" cy="40284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2D3F-DC41-4C5F-890D-4E3F0E5D8A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Group 3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Freeform 4"/>
              <p:cNvSpPr/>
              <p:nvPr/>
            </p:nvSpPr>
            <p:spPr>
              <a:xfrm>
                <a:off x="5261040" y="4746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3492360" y="4105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Freeform 6"/>
              <p:cNvSpPr/>
              <p:nvPr/>
            </p:nvSpPr>
            <p:spPr>
              <a:xfrm>
                <a:off x="3632040" y="4836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4141800" y="5648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6318360" y="2905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4903920" y="32749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 rot="3318000">
                <a:off x="3576960" y="3007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2890800" y="4762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Freeform 14"/>
              <p:cNvSpPr/>
              <p:nvPr/>
            </p:nvSpPr>
            <p:spPr>
              <a:xfrm rot="6018000">
                <a:off x="3120120" y="5675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Freeform 15"/>
              <p:cNvSpPr/>
              <p:nvPr/>
            </p:nvSpPr>
            <p:spPr>
              <a:xfrm rot="6283800">
                <a:off x="5396400" y="4867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Freeform 16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1947960" y="4334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179280" y="4092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243000" y="4767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 rot="19469400">
                <a:off x="1171440" y="59400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>
                <a:off x="2890800" y="3102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Freeform 23"/>
              <p:cNvSpPr/>
              <p:nvPr/>
            </p:nvSpPr>
            <p:spPr>
              <a:xfrm>
                <a:off x="1590840" y="32623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Freeform 24"/>
              <p:cNvSpPr/>
              <p:nvPr/>
            </p:nvSpPr>
            <p:spPr>
              <a:xfrm rot="3318000">
                <a:off x="-116640" y="318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Freeform 25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Freeform 26"/>
              <p:cNvSpPr/>
              <p:nvPr/>
            </p:nvSpPr>
            <p:spPr>
              <a:xfrm>
                <a:off x="-22320" y="4692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 rot="5508000">
                <a:off x="-39240" y="5587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Freeform 29"/>
              <p:cNvSpPr/>
              <p:nvPr/>
            </p:nvSpPr>
            <p:spPr>
              <a:xfrm rot="6283800">
                <a:off x="1854720" y="460764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Freeform 30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Freeform 31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Freeform 32"/>
              <p:cNvSpPr/>
              <p:nvPr/>
            </p:nvSpPr>
            <p:spPr>
              <a:xfrm>
                <a:off x="1920960" y="1380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Freeform 33"/>
              <p:cNvSpPr/>
              <p:nvPr/>
            </p:nvSpPr>
            <p:spPr>
              <a:xfrm>
                <a:off x="152280" y="739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Freeform 34"/>
              <p:cNvSpPr/>
              <p:nvPr/>
            </p:nvSpPr>
            <p:spPr>
              <a:xfrm>
                <a:off x="-3168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Freeform 35"/>
              <p:cNvSpPr/>
              <p:nvPr/>
            </p:nvSpPr>
            <p:spPr>
              <a:xfrm>
                <a:off x="1144440" y="2587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286380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Freeform 37"/>
              <p:cNvSpPr/>
              <p:nvPr/>
            </p:nvSpPr>
            <p:spPr>
              <a:xfrm>
                <a:off x="156384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 rot="3318000">
                <a:off x="294120" y="-147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93760" y="151128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 rot="2428800">
                <a:off x="-257040" y="2673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 rot="6283800">
                <a:off x="2056320" y="1502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5246640" y="138096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3478320" y="739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329400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4470480" y="2587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618984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488952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 rot="3318000">
                <a:off x="3181680" y="80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3029040" y="170172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 rot="2428800">
                <a:off x="3068280" y="2673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Freeform 57"/>
              <p:cNvSpPr/>
              <p:nvPr/>
            </p:nvSpPr>
            <p:spPr>
              <a:xfrm rot="6283800">
                <a:off x="5382000" y="1502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Freeform 58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Freeform 59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Freeform 60"/>
              <p:cNvSpPr/>
              <p:nvPr/>
            </p:nvSpPr>
            <p:spPr>
              <a:xfrm flipH="1">
                <a:off x="8056440" y="1376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Freeform 61"/>
              <p:cNvSpPr/>
              <p:nvPr/>
            </p:nvSpPr>
            <p:spPr>
              <a:xfrm>
                <a:off x="6805440" y="754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Freeform 62"/>
              <p:cNvSpPr/>
              <p:nvPr/>
            </p:nvSpPr>
            <p:spPr>
              <a:xfrm>
                <a:off x="6621480" y="1790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Freeform 63"/>
              <p:cNvSpPr/>
              <p:nvPr/>
            </p:nvSpPr>
            <p:spPr>
              <a:xfrm>
                <a:off x="8083440" y="2506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Freeform 64"/>
              <p:cNvSpPr/>
              <p:nvPr/>
            </p:nvSpPr>
            <p:spPr>
              <a:xfrm>
                <a:off x="7664400" y="3816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Freeform 65"/>
              <p:cNvSpPr/>
              <p:nvPr/>
            </p:nvSpPr>
            <p:spPr>
              <a:xfrm rot="3318000">
                <a:off x="6566400" y="-76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Freeform 66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Freeform 67"/>
              <p:cNvSpPr/>
              <p:nvPr/>
            </p:nvSpPr>
            <p:spPr>
              <a:xfrm>
                <a:off x="6870600" y="1506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Freeform 68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Freeform 69"/>
              <p:cNvSpPr/>
              <p:nvPr/>
            </p:nvSpPr>
            <p:spPr>
              <a:xfrm rot="2428800">
                <a:off x="6605640" y="2554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Freeform 70"/>
              <p:cNvSpPr/>
              <p:nvPr/>
            </p:nvSpPr>
            <p:spPr>
              <a:xfrm rot="6283800">
                <a:off x="7776000" y="123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Freeform 71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Freeform 72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Freeform 73"/>
              <p:cNvSpPr/>
              <p:nvPr/>
            </p:nvSpPr>
            <p:spPr>
              <a:xfrm rot="6521400">
                <a:off x="8091360" y="4690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Freeform 74"/>
              <p:cNvSpPr/>
              <p:nvPr/>
            </p:nvSpPr>
            <p:spPr>
              <a:xfrm>
                <a:off x="6805440" y="4106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Freeform 75"/>
              <p:cNvSpPr/>
              <p:nvPr/>
            </p:nvSpPr>
            <p:spPr>
              <a:xfrm>
                <a:off x="6621480" y="5143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Freeform 76"/>
              <p:cNvSpPr/>
              <p:nvPr/>
            </p:nvSpPr>
            <p:spPr>
              <a:xfrm rot="5845200">
                <a:off x="8005680" y="57312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Freeform 77"/>
              <p:cNvSpPr/>
              <p:nvPr/>
            </p:nvSpPr>
            <p:spPr>
              <a:xfrm>
                <a:off x="7702560" y="3238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Freeform 78"/>
              <p:cNvSpPr/>
              <p:nvPr/>
            </p:nvSpPr>
            <p:spPr>
              <a:xfrm rot="3318000">
                <a:off x="6509160" y="3199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Freeform 79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Freeform 80"/>
              <p:cNvSpPr/>
              <p:nvPr/>
            </p:nvSpPr>
            <p:spPr>
              <a:xfrm>
                <a:off x="6356520" y="506880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Freeform 81"/>
              <p:cNvSpPr/>
              <p:nvPr/>
            </p:nvSpPr>
            <p:spPr>
              <a:xfrm rot="6819600">
                <a:off x="6605280" y="577332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Freeform 82"/>
              <p:cNvSpPr/>
              <p:nvPr/>
            </p:nvSpPr>
            <p:spPr>
              <a:xfrm rot="6283800">
                <a:off x="7280280" y="408816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Freeform 83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Freeform 84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85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Freeform 86"/>
              <p:cNvSpPr/>
              <p:nvPr/>
            </p:nvSpPr>
            <p:spPr>
              <a:xfrm rot="17967600">
                <a:off x="356760" y="3306960"/>
                <a:ext cx="1782720" cy="1636560"/>
              </a:xfrm>
              <a:prstGeom prst="pi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Group 87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AutoShape 88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89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90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AutoShape 91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92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Group 93"/>
              <p:cNvGrpSpPr/>
              <p:nvPr/>
            </p:nvGrpSpPr>
            <p:grpSpPr>
              <a:xfrm>
                <a:off x="155160" y="2772360"/>
                <a:ext cx="2101320" cy="2151720"/>
                <a:chOff x="155160" y="2772360"/>
                <a:chExt cx="2101320" cy="2151720"/>
              </a:xfrm>
            </p:grpSpPr>
            <p:sp>
              <p:nvSpPr>
                <p:cNvPr id="229" name="Freeform 94"/>
                <p:cNvSpPr/>
                <p:nvPr/>
              </p:nvSpPr>
              <p:spPr>
                <a:xfrm rot="17970000">
                  <a:off x="392040" y="3101400"/>
                  <a:ext cx="1627200" cy="1493640"/>
                </a:xfrm>
                <a:prstGeom prst="pie">
                  <a:avLst/>
                </a:pr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5"/>
                <p:cNvSpPr/>
                <p:nvPr/>
              </p:nvSpPr>
              <p:spPr>
                <a:xfrm rot="17970000">
                  <a:off x="561240" y="3727080"/>
                  <a:ext cx="366480" cy="109656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96"/>
                <p:cNvSpPr/>
                <p:nvPr/>
              </p:nvSpPr>
              <p:spPr>
                <a:xfrm rot="17970000">
                  <a:off x="-2160" y="3398400"/>
                  <a:ext cx="1379520" cy="36000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97"/>
                <p:cNvSpPr/>
                <p:nvPr/>
              </p:nvSpPr>
              <p:spPr>
                <a:xfrm rot="17970000">
                  <a:off x="870480" y="3358800"/>
                  <a:ext cx="885600" cy="85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98"/>
                <p:cNvSpPr/>
                <p:nvPr/>
              </p:nvSpPr>
              <p:spPr>
                <a:xfrm rot="17970000">
                  <a:off x="661320" y="3656520"/>
                  <a:ext cx="527040" cy="520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100000">
                      <a:srgbClr val="fef9f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2FCA-059A-436F-93B5-C5C1504484F0}" type="slidenum"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572"/>
                </a:solidFill>
                <a:latin typeface="Arial Narrow"/>
              </a:rPr>
              <a:t>Экономика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856880" y="3785760"/>
            <a:ext cx="676764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1. Экономика түсінігі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2. А. Маслоу пирамидасы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3. Өндіріс және өндіріс факторлары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4214880" y="6143760"/>
            <a:ext cx="6767280" cy="9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33"/>
                </a:solidFill>
                <a:latin typeface="Arial Narrow"/>
              </a:rPr>
              <a:t>Орында:ан7 Акпаева А.С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5db6deb2fe"/>
          <p:cNvPicPr/>
          <p:nvPr/>
        </p:nvPicPr>
        <p:blipFill>
          <a:blip r:embed="rId1"/>
          <a:stretch/>
        </p:blipFill>
        <p:spPr>
          <a:xfrm>
            <a:off x="3564000" y="907920"/>
            <a:ext cx="5184720" cy="42498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7572"/>
                </a:solidFill>
                <a:latin typeface="Arial Narrow"/>
              </a:rPr>
              <a:t>Экономика  түсінігі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640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номик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— гректің «oikonomos» — «жеке шаруашылықты/үй шаруашылығын басқаратын тұлға» деген сөзінен шыққан. Бұл сөзді ең алғаш Аристотель өз еңбектерінде қолданған.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ұқтаждықтар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— бұл адамдардың белгілі бір пайдалылығы бар игіліктерді иелену мен пайдалануға деген ынталылығы. </a:t>
            </a:r>
            <a:r>
              <a:rPr b="0" lang="kk-KZ" sz="28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Мұқтаждықтарды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қанағаттандыратын </a:t>
            </a:r>
            <a:r>
              <a:rPr b="0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құралдар </a:t>
            </a:r>
            <a:r>
              <a:rPr b="0" i="1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игіліктер </a:t>
            </a:r>
            <a:r>
              <a:rPr b="0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болып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ылады. Бір игіліктер </a:t>
            </a:r>
            <a:r>
              <a:rPr b="0" lang="kk-KZ" sz="2800" spc="-1" strike="noStrike">
                <a:solidFill>
                  <a:srgbClr val="ebf8f8"/>
                </a:solidFill>
                <a:latin typeface="Times New Roman"/>
                <a:ea typeface="Times New Roman"/>
              </a:rPr>
              <a:t>шектеусіз мөлшерде болады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ысалы, ауа), ал екіншісі - </a:t>
            </a:r>
            <a:r>
              <a:rPr b="0" lang="kk-KZ" sz="2800" spc="-1" strike="noStrike">
                <a:solidFill>
                  <a:srgbClr val="ebf8f8"/>
                </a:solidFill>
                <a:latin typeface="Times New Roman"/>
                <a:ea typeface="Times New Roman"/>
              </a:rPr>
              <a:t>шектеулі (мұнай, көмір,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 с. с). Соңғылары </a:t>
            </a:r>
            <a:r>
              <a:rPr b="0" i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номикалық игіліктер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п аталады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Diagram 5"/>
          <p:cNvGrpSpPr/>
          <p:nvPr/>
        </p:nvGrpSpPr>
        <p:grpSpPr>
          <a:xfrm>
            <a:off x="51120" y="951120"/>
            <a:ext cx="8860680" cy="5746320"/>
            <a:chOff x="51120" y="951120"/>
            <a:chExt cx="8860680" cy="5746320"/>
          </a:xfrm>
        </p:grpSpPr>
        <p:sp>
          <p:nvSpPr>
            <p:cNvPr id="282" name="_s1028"/>
            <p:cNvSpPr/>
            <p:nvPr/>
          </p:nvSpPr>
          <p:spPr>
            <a:xfrm flipV="1">
              <a:off x="3594240" y="950400"/>
              <a:ext cx="1774080" cy="1148040"/>
            </a:xfrm>
            <a:custGeom>
              <a:avLst/>
              <a:gdLst>
                <a:gd name="textAreaLeft" fmla="*/ 636480 w 1774080"/>
                <a:gd name="textAreaRight" fmla="*/ 1137600 w 1774080"/>
                <a:gd name="textAreaTop" fmla="*/ 411840 h 1148040"/>
                <a:gd name="textAreaBottom" fmla="*/ 736200 h 114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333333"/>
                  </a:solidFill>
                  <a:latin typeface="Times New Roman"/>
                </a:rPr>
                <a:t>Өзін-өзі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333333"/>
                  </a:solidFill>
                  <a:latin typeface="Times New Roman"/>
                </a:rPr>
                <a:t>тану 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_s1029"/>
            <p:cNvSpPr/>
            <p:nvPr/>
          </p:nvSpPr>
          <p:spPr>
            <a:xfrm flipV="1">
              <a:off x="2710080" y="2099160"/>
              <a:ext cx="3542400" cy="1150560"/>
            </a:xfrm>
            <a:custGeom>
              <a:avLst/>
              <a:gdLst>
                <a:gd name="textAreaLeft" fmla="*/ 779040 w 3542400"/>
                <a:gd name="textAreaRight" fmla="*/ 2763360 w 3542400"/>
                <a:gd name="textAreaTop" fmla="*/ 253080 h 1150560"/>
                <a:gd name="textAreaBottom" fmla="*/ 897480 h 11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333333"/>
                  </a:solidFill>
                  <a:latin typeface="Times New Roman"/>
                </a:rPr>
                <a:t>Сыйластық қажеттілігі</a:t>
              </a:r>
              <a:endParaRPr b="0" lang="en-US" sz="21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333333"/>
                  </a:solidFill>
                  <a:latin typeface="Times New Roman"/>
                </a:rPr>
                <a:t>(өзін-өзі сыйлау, мәртебе) </a:t>
              </a:r>
              <a:endParaRPr b="0" lang="en-US" sz="2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_s1030"/>
            <p:cNvSpPr/>
            <p:nvPr/>
          </p:nvSpPr>
          <p:spPr>
            <a:xfrm flipV="1">
              <a:off x="1822320" y="3250440"/>
              <a:ext cx="5317920" cy="1272960"/>
            </a:xfrm>
            <a:custGeom>
              <a:avLst/>
              <a:gdLst>
                <a:gd name="textAreaLeft" fmla="*/ 923040 w 5317920"/>
                <a:gd name="textAreaRight" fmla="*/ 4394880 w 5317920"/>
                <a:gd name="textAreaTop" fmla="*/ 221040 h 1272960"/>
                <a:gd name="textAreaBottom" fmla="*/ 1051920 h 127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Әлеуметтік қажеттіліктер 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(сүйіспеншілдік, рухани жақындық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сезім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_s1031"/>
            <p:cNvSpPr/>
            <p:nvPr/>
          </p:nvSpPr>
          <p:spPr>
            <a:xfrm flipV="1">
              <a:off x="957240" y="4523400"/>
              <a:ext cx="7086240" cy="1001520"/>
            </a:xfrm>
            <a:custGeom>
              <a:avLst/>
              <a:gdLst>
                <a:gd name="textAreaLeft" fmla="*/ 1065960 w 7086240"/>
                <a:gd name="textAreaRight" fmla="*/ 6020280 w 7086240"/>
                <a:gd name="textAreaTop" fmla="*/ 150480 h 1001520"/>
                <a:gd name="textAreaBottom" fmla="*/ 851040 h 10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Өзін-өзі сақтау қажеттілігі (қауіпсіздік, қорғалу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_s1032"/>
            <p:cNvSpPr/>
            <p:nvPr/>
          </p:nvSpPr>
          <p:spPr>
            <a:xfrm flipV="1">
              <a:off x="51120" y="5548680"/>
              <a:ext cx="8860680" cy="1148040"/>
            </a:xfrm>
            <a:custGeom>
              <a:avLst/>
              <a:gdLst>
                <a:gd name="textAreaLeft" fmla="*/ 1209960 w 8860680"/>
                <a:gd name="textAreaRight" fmla="*/ 7650720 w 8860680"/>
                <a:gd name="textAreaTop" fmla="*/ 156600 h 1148040"/>
                <a:gd name="textAreaBottom" fmla="*/ 991440 h 114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Физиологиялық қажеттіліктер (аштық, шөлдеу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88640" y="189000"/>
            <a:ext cx="80550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Arial Narrow"/>
              </a:rPr>
              <a:t>А. Маслоудың қажеттіліктер пирамидасы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838080" y="20574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AutoShape 207"/>
          <p:cNvSpPr/>
          <p:nvPr/>
        </p:nvSpPr>
        <p:spPr>
          <a:xfrm>
            <a:off x="2916360" y="765000"/>
            <a:ext cx="3456000" cy="1584360"/>
          </a:xfrm>
          <a:prstGeom prst="bevel">
            <a:avLst>
              <a:gd name="adj" fmla="val 12500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Өндіріс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факторлар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AutoShape 208"/>
          <p:cNvSpPr/>
          <p:nvPr/>
        </p:nvSpPr>
        <p:spPr>
          <a:xfrm>
            <a:off x="324000" y="2997360"/>
            <a:ext cx="2089080" cy="1079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Жер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AutoShape 209"/>
          <p:cNvSpPr/>
          <p:nvPr/>
        </p:nvSpPr>
        <p:spPr>
          <a:xfrm>
            <a:off x="6443640" y="3141720"/>
            <a:ext cx="1943280" cy="115092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Еңбек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AutoShape 212"/>
          <p:cNvSpPr/>
          <p:nvPr/>
        </p:nvSpPr>
        <p:spPr>
          <a:xfrm>
            <a:off x="2050920" y="4365720"/>
            <a:ext cx="2881440" cy="122400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Кәсіпкерлі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AutoShape 213"/>
          <p:cNvSpPr/>
          <p:nvPr/>
        </p:nvSpPr>
        <p:spPr>
          <a:xfrm>
            <a:off x="5292720" y="4724280"/>
            <a:ext cx="2808360" cy="1511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Капитал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Line 216"/>
          <p:cNvSpPr/>
          <p:nvPr/>
        </p:nvSpPr>
        <p:spPr>
          <a:xfrm flipH="1">
            <a:off x="1402920" y="1773360"/>
            <a:ext cx="1513080" cy="1224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Line 217"/>
          <p:cNvSpPr/>
          <p:nvPr/>
        </p:nvSpPr>
        <p:spPr>
          <a:xfrm>
            <a:off x="6372360" y="1773360"/>
            <a:ext cx="1008000" cy="13683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Line 218"/>
          <p:cNvSpPr/>
          <p:nvPr/>
        </p:nvSpPr>
        <p:spPr>
          <a:xfrm flipH="1">
            <a:off x="3348000" y="2349360"/>
            <a:ext cx="432000" cy="20163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Line 219"/>
          <p:cNvSpPr/>
          <p:nvPr/>
        </p:nvSpPr>
        <p:spPr>
          <a:xfrm>
            <a:off x="5148360" y="2349360"/>
            <a:ext cx="1368360" cy="2374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5"/>
          <p:cNvSpPr/>
          <p:nvPr/>
        </p:nvSpPr>
        <p:spPr>
          <a:xfrm rot="5400000">
            <a:off x="3887280" y="-1476360"/>
            <a:ext cx="863640" cy="3816360"/>
          </a:xfrm>
          <a:prstGeom prst="can">
            <a:avLst>
              <a:gd name="adj" fmla="val 25000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Тауар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971640" y="1052640"/>
            <a:ext cx="6121440" cy="93636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оғамда айырбастау, сатып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алу-сату жолымен бөлінеті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900000" y="2205000"/>
            <a:ext cx="7489800" cy="129708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ұны бар еңбек өнімі, яғни материалдық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заттық пішіндегі өндірістік-экономикалық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ызметтің кез келген өнімі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900000" y="3716280"/>
            <a:ext cx="6264360" cy="100800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жеттілікті қанағаттандыратын және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базарға жұрттың назарын аудару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684360" y="4941720"/>
            <a:ext cx="7272360" cy="172908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сатып алу, пайдалану не тұтыну мақса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тымен ұсынылатын нәрселер, яғни сатып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алу-сату, сатушы мен сатып алушы арасын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ағы нарықтық қатынастар нысан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Line 12"/>
          <p:cNvSpPr/>
          <p:nvPr/>
        </p:nvSpPr>
        <p:spPr>
          <a:xfrm>
            <a:off x="395280" y="476280"/>
            <a:ext cx="0" cy="5257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Line 13"/>
          <p:cNvSpPr/>
          <p:nvPr/>
        </p:nvSpPr>
        <p:spPr>
          <a:xfrm>
            <a:off x="395280" y="476280"/>
            <a:ext cx="20160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395280" y="1413000"/>
            <a:ext cx="57636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Line 15"/>
          <p:cNvSpPr/>
          <p:nvPr/>
        </p:nvSpPr>
        <p:spPr>
          <a:xfrm>
            <a:off x="395280" y="2852640"/>
            <a:ext cx="5047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Line 16"/>
          <p:cNvSpPr/>
          <p:nvPr/>
        </p:nvSpPr>
        <p:spPr>
          <a:xfrm>
            <a:off x="395280" y="4221000"/>
            <a:ext cx="5047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395280" y="5734080"/>
            <a:ext cx="28908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2980800" y="259920"/>
            <a:ext cx="384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ЫНОК ҚҰРЫЛЫМ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0" y="907920"/>
          <a:ext cx="9144000" cy="5739120"/>
        </p:xfrm>
        <a:graphic>
          <a:graphicData uri="http://schemas.openxmlformats.org/drawingml/2006/table">
            <a:tbl>
              <a:tblPr/>
              <a:tblGrid>
                <a:gridCol w="1258920"/>
                <a:gridCol w="2233440"/>
                <a:gridCol w="2303640"/>
                <a:gridCol w="1728720"/>
                <a:gridCol w="16192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Атау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Жетілг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әсекелесті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Монополиялық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әсекелесті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Олигополия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Монополия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н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өп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өп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ірнеше ірі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алғыз ірі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ған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қыл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. Баға рынокта анықталады, ал ком-пания оны қабылдайд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Әсер ету ауыстыру  мүмкіндігім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ектелг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ға лидерінің әсері бар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олық бақыл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ауарды дифференциялд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. Өнімдердің сапасы мен қасиеті бойынша айырмашылығы жоқ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Өзіндік рыноктарға арналып, тауар мен қызмет көрсету дифференциялаған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ейбір тауарлар-да көбірек байқа-лады. Стандарт-ты тауарларда аз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іру жеңілдігі (жаңа істі бастау мүмкіндігі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лыстырмалы түрде кіру жеңіл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лыстырмалы түрде кіру жеңіл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әдімгідей қиы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Өте қиы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ысалдар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стық, темір нарығы, ұйымдастырылған биржаларда сатылатын акция мен облигациялар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іс пастасы, порошок нарығ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омпьютер нарығы, автомобиль өнеркәсібі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елефон, электр, сумен қамсыздандыру компаниялары,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азақтелеко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Rectangle 47"/>
          <p:cNvSpPr/>
          <p:nvPr/>
        </p:nvSpPr>
        <p:spPr>
          <a:xfrm>
            <a:off x="0" y="581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photo_47524"/>
          <p:cNvPicPr/>
          <p:nvPr/>
        </p:nvPicPr>
        <p:blipFill>
          <a:blip r:embed="rId1"/>
          <a:stretch/>
        </p:blipFill>
        <p:spPr>
          <a:xfrm>
            <a:off x="468360" y="3357720"/>
            <a:ext cx="4381560" cy="2438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Dp_3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381480" y="318960"/>
            <a:ext cx="5384520" cy="35942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Нары</a:t>
            </a:r>
            <a:r>
              <a:rPr b="0" lang="kk-KZ" sz="4400" spc="-1" strike="noStrike">
                <a:solidFill>
                  <a:srgbClr val="007572"/>
                </a:solidFill>
                <a:latin typeface="Arial Narrow"/>
              </a:rPr>
              <a:t>қ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Нарық</a:t>
            </a:r>
            <a:r>
              <a:rPr b="0" lang="ru-RU" sz="4000" spc="-1" strike="noStrike">
                <a:solidFill>
                  <a:srgbClr val="ff0000"/>
                </a:solidFill>
                <a:latin typeface="Arial Narrow"/>
              </a:rPr>
              <a:t> — тауар өндірісі мен айналымы заңдары бойынша ұйымдастырылатын айырбасты сипаттайтын тауар қатынастарының жиынтығын білдіреді. Басқаша айтқанда, нарық — нақты тауар сатушылар мен оны сатып алушылардың басын қосатын кез келген институт немесе механизм. 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2556000" y="333360"/>
            <a:ext cx="4103640" cy="934920"/>
          </a:xfrm>
          <a:prstGeom prst="rect">
            <a:avLst/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Құн теорияс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611280" y="1773360"/>
            <a:ext cx="5329080" cy="244764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Классикалық және маркстік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теорияда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 құн жеке адамға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тысы жоқ санат ретінде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ралып, ұсталған не жұмсалға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шығын бірінші орынға қойылд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2340000" y="4437000"/>
            <a:ext cx="6408720" cy="1943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Еңбек құны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теориясы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тұрғысына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ол тауар түріндегі затқа айналған сапа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жағынан бір текті абстрактілі қоғамдық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еңбек болып табылад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Line 9"/>
          <p:cNvSpPr/>
          <p:nvPr/>
        </p:nvSpPr>
        <p:spPr>
          <a:xfrm flipH="1">
            <a:off x="2987280" y="1268280"/>
            <a:ext cx="792360" cy="5050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5867280" y="1268280"/>
            <a:ext cx="1152720" cy="3168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3:06:12Z</dcterms:created>
  <dc:creator>Student</dc:creator>
  <dc:description/>
  <dc:language>en-US</dc:language>
  <cp:lastModifiedBy>User</cp:lastModifiedBy>
  <cp:lastPrinted>2013-01-26T11:34:14Z</cp:lastPrinted>
  <dcterms:modified xsi:type="dcterms:W3CDTF">2014-06-02T06:38:38Z</dcterms:modified>
  <cp:revision>42</cp:revision>
  <dc:subject/>
  <dc:title>Отрасли промышлен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30000000000001024140</vt:lpwstr>
  </property>
</Properties>
</file>