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993-AF08-44A9-A0AA-ED845A1A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1E3-FA72-4B6A-94C7-2CAA787D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862-3485-4D16-8605-E9C3E9EA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F2C-1A3E-4B97-B474-FBC66CD6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551-981D-4616-B37A-52C18B27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FE9-CA97-4EC1-82BB-F7D14F6A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43E-EA79-47EF-AE19-52AF783F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60D-214A-4782-A472-76ACB9B4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7BC-B8A2-4222-8D5F-F513F8D7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E1D-C54E-4151-9B7B-F0BD577C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A93-C77A-40C9-8241-D6750CB7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E5D-475F-4989-8C33-FD82486C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A1B1-0AA8-4714-9DA6-B32F0A0971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535120" y="189000"/>
            <a:ext cx="462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Панорамалы</a:t>
            </a:r>
            <a:r>
              <a:rPr b="0" lang="kk-KZ" sz="2400" spc="-1" strike="noStrike">
                <a:solidFill>
                  <a:srgbClr val="ccffff"/>
                </a:solidFill>
                <a:latin typeface="Arial"/>
              </a:rPr>
              <a:t>қ сабақ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Кү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---------------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Адам және қоғ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ыныбы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ақырыбы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.. (қорытындылау сабағ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мақсаты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қушыны ізденіске жетелеу, оқығанын талдап, мәнін аш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ілімділік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білуге үйрету, оқушының өзіндік пікірінің қалыптасуы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ықпал жасау, ой қорыта білуге, аз сөзбен түйіндеуг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амытушылық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Оқушының жеке тұлға болып қалыптасуына ықпал жаса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анымдық ойлау қабілеттерін дамыту. Философиялық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өзқарастарын қалыптастыруға бау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тәрбиелік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Абай ғақлияларынан ғибрат алуға, адамдық асыл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асиеттерге ұмтылуға, ізгілікке, имандылыққа тәрбиелеу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Ұлы ойшылдың насихат сөздеріндегіөмірлік тағылымдардың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ағынасын ашып, бүгінгі өмірге байланыстылығын же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үсіндіру. Адами қасиеттерді бойына сіңіре білу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үр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Ғылыми негіздегі іздену және зерттеу сабағы – дебат үлгі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әдіс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сұрақ – жауап, пікірталас, топтық жұм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көрнекілігі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ортреттер, қанатты сөздер жазылған плакаттар, әдеб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ітаптар, Абайдың қара сөздері, өлеңд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аралық байланыс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қазақ әдебиеті, тарих, өмірмен байлан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жоспар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Ұйымдасты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Дебат сабағының жалпы бар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) Мұғалімнің кіріспе сөзі (дебат барысы, ережесімен таныстыр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Қорытынды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Оқушыларды баға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Үйге тапсырма бе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 ұйымдастыру барысы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Алдын – ала сабақ басталмастан бірнеше апта, күн бұрын проблемалық сұрақтар беріліп, оқулықтан тыс Абай шығармаларын іздеп, танысуға тапсырмалар беріл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Өз еркімен пікірсайысқа қатысушы топта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 топ – 11 сынып оқушыл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 топ – студент жаст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 топ – жас маман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 топ – орта буын ұстаз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Проблемалық тақырып «Адам болам десеңіз» дебат ойнының ережесі бойнша жүр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Әр топ 6 пікірсайысшыдан тұр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Көрермендердің,оқушылардың мақсаты: өткен сабақтарды қайталау,өз көзқарастарын білдіру талдау жасау, баға беру, толықтыру, сұрақ қ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Сабақтың бары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Мұғалімнің кіріспе сөзі: Оқушылар! Біз «Адам қоғамның жігерлі субьектісі ат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VI  бөлім тақырыптарын қайталап, қорытындылау ретінде Абайдың мына өлеңіне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назар аударайық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Ғылым таппай мақтан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ын таппай бап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ұмарланып шат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йнап босқа күлу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ден қашық б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ге асық бо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й отырып. Абайдың  «Адам болам десеңіз...» деген сөзіне пікірсайыс сабағымызды б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байдың  «Адам болам десеңіз» сөзінің мән – мағыналарын  ашу біздің мақсатымыз. Абайдың айтқан сөзі өмірлік мазмұнын жоймайды - деп филолог Мекемтас Мырзахметов айтқанындай бірнеше сұрақтарға да өз ойымызды білдір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Қазіргі қоғамдағы адамның ролі қанда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.Адам болу міндетіміз б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.Бақытты болу дегенді қалай түсінеміз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.Өмірдегі менің мақсатым не? Келешекте мен өз өмірімді қалай құруым кере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.Абайша айтсақ: Үш - ақ нәрсе адамның қасиеті, ыстық қайрат, нұрлы ақыл, жылы жүрек – дегенді қалай түсінесің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8244000" y="630864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8406"/>
                </a:moveTo>
                <a:lnTo>
                  <a:pt x="16334" y="8406"/>
                </a:lnTo>
                <a:lnTo>
                  <a:pt x="20755" y="3794"/>
                </a:lnTo>
                <a:lnTo>
                  <a:pt x="20755" y="17806"/>
                </a:lnTo>
                <a:lnTo>
                  <a:pt x="16334" y="13194"/>
                </a:lnTo>
                <a:lnTo>
                  <a:pt x="11904" y="13194"/>
                </a:lnTo>
                <a:close/>
              </a:path>
              <a:path fill="darken" w="37820" h="21600">
                <a:moveTo>
                  <a:pt x="22409" y="10800"/>
                </a:moveTo>
                <a:lnTo>
                  <a:pt x="25917" y="10800"/>
                </a:lnTo>
              </a:path>
              <a:path fill="darken" w="37820" h="21600">
                <a:moveTo>
                  <a:pt x="22409" y="8406"/>
                </a:moveTo>
                <a:lnTo>
                  <a:pt x="25917" y="5639"/>
                </a:lnTo>
              </a:path>
              <a:path fill="darken" w="37820" h="21600">
                <a:moveTo>
                  <a:pt x="22409" y="13194"/>
                </a:moveTo>
                <a:lnTo>
                  <a:pt x="25917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батқа қатысушылар өздерінің ой пікірлерін ашық жеткізе білді. Ұлы философ Абайдың бірнеше қара сөздерінен мысалдар келтіре отырып,пікірлерін дәлелд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-Фараби: «Адамға ең бірінші білім емес тәрбие беру кере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- парасат күші- адамның ойлауына,пайымдауына,ғылым мен өнерді ұғынуына және жақсы қылық пен жаман қылықты айыруына көмектесетін күш,-деп айтқ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ндеше қоршаған ортаға оң әсер ету үшін адамдар бойында парасаттылық болу керек.Физикалық  құбылыстардағы оң және теріс зарядтар тәрізді адамдардың күнделікті әрекетінде де оң және теріс істердің болатындығын айтт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Қорытынды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 орта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ілімі мен білігін                                                                басында еркі жоқ, суғ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ұмсап заманды билеушілер                                           аққан қаңбақтай беті ауғ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аққа кет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ды алға сүйреушілер                                               заманды артқа сүйре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– парасатқа жүгін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500720" y="2708280"/>
            <a:ext cx="0" cy="24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16000" y="378936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7080" y="4005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5003640" y="2708280"/>
            <a:ext cx="151308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1402920" y="2708280"/>
            <a:ext cx="259236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қылымен, парасатымен заманды алға сүйреу үшін мынадай қасиеттер кер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Адам бойындағы қасиет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г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күншіл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мейірімд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қатігез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ыпайылық                                                           дөрекіл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имандылық                                                           иман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гершілік                                                        аманатқа қиян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р – ұят                                                                наданды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лдық                                                               ар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парасаттылық                                                      көрсе қызар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денімпаздық                                                      жалқау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талап, еңбек, терең ой,                                       Өсек, өтірік, мақтаншақ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қанағат рахым ойлап қой –                                 Еріншек бекер мал шашпа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асыл іс, көнсеңі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нәрсеге асық бо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 болам десеңіз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ешкім де заманнан тыс болмайды. Бұлардың арасындағы күрес бітпейді. Абайдың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6 – шы қара сөзінде адам бойындағы жан қуаты мен тән қуаты жайлы айтылған . Бұдан біз адам бойындағы қуатты дұрыс пайдаланған жағдайда ғана рухани жағынан жан-жақты өркендеу жолында болатынын көріп отырмыз. Сендердің алдарыңда сәл ғана уақыттан соң өмір сахнасына жол жатыр, оның соқпақты, соқпақсыз жолдарын кезждестіресіңдер, тек ақыл оймен әр нәрсені шеше беріңдер демекпі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ен де бір кірпіш дүниеге, кетігін тап та, бар қалан демекші өмірде өз орындарыңызда таба біліңізд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427640" y="476280"/>
            <a:ext cx="0" cy="37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920" y="765000"/>
            <a:ext cx="8858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740720" y="630864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2559" y="8406"/>
                </a:moveTo>
                <a:lnTo>
                  <a:pt x="26989" y="8406"/>
                </a:lnTo>
                <a:lnTo>
                  <a:pt x="31411" y="3794"/>
                </a:lnTo>
                <a:lnTo>
                  <a:pt x="31411" y="17806"/>
                </a:lnTo>
                <a:lnTo>
                  <a:pt x="26989" y="13194"/>
                </a:lnTo>
                <a:lnTo>
                  <a:pt x="22559" y="13194"/>
                </a:lnTo>
                <a:close/>
              </a:path>
              <a:path fill="darken" w="59131" h="21600">
                <a:moveTo>
                  <a:pt x="33065" y="10800"/>
                </a:moveTo>
                <a:lnTo>
                  <a:pt x="36572" y="10800"/>
                </a:lnTo>
              </a:path>
              <a:path fill="darken" w="59131" h="21600">
                <a:moveTo>
                  <a:pt x="33065" y="8406"/>
                </a:moveTo>
                <a:lnTo>
                  <a:pt x="36572" y="5639"/>
                </a:lnTo>
              </a:path>
              <a:path fill="darken" w="59131" h="21600">
                <a:moveTo>
                  <a:pt x="33065" y="13194"/>
                </a:moveTo>
                <a:lnTo>
                  <a:pt x="36572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3:37:28Z</dcterms:created>
  <dc:creator>User</dc:creator>
  <dc:description/>
  <dc:language>en-US</dc:language>
  <cp:lastModifiedBy>User</cp:lastModifiedBy>
  <dcterms:modified xsi:type="dcterms:W3CDTF">2009-05-20T03:37:42Z</dcterms:modified>
  <cp:revision>1</cp:revision>
  <dc:subject/>
  <dc:title>Слайд 1</dc:title>
</cp:coreProperties>
</file>