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BFC-B3C3-4731-A0B1-F9C7FE70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62D-6C6E-442A-BFD7-E91B715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6192-13ED-4B1F-82D1-F9150410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800-5686-4D6B-BC1E-F09B965E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471-0D86-41C5-99CF-68E07E1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961-E34B-4E4E-83FE-B43DEED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538-8B63-4482-8E04-34F04DD4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C44-0CCF-49A7-B880-E71BFACF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B9D-C4FD-4914-A9BD-104598CD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A7E-2D25-49C9-8D30-1380041F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7AA-F3B3-4AD7-A729-1BBFA798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4A0-B6F8-4D99-BA58-5BC0E20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A784-C6D3-4330-B726-9FFAA6EBB3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535120" y="189000"/>
            <a:ext cx="46292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Панорамалы</a:t>
            </a:r>
            <a:r>
              <a:rPr b="0" lang="kk-KZ" sz="2400" spc="-1" strike="noStrike">
                <a:solidFill>
                  <a:srgbClr val="ccffff"/>
                </a:solidFill>
                <a:latin typeface="Arial"/>
              </a:rPr>
              <a:t>қ сабақ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Кү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-------------------------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kk-KZ" sz="1800" spc="-1" strike="noStrike" baseline="-25000">
                <a:solidFill>
                  <a:srgbClr val="ffffff"/>
                </a:solidFill>
                <a:latin typeface="Arial"/>
              </a:rPr>
              <a:t>-----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і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Адам және қоғ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ыныбы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ақырыбы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.. (қорытындылау сабағ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мақсаты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қушыны ізденіске жетелеу, оқығанын талдап, мәнін аш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ілімділік: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білуге үйрету, оқушының өзіндік пікірінің қалыптасуы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ықпал жасау, ой қорыта білуге, аз сөзбен түйіндеуге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амытушылық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Оқушының жеке тұлға болып қалыптасуына ықпал жаса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анымдық ойлау қабілеттерін дамыту. Философиялық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өзқарастарын қалыптастыруға баул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тәрбиелік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Абай ғақлияларынан ғибрат алуға, адамдық асыл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асиеттерге ұмтылуға, ізгілікке, имандылыққа тәрбиелеу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Ұлы ойшылдың насихат сөздеріндегіөмірлік тағылымдардың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ағынасын ашып, бүгінгі өмірге байланыстылығын же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үсіндіру. Адами қасиеттерді бойына сіңіре білу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ағдыланды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түр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Ғылыми негіздегі іздену және зерттеу сабағы – дебат үлгі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әдісі: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сұрақ – жауап, пікірталас, топтық жұм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көрнекілігі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ортреттер, қанатты сөздер жазылған плакаттар, әдеб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кітаптар, Абайдың қара сөздері, өлеңдер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Пәнаралық байланыс: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қазақ әдебиеті, тарих, өмірмен байланы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ң жоспар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Ұйымдасты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Дебат сабағының жалпы бар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) Мұғалімнің кіріспе сөзі (дебат барысы, ережесімен таныстыр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Қорытынды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Оқушыларды баға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Үйге тапсырма бе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Сабақты ұйымдастыру барыс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) Алдын – ала сабақ басталмастан бірнеше апта, күн бұрын проблемалық сұрақтар беріліп, оқулықтан тыс Абай шығармаларын іздеп, танысуға тапсырмалар беріл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) Өз еркімен пікірсайысқа қатысушы топта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 топ – 11 сынып оқушыл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 топ – студент жаст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 топ – жас маман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 топ – орта буын ұстазд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) Проблемалық тақырып «Адам болам десеңіз» дебат ойнының ережесі бойнша жүр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) Әр топ 6 пікірсайысшыдан тұра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) Көрермендердің,оқушылардың мақсаты: өткен сабақтарды қайталау,өз көзқарастарын білдіру талдау жасау, баға беру, толықтыру, сұрақ қо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Сабақтың бары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Мұғалімнің кіріспе сөзі: Оқушылар! Біз «Адам қоғамның жігерлі субьектісі ат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VI  бөлім тақырыптарын қайталап, қорытындылау ретінде Абайдың мына өлеңіне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назар аударайық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Ғылым таппай мақтан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ын таппай бап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Құмарланып шаттан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йнап босқа күлу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ден қашық б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ес нәрсеге асық бо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дам болам десеңі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й отырып. Абайдың  «Адам болам десеңіз...» деген сөзіне пікірсайыс сабағымызды б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байдың  «Адам болам десеңіз» сөзінің мән – мағыналарын  ашу біздің мақсатымыз. Абайдың айтқан сөзі өмірлік мазмұнын жоймайды - деп филолог Мекемтас Мырзахметов айтқанындай бірнеше сұрақтарға да өз ойымызды білдір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1.Қазіргі қоғамдағы адамның ролі қанда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2.Адам болу міндетіміз б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3.Бақытты болу дегенді қалай түсінемі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4.Өмірдегі менің мақсатым не? Келешекте мен өз өмірімді қалай құруым кере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5.Абайша айтсақ: Үш - ақ нәрсе адамның қасиеті, ыстық қайрат, нұрлы ақыл, жылы жүрек – дегенді қалай түсінесің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8244000" y="630864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8406"/>
                </a:moveTo>
                <a:lnTo>
                  <a:pt x="16334" y="8406"/>
                </a:lnTo>
                <a:lnTo>
                  <a:pt x="20755" y="3794"/>
                </a:lnTo>
                <a:lnTo>
                  <a:pt x="20755" y="17806"/>
                </a:lnTo>
                <a:lnTo>
                  <a:pt x="16334" y="13194"/>
                </a:lnTo>
                <a:lnTo>
                  <a:pt x="11904" y="13194"/>
                </a:lnTo>
                <a:close/>
              </a:path>
              <a:path fill="darken" w="37820" h="21600">
                <a:moveTo>
                  <a:pt x="22409" y="10800"/>
                </a:moveTo>
                <a:lnTo>
                  <a:pt x="25917" y="10800"/>
                </a:lnTo>
              </a:path>
              <a:path fill="darken" w="37820" h="21600">
                <a:moveTo>
                  <a:pt x="22409" y="8406"/>
                </a:moveTo>
                <a:lnTo>
                  <a:pt x="25917" y="5639"/>
                </a:lnTo>
              </a:path>
              <a:path fill="darken" w="37820" h="21600">
                <a:moveTo>
                  <a:pt x="22409" y="13194"/>
                </a:moveTo>
                <a:lnTo>
                  <a:pt x="25917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Дебатқа қатысушылар өздерінің ой пікірлерін ашық жеткізе білді. Ұлы философ Абайдың бірнеше қара сөздерінен мысалдар келтіре отырып,пікірлерін дәлелд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-Фараби: «Адамға ең бірінші білім емес тәрбие беру кере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- парасат күші- адамның ойлауына,пайымдауына,ғылым мен өнерді ұғынуына және жақсы қылық пен жаман қылықты айыруына көмектесетін күш,-деп айтқ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ндеше қоршаған ортаға оң әсер ету үшін адамдар бойында парасаттылық болу керек.Физикалық  құбылыстардағы оң және теріс зарядтар тәрізді адамдардың күнделікті әрекетінде де оң және теріс істердің болатындығын айтт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Қорытынды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 орта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ілімі мен білігін                                                                басында еркі жоқ, суғ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ұмсап заманды билеушілер                                           аққан қаңбақтай беті ауғ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жаққа кет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заманды алға сүйреушілер                                               заманды артқа сүйре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ыл – парасатқа жүгінушіл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500720" y="270828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378936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6877080" y="400536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003640" y="2708280"/>
            <a:ext cx="151308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1402920" y="2708280"/>
            <a:ext cx="259236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қылымен, парасатымен заманды алға сүйреу үшін мынадай қасиеттер кер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Адам бойындағы қасиет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kk-KZ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г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күншіл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мейірімділік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                                        қатігезд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ыпайылық                                                           дөрекілі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имандылық                                                           иман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гершілік                                                        аманатқа қиян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р – ұят                                                                наданды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лдық                                                               арсызд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парасаттылық                                                      көрсе қызар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ізденімпаздық                                                      жалқаулы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талап, еңбек, терең ой,                                       Өсек, өтірік, мақтаншақ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қанағат рахым ойлап қой –                                 Еріншек бекер мал шашпақ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асыл іс, көнсеңі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бес нәрсеге асық бо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адам болам десеңіз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ешкім де заманнан тыс болмайды. Бұлардың арасындағы күрес бітпейді. Абайдың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6 – шы қара сөзінде адам бойындағы жан қуаты мен тән қуаты жайлы айтылған . Бұдан біз адам бойындағы қуатты дұрыс пайдаланған жағдайда ғана рухани жағынан жан-жақты өркендеу жолында болатынын көріп отырмыз. Сендердің алдарыңда сәл ғана уақыттан соң өмір сахнасына жол жатыр, оның соқпақты, соқпақсыз жолдарын кезждестіресіңдер, тек ақыл оймен әр нәрсені шеше беріңдер демекпі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1600" spc="-1" strike="noStrike">
                <a:solidFill>
                  <a:srgbClr val="ffffff"/>
                </a:solidFill>
                <a:latin typeface="Arial"/>
              </a:rPr>
              <a:t>Сен де бір кірпіш дүниеге, кетігін тап та, бар қалан демекші өмірде өз орындарыңызда таба біліңізд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427640" y="476280"/>
            <a:ext cx="0" cy="37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920" y="765000"/>
            <a:ext cx="8858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740720" y="6308640"/>
            <a:ext cx="792000" cy="289080"/>
          </a:xfrm>
          <a:custGeom>
            <a:avLst/>
            <a:gdLst>
              <a:gd name="textAreaLeft" fmla="*/ 18720 w 792000"/>
              <a:gd name="textAreaRight" fmla="*/ 773280 w 79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31" h="21600">
                <a:moveTo>
                  <a:pt x="0" y="0"/>
                </a:moveTo>
                <a:lnTo>
                  <a:pt x="59131" y="0"/>
                </a:lnTo>
                <a:lnTo>
                  <a:pt x="59131" y="21600"/>
                </a:lnTo>
                <a:lnTo>
                  <a:pt x="0" y="21600"/>
                </a:lnTo>
                <a:close/>
              </a:path>
              <a:path fill="lightenLess" w="59131" h="21600">
                <a:moveTo>
                  <a:pt x="0" y="0"/>
                </a:moveTo>
                <a:lnTo>
                  <a:pt x="59131" y="0"/>
                </a:lnTo>
                <a:lnTo>
                  <a:pt x="57731" y="1400"/>
                </a:lnTo>
                <a:lnTo>
                  <a:pt x="1400" y="1400"/>
                </a:lnTo>
                <a:close/>
              </a:path>
              <a:path fill="darken" w="59131" h="21600">
                <a:moveTo>
                  <a:pt x="59131" y="0"/>
                </a:moveTo>
                <a:lnTo>
                  <a:pt x="59131" y="21600"/>
                </a:lnTo>
                <a:lnTo>
                  <a:pt x="57731" y="20200"/>
                </a:lnTo>
                <a:lnTo>
                  <a:pt x="57731" y="1400"/>
                </a:lnTo>
                <a:close/>
              </a:path>
              <a:path fill="darkenLess" w="59131" h="21600">
                <a:moveTo>
                  <a:pt x="59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1" y="20200"/>
                </a:lnTo>
                <a:close/>
              </a:path>
              <a:path fill="lighten" w="59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1" h="21600">
                <a:moveTo>
                  <a:pt x="22559" y="8406"/>
                </a:moveTo>
                <a:lnTo>
                  <a:pt x="26989" y="8406"/>
                </a:lnTo>
                <a:lnTo>
                  <a:pt x="31411" y="3794"/>
                </a:lnTo>
                <a:lnTo>
                  <a:pt x="31411" y="17806"/>
                </a:lnTo>
                <a:lnTo>
                  <a:pt x="26989" y="13194"/>
                </a:lnTo>
                <a:lnTo>
                  <a:pt x="22559" y="13194"/>
                </a:lnTo>
                <a:close/>
              </a:path>
              <a:path fill="darken" w="59131" h="21600">
                <a:moveTo>
                  <a:pt x="33065" y="10800"/>
                </a:moveTo>
                <a:lnTo>
                  <a:pt x="36572" y="10800"/>
                </a:lnTo>
              </a:path>
              <a:path fill="darken" w="59131" h="21600">
                <a:moveTo>
                  <a:pt x="33065" y="8406"/>
                </a:moveTo>
                <a:lnTo>
                  <a:pt x="36572" y="5639"/>
                </a:lnTo>
              </a:path>
              <a:path fill="darken" w="59131" h="21600">
                <a:moveTo>
                  <a:pt x="33065" y="13194"/>
                </a:moveTo>
                <a:lnTo>
                  <a:pt x="36572" y="15961"/>
                </a:lnTo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3:37:28Z</dcterms:created>
  <dc:creator>User</dc:creator>
  <dc:description/>
  <dc:language>en-US</dc:language>
  <cp:lastModifiedBy>User</cp:lastModifiedBy>
  <dcterms:modified xsi:type="dcterms:W3CDTF">2009-05-20T03:37:42Z</dcterms:modified>
  <cp:revision>1</cp:revision>
  <dc:subject/>
  <dc:title>Слайд 1</dc:title>
</cp:coreProperties>
</file>