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B3FD-5A24-4EB1-95D0-E298536A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2852-B4B5-4B33-AD7F-D8748AFB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3968-B80E-43F7-BF56-F43A822B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9E50-E1DB-439C-A5E4-AAD2A862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1AE-9D48-43D2-9844-16F00499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558B-A906-4E53-AD08-249FBC55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D476-28FE-4D8E-B4DB-3D0CFFD4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99F7-E2AC-478F-AE3D-EC20170B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BED5-F8CB-44AF-B869-F9AA4190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AA13-E3D7-4F25-AF65-B289CB93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BDB1-7CA1-4D0A-9525-FE3476A1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7D07-461F-460A-8DA7-21A42B0B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652E-09BF-40E0-A90F-CBA9AA5911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535120" y="189000"/>
            <a:ext cx="462924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Панорамалы</a:t>
            </a:r>
            <a:r>
              <a:rPr b="0" lang="kk-KZ" sz="2400" spc="-1" strike="noStrike">
                <a:solidFill>
                  <a:srgbClr val="ccffff"/>
                </a:solidFill>
                <a:latin typeface="Arial"/>
              </a:rPr>
              <a:t>қ сабақ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Күні: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kk-KZ" sz="1800" spc="-1" strike="noStrike" baseline="-25000">
                <a:solidFill>
                  <a:srgbClr val="ffffff"/>
                </a:solidFill>
                <a:latin typeface="Arial"/>
              </a:rPr>
              <a:t>----------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kk-KZ" sz="1800" spc="-1" strike="noStrike" baseline="-25000">
                <a:solidFill>
                  <a:srgbClr val="ffffff"/>
                </a:solidFill>
                <a:latin typeface="Arial"/>
              </a:rPr>
              <a:t>-----------------------------------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kk-KZ" sz="1800" spc="-1" strike="noStrike" baseline="-25000">
                <a:solidFill>
                  <a:srgbClr val="ffffff"/>
                </a:solidFill>
                <a:latin typeface="Arial"/>
              </a:rPr>
              <a:t>-----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ж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Пәні: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Адам және қоғ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ыныбы: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тақырыбы: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дам болам десеңіз... (қорытындылау сабағ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мақсаты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Оқушыны ізденіске жетелеу, оқығанын талдап, мәнін аш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ілімділік: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білуге үйрету, оқушының өзіндік пікірінің қалыптасуы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ықпал жасау, ой қорыта білуге, аз сөзбен түйіндеуге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ағдыланды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дамытушылық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Оқушының жеке тұлға болып қалыптасуына ықпал жаса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танымдық ойлау қабілеттерін дамыту. Философиялық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көзқарастарын қалыптастыруға баул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тәрбиелік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Абай ғақлияларынан ғибрат алуға, адамдық асыл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қасиеттерге ұмтылуға, ізгілікке, имандылыққа тәрбиелеу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Ұлы ойшылдың насихат сөздеріндегіөмірлік тағылымдардың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мағынасын ашып, бүгінгі өмірге байланыстылығын жет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түсіндіру. Адами қасиеттерді бойына сіңіре білуг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ағдыланды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түрі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Ғылыми негіздегі іздену және зерттеу сабағы – дебат үлгіс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әдісі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сұрақ – жауап, пікірталас, топтық жұмы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көрнекілігі: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портреттер, қанатты сөздер жазылған плакаттар, әдеби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кітаптар, Абайдың қара сөздері, өлеңдер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Пәнаралық байланыс: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қазақ әдебиеті, тарих, өмірмен байланы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жоспар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) Ұйымдастыр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) Дебат сабағының жалпы бары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) Мұғалімнің кіріспе сөзі (дебат барысы, ережесімен таныстыру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3) Қорытындыла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4) Оқушыларды бағала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5) Үйге тапсырма бер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 ұйымдастыру барысы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) Алдын – ала сабақ басталмастан бірнеше апта, күн бұрын проблемалық сұрақтар беріліп, оқулықтан тыс Абай шығармаларын іздеп, танысуға тапсырмалар берілед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) Өз еркімен пікірсайысқа қатысушы топта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 топ – 11 сынып оқушыла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 топ – студент жаст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3 топ – жас маманд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4 топ – орта буын ұстазд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3) Проблемалық тақырып «Адам болам десеңіз» дебат ойнының ережесі бойнша жүред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4) Әр топ 6 пікірсайысшыдан тұра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5) Көрермендердің,оқушылардың мақсаты: өткен сабақтарды қайталау,өз көзқарастарын білдіру талдау жасау, баға беру, толықтыру, сұрақ қо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Сабақтың барыс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.Мұғалімнің кіріспе сөзі: Оқушылар! Біз «Адам қоғамның жігерлі субьектісі ат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VI  бөлім тақырыптарын қайталап, қорытындылау ретінде Абайдың мына өлеңіне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назар аударайық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Ғылым таппай мақтанб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Орын таппай баптан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Құмарланып шаттан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Ойнап босқа күлу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ес нәрседен қашық б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ес нәрсеге асық бо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дам болам десеңі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ей отырып. Абайдың  «Адам болам десеңіз...» деген сөзіне пікірсайыс сабағымызды бастаймы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байдың  «Адам болам десеңіз» сөзінің мән – мағыналарын  ашу біздің мақсатымыз. Абайдың айтқан сөзі өмірлік мазмұнын жоймайды - деп филолог Мекемтас Мырзахметов айтқанындай бірнеше сұрақтарға да өз ойымызды білдірейі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.Қазіргі қоғамдағы адамның ролі қанда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.Адам болу міндетіміз б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3.Бақытты болу дегенді қалай түсінеміз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4.Өмірдегі менің мақсатым не? Келешекте мен өз өмірімді қалай құруым керек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5.Абайша айтсақ: Үш - ақ нәрсе адамның қасиеті, ыстық қайрат, нұрлы ақыл, жылы жүрек – дегенді қалай түсінесің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8244000" y="630864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8406"/>
                </a:moveTo>
                <a:lnTo>
                  <a:pt x="16334" y="8406"/>
                </a:lnTo>
                <a:lnTo>
                  <a:pt x="20755" y="3794"/>
                </a:lnTo>
                <a:lnTo>
                  <a:pt x="20755" y="17806"/>
                </a:lnTo>
                <a:lnTo>
                  <a:pt x="16334" y="13194"/>
                </a:lnTo>
                <a:lnTo>
                  <a:pt x="11904" y="13194"/>
                </a:lnTo>
                <a:close/>
              </a:path>
              <a:path fill="darken" w="37820" h="21600">
                <a:moveTo>
                  <a:pt x="22409" y="10800"/>
                </a:moveTo>
                <a:lnTo>
                  <a:pt x="25917" y="10800"/>
                </a:lnTo>
              </a:path>
              <a:path fill="darken" w="37820" h="21600">
                <a:moveTo>
                  <a:pt x="22409" y="8406"/>
                </a:moveTo>
                <a:lnTo>
                  <a:pt x="25917" y="5639"/>
                </a:lnTo>
              </a:path>
              <a:path fill="darken" w="37820" h="21600">
                <a:moveTo>
                  <a:pt x="22409" y="13194"/>
                </a:moveTo>
                <a:lnTo>
                  <a:pt x="25917" y="15961"/>
                </a:lnTo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ебатқа қатысушылар өздерінің ой пікірлерін ашық жеткізе білді. Ұлы философ Абайдың бірнеше қара сөздерінен мысалдар келтіре отырып,пікірлерін дәлелдед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Әл-Фараби: «Адамға ең бірінші білім емес тәрбие беру керек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ыл - парасат күші- адамның ойлауына,пайымдауына,ғылым мен өнерді ұғынуына және жақсы қылық пен жаман қылықты айыруына көмектесетін күш,-деп айтқа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ндеше қоршаған ортаға оң әсер ету үшін адамдар бойында парасаттылық болу керек.Физикалық  құбылыстардағы оң және теріс зарядтар тәрізді адамдардың күнделікті әрекетінде де оң және теріс істердің болатындығын айтт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Қорытындыла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Заман орта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ілімі мен білігін                                                                басында еркі жоқ, суғ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жұмсап заманды билеушілер                                           аққан қаңбақтай беті ауғ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жаққа кетушіл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заманды алға сүйреушілер                                               заманды артқа сүйреушіл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ыл – парасатқа жүгінушіл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4500720" y="2708280"/>
            <a:ext cx="0" cy="24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1116000" y="378936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6877080" y="400536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5003640" y="2708280"/>
            <a:ext cx="151308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 flipH="1">
            <a:off x="1402920" y="2708280"/>
            <a:ext cx="259236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1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4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7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0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3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6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9" dur="50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қылымен, парасатымен заманды алға сүйреу үшін мынадай қасиеттер кере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Arial"/>
              </a:rPr>
              <a:t>Адам бойындағы қасиетте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lang="kk-K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k-KZ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i="1" lang="kk-K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kk-KZ" sz="1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ізгілік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күншілді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мейірімділік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                                              қатігезді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сыпайылық                                                           дөрекілі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имандылық                                                           имансызды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дамгершілік                                                        аманатқа қияна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р – ұят                                                                надандық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далдық                                                               арсызды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парасаттылық                                                      көрсе қызарлы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ізденімпаздық                                                      жалқаулы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талап, еңбек, терең ой,                                       Өсек, өтірік, мақтаншақ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қанағат рахым ойлап қой –                                 Еріншек бекер мал шашпақ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бес асыл іс, көнсеңі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бес нәрсеге асық бо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дам болам десеңіз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ешкім де заманнан тыс болмайды. Бұлардың арасындағы күрес бітпейді. Абайдың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6 – шы қара сөзінде адам бойындағы жан қуаты мен тән қуаты жайлы айтылған . Бұдан біз адам бойындағы қуатты дұрыс пайдаланған жағдайда ғана рухани жағынан жан-жақты өркендеу жолында болатынын көріп отырмыз. Сендердің алдарыңда сәл ғана уақыттан соң өмір сахнасына жол жатыр, оның соқпақты, соқпақсыз жолдарын кезждестіресіңдер, тек ақыл оймен әр нәрсені шеше беріңдер демекпін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Сен де бір кірпіш дүниеге, кетігін тап та, бар қалан демекші өмірде өз орындарыңызда таба біліңізде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4427640" y="476280"/>
            <a:ext cx="0" cy="374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34920" y="765000"/>
            <a:ext cx="8858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7740720" y="6308640"/>
            <a:ext cx="792000" cy="289080"/>
          </a:xfrm>
          <a:custGeom>
            <a:avLst/>
            <a:gdLst>
              <a:gd name="textAreaLeft" fmla="*/ 18720 w 792000"/>
              <a:gd name="textAreaRight" fmla="*/ 773280 w 79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9131" h="21600">
                <a:moveTo>
                  <a:pt x="0" y="0"/>
                </a:moveTo>
                <a:lnTo>
                  <a:pt x="59131" y="0"/>
                </a:lnTo>
                <a:lnTo>
                  <a:pt x="59131" y="21600"/>
                </a:lnTo>
                <a:lnTo>
                  <a:pt x="0" y="21600"/>
                </a:lnTo>
                <a:close/>
              </a:path>
              <a:path fill="lightenLess" w="59131" h="21600">
                <a:moveTo>
                  <a:pt x="0" y="0"/>
                </a:moveTo>
                <a:lnTo>
                  <a:pt x="59131" y="0"/>
                </a:lnTo>
                <a:lnTo>
                  <a:pt x="57731" y="1400"/>
                </a:lnTo>
                <a:lnTo>
                  <a:pt x="1400" y="1400"/>
                </a:lnTo>
                <a:close/>
              </a:path>
              <a:path fill="darken" w="59131" h="21600">
                <a:moveTo>
                  <a:pt x="59131" y="0"/>
                </a:moveTo>
                <a:lnTo>
                  <a:pt x="59131" y="21600"/>
                </a:lnTo>
                <a:lnTo>
                  <a:pt x="57731" y="20200"/>
                </a:lnTo>
                <a:lnTo>
                  <a:pt x="57731" y="1400"/>
                </a:lnTo>
                <a:close/>
              </a:path>
              <a:path fill="darkenLess" w="59131" h="21600">
                <a:moveTo>
                  <a:pt x="59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31" y="20200"/>
                </a:lnTo>
                <a:close/>
              </a:path>
              <a:path fill="lighten" w="59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31" h="21600">
                <a:moveTo>
                  <a:pt x="22559" y="8406"/>
                </a:moveTo>
                <a:lnTo>
                  <a:pt x="26989" y="8406"/>
                </a:lnTo>
                <a:lnTo>
                  <a:pt x="31411" y="3794"/>
                </a:lnTo>
                <a:lnTo>
                  <a:pt x="31411" y="17806"/>
                </a:lnTo>
                <a:lnTo>
                  <a:pt x="26989" y="13194"/>
                </a:lnTo>
                <a:lnTo>
                  <a:pt x="22559" y="13194"/>
                </a:lnTo>
                <a:close/>
              </a:path>
              <a:path fill="darken" w="59131" h="21600">
                <a:moveTo>
                  <a:pt x="33065" y="10800"/>
                </a:moveTo>
                <a:lnTo>
                  <a:pt x="36572" y="10800"/>
                </a:lnTo>
              </a:path>
              <a:path fill="darken" w="59131" h="21600">
                <a:moveTo>
                  <a:pt x="33065" y="8406"/>
                </a:moveTo>
                <a:lnTo>
                  <a:pt x="36572" y="5639"/>
                </a:lnTo>
              </a:path>
              <a:path fill="darken" w="59131" h="21600">
                <a:moveTo>
                  <a:pt x="33065" y="13194"/>
                </a:moveTo>
                <a:lnTo>
                  <a:pt x="36572" y="15961"/>
                </a:lnTo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3:37:28Z</dcterms:created>
  <dc:creator>User</dc:creator>
  <dc:description/>
  <dc:language>en-US</dc:language>
  <cp:lastModifiedBy>User</cp:lastModifiedBy>
  <dcterms:modified xsi:type="dcterms:W3CDTF">2009-05-20T03:37:42Z</dcterms:modified>
  <cp:revision>1</cp:revision>
  <dc:subject/>
  <dc:title>Слайд 1</dc:title>
</cp:coreProperties>
</file>