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740-04E0-4B86-BF4D-89245D65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ABF-60CA-43C3-9CEB-A659A677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088-7421-41D2-A8C7-B1DC454B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040-C3B4-4B96-A1F1-41407EC3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533B-09F1-4A4C-AC7D-2477BB2C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CC7D-7789-4B96-87EB-FC7177F8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663B-6211-412D-8106-2AD5DAE1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7A81-B165-44EE-8830-EFBE8F64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0A86-1CB6-47C0-8128-3D81F228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F0B0-1B80-48AE-AF87-7ED00F5F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8590-FA27-49E2-863E-C88D71B9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EF8-DC85-4035-A268-A7E907F4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7EF8-2F8A-4F08-8333-935D8750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7CEC-76E0-4DDA-A4A5-E3B230E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9471-711A-4964-A3F8-8B93ADA1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C91D-18DA-464B-A881-F5934F11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CC92-6DD5-4F8A-AE9A-907FE158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887-20B6-4588-8FEB-5C2473EF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7BD-71A3-4CD9-B088-6F60F96B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E38-3260-47D4-BF50-82A75087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656-F840-40F1-9BF0-A7BD9290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F66-9063-4BA9-B977-7E2AA9F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52D-1DAC-4508-8093-790C0109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A90-8A4F-4FF6-AE10-311BA43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8B84-D12B-4090-BBEC-DA3CB93A5DE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D6E2-2EC4-47DE-A21A-141B9137AC1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bb5f"/>
                </a:solidFill>
                <a:latin typeface="Comic Sans MS"/>
              </a:rPr>
              <a:t>Основания, классификация, номенклатура, свойств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в 8 кла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Гурько И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Определение. Номенклатура</a:t>
            </a: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bb5f"/>
                </a:solidFill>
                <a:uFillTx/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66bb5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это сложные вещества, в состав которых входят атомы металлов соединенных с одной или несколькими гидроксо</a:t>
            </a:r>
            <a:r>
              <a:rPr b="0" lang="en-US" sz="2800" spc="-1" strike="noStrike">
                <a:solidFill>
                  <a:srgbClr val="66bb5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 групп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гидроксид» + «металла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(OH)2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дроксид железа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Соедините название и формул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йдите соответств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TextBox 3"/>
          <p:cNvGrpSpPr/>
          <p:nvPr/>
        </p:nvGrpSpPr>
        <p:grpSpPr>
          <a:xfrm>
            <a:off x="324000" y="5373720"/>
            <a:ext cx="3614760" cy="639720"/>
            <a:chOff x="324000" y="5373720"/>
            <a:chExt cx="3614760" cy="639720"/>
          </a:xfrm>
        </p:grpSpPr>
        <p:pic>
          <p:nvPicPr>
            <p:cNvPr id="200" name="TextBox 3" descr=""/>
            <p:cNvPicPr/>
            <p:nvPr/>
          </p:nvPicPr>
          <p:blipFill>
            <a:blip r:embed="rId2"/>
            <a:stretch/>
          </p:blipFill>
          <p:spPr>
            <a:xfrm>
              <a:off x="324000" y="537372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3040" y="543852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K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2" name="TextBox 4"/>
          <p:cNvGrpSpPr/>
          <p:nvPr/>
        </p:nvGrpSpPr>
        <p:grpSpPr>
          <a:xfrm>
            <a:off x="250920" y="2421000"/>
            <a:ext cx="3614760" cy="639720"/>
            <a:chOff x="250920" y="2421000"/>
            <a:chExt cx="3614760" cy="639720"/>
          </a:xfrm>
        </p:grpSpPr>
        <p:pic>
          <p:nvPicPr>
            <p:cNvPr id="203" name="TextBox 4" descr=""/>
            <p:cNvPicPr/>
            <p:nvPr/>
          </p:nvPicPr>
          <p:blipFill>
            <a:blip r:embed="rId3"/>
            <a:stretch/>
          </p:blipFill>
          <p:spPr>
            <a:xfrm>
              <a:off x="250920" y="2421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9960" y="24814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Mg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TextBox 5"/>
          <p:cNvGrpSpPr/>
          <p:nvPr/>
        </p:nvGrpSpPr>
        <p:grpSpPr>
          <a:xfrm>
            <a:off x="250920" y="3141720"/>
            <a:ext cx="3614760" cy="641160"/>
            <a:chOff x="250920" y="3141720"/>
            <a:chExt cx="3614760" cy="641160"/>
          </a:xfrm>
        </p:grpSpPr>
        <p:pic>
          <p:nvPicPr>
            <p:cNvPr id="206" name="TextBox 5" descr=""/>
            <p:cNvPicPr/>
            <p:nvPr/>
          </p:nvPicPr>
          <p:blipFill>
            <a:blip r:embed="rId4"/>
            <a:stretch/>
          </p:blipFill>
          <p:spPr>
            <a:xfrm>
              <a:off x="250920" y="3141720"/>
              <a:ext cx="36147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09960" y="32032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Ca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8" name="TextBox 6"/>
          <p:cNvGrpSpPr/>
          <p:nvPr/>
        </p:nvGrpSpPr>
        <p:grpSpPr>
          <a:xfrm>
            <a:off x="250920" y="3860640"/>
            <a:ext cx="3614760" cy="639720"/>
            <a:chOff x="250920" y="3860640"/>
            <a:chExt cx="3614760" cy="639720"/>
          </a:xfrm>
        </p:grpSpPr>
        <p:pic>
          <p:nvPicPr>
            <p:cNvPr id="209" name="TextBox 6" descr=""/>
            <p:cNvPicPr/>
            <p:nvPr/>
          </p:nvPicPr>
          <p:blipFill>
            <a:blip r:embed="rId5"/>
            <a:stretch/>
          </p:blipFill>
          <p:spPr>
            <a:xfrm>
              <a:off x="250920" y="386064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09960" y="392256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Fe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1" name="TextBox 7"/>
          <p:cNvGrpSpPr/>
          <p:nvPr/>
        </p:nvGrpSpPr>
        <p:grpSpPr>
          <a:xfrm>
            <a:off x="250920" y="4653000"/>
            <a:ext cx="3614760" cy="639720"/>
            <a:chOff x="250920" y="4653000"/>
            <a:chExt cx="3614760" cy="639720"/>
          </a:xfrm>
        </p:grpSpPr>
        <p:pic>
          <p:nvPicPr>
            <p:cNvPr id="212" name="TextBox 7" descr=""/>
            <p:cNvPicPr/>
            <p:nvPr/>
          </p:nvPicPr>
          <p:blipFill>
            <a:blip r:embed="rId6"/>
            <a:stretch/>
          </p:blipFill>
          <p:spPr>
            <a:xfrm>
              <a:off x="250920" y="4653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99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Na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4" name="TextBox 8"/>
          <p:cNvGrpSpPr/>
          <p:nvPr/>
        </p:nvGrpSpPr>
        <p:grpSpPr>
          <a:xfrm>
            <a:off x="3924360" y="5373720"/>
            <a:ext cx="3620880" cy="639720"/>
            <a:chOff x="3924360" y="5373720"/>
            <a:chExt cx="3620880" cy="639720"/>
          </a:xfrm>
        </p:grpSpPr>
        <p:pic>
          <p:nvPicPr>
            <p:cNvPr id="215" name="TextBox 8" descr=""/>
            <p:cNvPicPr/>
            <p:nvPr/>
          </p:nvPicPr>
          <p:blipFill>
            <a:blip r:embed="rId7"/>
            <a:stretch/>
          </p:blipFill>
          <p:spPr>
            <a:xfrm>
              <a:off x="3924360" y="5373720"/>
              <a:ext cx="36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87720" y="5438520"/>
              <a:ext cx="34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ьц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7" name="TextBox 9"/>
          <p:cNvGrpSpPr/>
          <p:nvPr/>
        </p:nvGrpSpPr>
        <p:grpSpPr>
          <a:xfrm>
            <a:off x="3995640" y="2421000"/>
            <a:ext cx="3621240" cy="639720"/>
            <a:chOff x="3995640" y="2421000"/>
            <a:chExt cx="3621240" cy="639720"/>
          </a:xfrm>
        </p:grpSpPr>
        <p:pic>
          <p:nvPicPr>
            <p:cNvPr id="218" name="TextBox 9" descr=""/>
            <p:cNvPicPr/>
            <p:nvPr/>
          </p:nvPicPr>
          <p:blipFill>
            <a:blip r:embed="rId8"/>
            <a:stretch/>
          </p:blipFill>
          <p:spPr>
            <a:xfrm>
              <a:off x="3995640" y="2421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59360" y="24814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железа </a:t>
              </a: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(III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0" name="TextBox 10"/>
          <p:cNvGrpSpPr/>
          <p:nvPr/>
        </p:nvGrpSpPr>
        <p:grpSpPr>
          <a:xfrm>
            <a:off x="3995640" y="3141720"/>
            <a:ext cx="3621240" cy="641160"/>
            <a:chOff x="3995640" y="3141720"/>
            <a:chExt cx="3621240" cy="641160"/>
          </a:xfrm>
        </p:grpSpPr>
        <p:pic>
          <p:nvPicPr>
            <p:cNvPr id="221" name="TextBox 10" descr=""/>
            <p:cNvPicPr/>
            <p:nvPr/>
          </p:nvPicPr>
          <p:blipFill>
            <a:blip r:embed="rId9"/>
            <a:stretch/>
          </p:blipFill>
          <p:spPr>
            <a:xfrm>
              <a:off x="3995640" y="3141720"/>
              <a:ext cx="3621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59360" y="32032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натр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3" name="TextBox 11"/>
          <p:cNvGrpSpPr/>
          <p:nvPr/>
        </p:nvGrpSpPr>
        <p:grpSpPr>
          <a:xfrm>
            <a:off x="3995640" y="3860640"/>
            <a:ext cx="3621240" cy="639720"/>
            <a:chOff x="3995640" y="3860640"/>
            <a:chExt cx="3621240" cy="639720"/>
          </a:xfrm>
        </p:grpSpPr>
        <p:pic>
          <p:nvPicPr>
            <p:cNvPr id="224" name="TextBox 11" descr=""/>
            <p:cNvPicPr/>
            <p:nvPr/>
          </p:nvPicPr>
          <p:blipFill>
            <a:blip r:embed="rId10"/>
            <a:stretch/>
          </p:blipFill>
          <p:spPr>
            <a:xfrm>
              <a:off x="3995640" y="386064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59360" y="39225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маг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6" name="TextBox 12"/>
          <p:cNvGrpSpPr/>
          <p:nvPr/>
        </p:nvGrpSpPr>
        <p:grpSpPr>
          <a:xfrm>
            <a:off x="3995640" y="4653000"/>
            <a:ext cx="3621240" cy="639720"/>
            <a:chOff x="3995640" y="4653000"/>
            <a:chExt cx="3621240" cy="639720"/>
          </a:xfrm>
        </p:grpSpPr>
        <p:pic>
          <p:nvPicPr>
            <p:cNvPr id="227" name="TextBox 12" descr=""/>
            <p:cNvPicPr/>
            <p:nvPr/>
          </p:nvPicPr>
          <p:blipFill>
            <a:blip r:embed="rId11"/>
            <a:stretch/>
          </p:blipFill>
          <p:spPr>
            <a:xfrm>
              <a:off x="3995640" y="4653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0593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6.94444E-006 0.20995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85185E-006 L 6.94444E-006 0.20996 E">
                                      <p:cBhvr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6.94444E-006 0.20996 E">
                                      <p:cBhvr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48148E-006 L 6.94444E-006 -0.20996 E">
                                      <p:cBhvr>
                                        <p:cTn id="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22222E-006 L 6.94444E-006 -0.40949 E">
                                      <p:cBhvr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Классифик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2708280"/>
            <a:ext cx="2305080" cy="1008000"/>
          </a:xfrm>
          <a:prstGeom prst="wedgeRoundRectCallout">
            <a:avLst>
              <a:gd name="adj1" fmla="val -48208"/>
              <a:gd name="adj2" fmla="val -9614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растворимые в вод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u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708280"/>
            <a:ext cx="2448000" cy="1008000"/>
          </a:xfrm>
          <a:prstGeom prst="wedgeRoundRectCallout">
            <a:avLst>
              <a:gd name="adj1" fmla="val 110504"/>
              <a:gd name="adj2" fmla="val -104171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творимые в воде (щёлоч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552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чественные реакции для щелоч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5872320"/>
            <a:ext cx="2376360" cy="436320"/>
          </a:xfrm>
          <a:prstGeom prst="rect">
            <a:avLst/>
          </a:prstGeom>
          <a:solidFill>
            <a:srgbClr val="f62eaf"/>
          </a:solidFill>
          <a:ln w="9360">
            <a:solidFill>
              <a:srgbClr val="f62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малин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5872320"/>
            <a:ext cx="2305080" cy="436320"/>
          </a:xfrm>
          <a:prstGeom prst="rect">
            <a:avLst/>
          </a:prstGeom>
          <a:solidFill>
            <a:srgbClr val="fa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есцветн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2320"/>
            <a:ext cx="2447640" cy="43632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Фенолфтале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4600" y="5433840"/>
            <a:ext cx="2400120" cy="438480"/>
          </a:xfrm>
          <a:prstGeom prst="rect">
            <a:avLst/>
          </a:prstGeom>
          <a:solidFill>
            <a:srgbClr val="dff41c"/>
          </a:solidFill>
          <a:ln w="9360">
            <a:solidFill>
              <a:srgbClr val="e2d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жёлт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5433840"/>
            <a:ext cx="2352960" cy="438480"/>
          </a:xfrm>
          <a:prstGeom prst="rect">
            <a:avLst/>
          </a:prstGeom>
          <a:solidFill>
            <a:srgbClr val="f07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анже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33840"/>
            <a:ext cx="2447640" cy="4384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f1311"/>
                </a:solidFill>
                <a:latin typeface="Arial"/>
              </a:rPr>
              <a:t>Метиловый оранжевый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4600" y="5018040"/>
            <a:ext cx="2400120" cy="415800"/>
          </a:xfrm>
          <a:prstGeom prst="rect">
            <a:avLst/>
          </a:prstGeom>
          <a:solidFill>
            <a:srgbClr val="7c5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5018040"/>
            <a:ext cx="2352960" cy="415800"/>
          </a:xfrm>
          <a:prstGeom prst="rect">
            <a:avLst/>
          </a:prstGeom>
          <a:solidFill>
            <a:srgbClr val="a43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фиолет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018040"/>
            <a:ext cx="2447640" cy="41580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Лакму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4600" y="4581360"/>
            <a:ext cx="240012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Щелоч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581360"/>
            <a:ext cx="235296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ейтраль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81360"/>
            <a:ext cx="244764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дикато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458136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0180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4338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232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30864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460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b781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2de2e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2ea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араграф 42 ответить на вопросы 3-6 учебник химия 8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.Н.Нурахметов,К.А. Сарманова, К.М. Жексемб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маты «Мектеп» 200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17:43Z</dcterms:created>
  <dc:creator>1</dc:creator>
  <dc:description/>
  <dc:language>en-US</dc:language>
  <cp:lastModifiedBy>1</cp:lastModifiedBy>
  <dcterms:modified xsi:type="dcterms:W3CDTF">2012-01-30T17:38:06Z</dcterms:modified>
  <cp:revision>2</cp:revision>
  <dc:subject/>
  <dc:title>Основания, классификация, номенклатура, свойства.</dc:title>
</cp:coreProperties>
</file>