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9AC-B6B7-4B96-AD1D-E859F128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90D-74A4-4507-96F8-73B298DA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04A-44F2-439A-AC75-40F0B95F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6695-C851-4782-8854-DB391EE2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A267-5ABA-4C36-B761-65AB92CC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CEEB-BC4E-40E6-AA8B-E4FAC4B0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D25C-416F-4C01-9A7D-D5A332D3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2DE1-63AB-4002-942D-4D103050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AFE0-01D9-4639-B7EA-048BEF7E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C4AF-FDCC-4DFC-998A-34A1E91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13A6-4926-41FC-A5C3-2D8A5F81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37C-C396-4A1B-8EDE-EEC0775C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0298-CF54-4C2B-9C26-629E59D7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065D-566A-4A7D-AD32-C080593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3AEA-CD17-4A57-B155-E3DEDEB5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17AD-0AD8-4243-858A-69D12417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C470-48B6-464A-A673-148746B4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304-53D8-4433-B6BD-DD18FD96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A32-C805-4144-B7D9-A0CEA87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B85-B44E-4459-96B1-96F85B7B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7966-747A-4EA1-827F-4F63256F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1AD-B000-4B3A-A038-F4FAC8C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CF8-21F2-49AF-8684-5B0AA4CC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45A-3EB8-403B-9DF7-34F889D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645A-ABF2-4A4C-A3ED-6D82B7CF77A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8F86-BD4E-41A1-88D9-0802448E4D4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bb5f"/>
                </a:solidFill>
                <a:latin typeface="Comic Sans MS"/>
              </a:rPr>
              <a:t>Основания, классификация, номенклатура, свойства.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116000" y="436572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рок в 8 классе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читель химии Гурько И.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Определение. Номенклатура</a:t>
            </a:r>
            <a:r>
              <a:rPr b="0" lang="en-US" sz="4000" spc="-1" strike="noStrike">
                <a:solidFill>
                  <a:srgbClr val="c1605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bb5f"/>
                </a:solidFill>
                <a:uFillTx/>
                <a:latin typeface="Arial"/>
              </a:rPr>
              <a:t>Основания</a:t>
            </a:r>
            <a:r>
              <a:rPr b="0" lang="ru-RU" sz="3200" spc="-1" strike="noStrike">
                <a:solidFill>
                  <a:srgbClr val="66bb5f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это сложные вещества, в состав которых входят атомы металлов соединенных с одной или несколькими гидроксо</a:t>
            </a:r>
            <a:r>
              <a:rPr b="0" lang="en-US" sz="2800" spc="-1" strike="noStrike">
                <a:solidFill>
                  <a:srgbClr val="66bb5f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66bb5f"/>
                </a:solidFill>
                <a:latin typeface="Arial"/>
              </a:rPr>
              <a:t> группа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гидроксид» + «металла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e(OH)2 –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дроксид железа (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Соедините название и формулу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Найдите соответств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9" name="TextBox 3"/>
          <p:cNvGrpSpPr/>
          <p:nvPr/>
        </p:nvGrpSpPr>
        <p:grpSpPr>
          <a:xfrm>
            <a:off x="324000" y="5373720"/>
            <a:ext cx="3614760" cy="639720"/>
            <a:chOff x="324000" y="5373720"/>
            <a:chExt cx="3614760" cy="639720"/>
          </a:xfrm>
        </p:grpSpPr>
        <p:pic>
          <p:nvPicPr>
            <p:cNvPr id="200" name="TextBox 3" descr=""/>
            <p:cNvPicPr/>
            <p:nvPr/>
          </p:nvPicPr>
          <p:blipFill>
            <a:blip r:embed="rId2"/>
            <a:stretch/>
          </p:blipFill>
          <p:spPr>
            <a:xfrm>
              <a:off x="324000" y="537372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3040" y="543852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K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2" name="TextBox 4"/>
          <p:cNvGrpSpPr/>
          <p:nvPr/>
        </p:nvGrpSpPr>
        <p:grpSpPr>
          <a:xfrm>
            <a:off x="250920" y="2421000"/>
            <a:ext cx="3614760" cy="639720"/>
            <a:chOff x="250920" y="2421000"/>
            <a:chExt cx="3614760" cy="639720"/>
          </a:xfrm>
        </p:grpSpPr>
        <p:pic>
          <p:nvPicPr>
            <p:cNvPr id="203" name="TextBox 4" descr=""/>
            <p:cNvPicPr/>
            <p:nvPr/>
          </p:nvPicPr>
          <p:blipFill>
            <a:blip r:embed="rId3"/>
            <a:stretch/>
          </p:blipFill>
          <p:spPr>
            <a:xfrm>
              <a:off x="250920" y="2421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309960" y="24814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Mg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5" name="TextBox 5"/>
          <p:cNvGrpSpPr/>
          <p:nvPr/>
        </p:nvGrpSpPr>
        <p:grpSpPr>
          <a:xfrm>
            <a:off x="250920" y="3141720"/>
            <a:ext cx="3614760" cy="641160"/>
            <a:chOff x="250920" y="3141720"/>
            <a:chExt cx="3614760" cy="641160"/>
          </a:xfrm>
        </p:grpSpPr>
        <p:pic>
          <p:nvPicPr>
            <p:cNvPr id="206" name="TextBox 5" descr=""/>
            <p:cNvPicPr/>
            <p:nvPr/>
          </p:nvPicPr>
          <p:blipFill>
            <a:blip r:embed="rId4"/>
            <a:stretch/>
          </p:blipFill>
          <p:spPr>
            <a:xfrm>
              <a:off x="250920" y="3141720"/>
              <a:ext cx="36147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309960" y="320328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Ca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08" name="TextBox 6"/>
          <p:cNvGrpSpPr/>
          <p:nvPr/>
        </p:nvGrpSpPr>
        <p:grpSpPr>
          <a:xfrm>
            <a:off x="250920" y="3860640"/>
            <a:ext cx="3614760" cy="639720"/>
            <a:chOff x="250920" y="3860640"/>
            <a:chExt cx="3614760" cy="639720"/>
          </a:xfrm>
        </p:grpSpPr>
        <p:pic>
          <p:nvPicPr>
            <p:cNvPr id="209" name="TextBox 6" descr=""/>
            <p:cNvPicPr/>
            <p:nvPr/>
          </p:nvPicPr>
          <p:blipFill>
            <a:blip r:embed="rId5"/>
            <a:stretch/>
          </p:blipFill>
          <p:spPr>
            <a:xfrm>
              <a:off x="250920" y="386064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09960" y="3922560"/>
              <a:ext cx="3500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Fe(OH)</a:t>
              </a:r>
              <a:r>
                <a:rPr b="0" lang="en-US" sz="1800" spc="-1" strike="noStrike" baseline="-25000">
                  <a:solidFill>
                    <a:srgbClr val="2f1311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1" name="TextBox 7"/>
          <p:cNvGrpSpPr/>
          <p:nvPr/>
        </p:nvGrpSpPr>
        <p:grpSpPr>
          <a:xfrm>
            <a:off x="250920" y="4653000"/>
            <a:ext cx="3614760" cy="639720"/>
            <a:chOff x="250920" y="4653000"/>
            <a:chExt cx="3614760" cy="639720"/>
          </a:xfrm>
        </p:grpSpPr>
        <p:pic>
          <p:nvPicPr>
            <p:cNvPr id="212" name="TextBox 7" descr=""/>
            <p:cNvPicPr/>
            <p:nvPr/>
          </p:nvPicPr>
          <p:blipFill>
            <a:blip r:embed="rId6"/>
            <a:stretch/>
          </p:blipFill>
          <p:spPr>
            <a:xfrm>
              <a:off x="250920" y="4653000"/>
              <a:ext cx="3614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3099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NaOH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4" name="TextBox 8"/>
          <p:cNvGrpSpPr/>
          <p:nvPr/>
        </p:nvGrpSpPr>
        <p:grpSpPr>
          <a:xfrm>
            <a:off x="3924360" y="5373720"/>
            <a:ext cx="3620880" cy="639720"/>
            <a:chOff x="3924360" y="5373720"/>
            <a:chExt cx="3620880" cy="639720"/>
          </a:xfrm>
        </p:grpSpPr>
        <p:pic>
          <p:nvPicPr>
            <p:cNvPr id="215" name="TextBox 8" descr=""/>
            <p:cNvPicPr/>
            <p:nvPr/>
          </p:nvPicPr>
          <p:blipFill>
            <a:blip r:embed="rId7"/>
            <a:stretch/>
          </p:blipFill>
          <p:spPr>
            <a:xfrm>
              <a:off x="3924360" y="5373720"/>
              <a:ext cx="36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3987720" y="5438520"/>
              <a:ext cx="349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ьц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17" name="TextBox 9"/>
          <p:cNvGrpSpPr/>
          <p:nvPr/>
        </p:nvGrpSpPr>
        <p:grpSpPr>
          <a:xfrm>
            <a:off x="3995640" y="2421000"/>
            <a:ext cx="3621240" cy="639720"/>
            <a:chOff x="3995640" y="2421000"/>
            <a:chExt cx="3621240" cy="639720"/>
          </a:xfrm>
        </p:grpSpPr>
        <p:pic>
          <p:nvPicPr>
            <p:cNvPr id="218" name="TextBox 9" descr=""/>
            <p:cNvPicPr/>
            <p:nvPr/>
          </p:nvPicPr>
          <p:blipFill>
            <a:blip r:embed="rId8"/>
            <a:stretch/>
          </p:blipFill>
          <p:spPr>
            <a:xfrm>
              <a:off x="3995640" y="2421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4059360" y="24814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железа </a:t>
              </a:r>
              <a:r>
                <a:rPr b="0" lang="en-US" sz="1800" spc="-1" strike="noStrike">
                  <a:solidFill>
                    <a:srgbClr val="2f1311"/>
                  </a:solidFill>
                  <a:latin typeface="Calibri"/>
                </a:rPr>
                <a:t>(III)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0" name="TextBox 10"/>
          <p:cNvGrpSpPr/>
          <p:nvPr/>
        </p:nvGrpSpPr>
        <p:grpSpPr>
          <a:xfrm>
            <a:off x="3995640" y="3141720"/>
            <a:ext cx="3621240" cy="641160"/>
            <a:chOff x="3995640" y="3141720"/>
            <a:chExt cx="3621240" cy="641160"/>
          </a:xfrm>
        </p:grpSpPr>
        <p:pic>
          <p:nvPicPr>
            <p:cNvPr id="221" name="TextBox 10" descr=""/>
            <p:cNvPicPr/>
            <p:nvPr/>
          </p:nvPicPr>
          <p:blipFill>
            <a:blip r:embed="rId9"/>
            <a:stretch/>
          </p:blipFill>
          <p:spPr>
            <a:xfrm>
              <a:off x="3995640" y="3141720"/>
              <a:ext cx="3621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59360" y="320328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натр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3" name="TextBox 11"/>
          <p:cNvGrpSpPr/>
          <p:nvPr/>
        </p:nvGrpSpPr>
        <p:grpSpPr>
          <a:xfrm>
            <a:off x="3995640" y="3860640"/>
            <a:ext cx="3621240" cy="639720"/>
            <a:chOff x="3995640" y="3860640"/>
            <a:chExt cx="3621240" cy="639720"/>
          </a:xfrm>
        </p:grpSpPr>
        <p:pic>
          <p:nvPicPr>
            <p:cNvPr id="224" name="TextBox 11" descr=""/>
            <p:cNvPicPr/>
            <p:nvPr/>
          </p:nvPicPr>
          <p:blipFill>
            <a:blip r:embed="rId10"/>
            <a:stretch/>
          </p:blipFill>
          <p:spPr>
            <a:xfrm>
              <a:off x="3995640" y="386064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059360" y="39225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маг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6" name="TextBox 12"/>
          <p:cNvGrpSpPr/>
          <p:nvPr/>
        </p:nvGrpSpPr>
        <p:grpSpPr>
          <a:xfrm>
            <a:off x="3995640" y="4653000"/>
            <a:ext cx="3621240" cy="639720"/>
            <a:chOff x="3995640" y="4653000"/>
            <a:chExt cx="3621240" cy="639720"/>
          </a:xfrm>
        </p:grpSpPr>
        <p:pic>
          <p:nvPicPr>
            <p:cNvPr id="227" name="TextBox 12" descr=""/>
            <p:cNvPicPr/>
            <p:nvPr/>
          </p:nvPicPr>
          <p:blipFill>
            <a:blip r:embed="rId11"/>
            <a:stretch/>
          </p:blipFill>
          <p:spPr>
            <a:xfrm>
              <a:off x="3995640" y="4653000"/>
              <a:ext cx="36212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059360" y="4716360"/>
              <a:ext cx="350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2f1311"/>
                  </a:solidFill>
                  <a:latin typeface="Calibri"/>
                </a:rPr>
                <a:t>Гидроксид кал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3.7037E-006 L 6.94444E-006 0.20995 E">
                                      <p:cBhvr>
                                        <p:cTn id="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85185E-006 L 6.94444E-006 0.20996 E">
                                      <p:cBhvr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07407E-006 L 6.94444E-006 0.20996 E">
                                      <p:cBhvr>
                                        <p:cTn id="10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1.48148E-006 L 6.94444E-006 -0.20996 E">
                                      <p:cBhvr>
                                        <p:cTn id="1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2.22222E-006 L 6.94444E-006 -0.40949 E">
                                      <p:cBhvr>
                                        <p:cTn id="1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bb5f"/>
                </a:solidFill>
                <a:latin typeface="Arial"/>
              </a:rPr>
              <a:t>Классификац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основ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91280" y="2708280"/>
            <a:ext cx="2305080" cy="1008000"/>
          </a:xfrm>
          <a:prstGeom prst="wedgeRoundRectCallout">
            <a:avLst>
              <a:gd name="adj1" fmla="val -48208"/>
              <a:gd name="adj2" fmla="val -96143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Нерастворимые в вод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u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Mg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708280"/>
            <a:ext cx="2448000" cy="1008000"/>
          </a:xfrm>
          <a:prstGeom prst="wedgeRoundRectCallout">
            <a:avLst>
              <a:gd name="adj1" fmla="val 110504"/>
              <a:gd name="adj2" fmla="val -104171"/>
              <a:gd name="adj3" fmla="val 16667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Растворимые в воде (щёлочи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NaOH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Ca(OH)</a:t>
            </a:r>
            <a:r>
              <a:rPr b="1" lang="en-US" sz="1800" spc="-1" strike="noStrike" baseline="-25000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3716280"/>
            <a:ext cx="552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Качественные реакции для щелоч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48360" y="5872320"/>
            <a:ext cx="2376360" cy="436320"/>
          </a:xfrm>
          <a:prstGeom prst="rect">
            <a:avLst/>
          </a:prstGeom>
          <a:solidFill>
            <a:srgbClr val="f62eaf"/>
          </a:solidFill>
          <a:ln w="9360">
            <a:solidFill>
              <a:srgbClr val="f62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малин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5872320"/>
            <a:ext cx="2305080" cy="436320"/>
          </a:xfrm>
          <a:prstGeom prst="rect">
            <a:avLst/>
          </a:prstGeom>
          <a:solidFill>
            <a:srgbClr val="faf6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бесцветн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5872320"/>
            <a:ext cx="2447640" cy="43632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Фенолфталеин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24600" y="5433840"/>
            <a:ext cx="2400120" cy="438480"/>
          </a:xfrm>
          <a:prstGeom prst="rect">
            <a:avLst/>
          </a:prstGeom>
          <a:solidFill>
            <a:srgbClr val="dff41c"/>
          </a:solidFill>
          <a:ln w="9360">
            <a:solidFill>
              <a:srgbClr val="e2d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жёлт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5433840"/>
            <a:ext cx="2352960" cy="438480"/>
          </a:xfrm>
          <a:prstGeom prst="rect">
            <a:avLst/>
          </a:prstGeom>
          <a:solidFill>
            <a:srgbClr val="f07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оранже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33840"/>
            <a:ext cx="2447640" cy="4384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2f1311"/>
                </a:solidFill>
                <a:latin typeface="Arial"/>
              </a:rPr>
              <a:t>Метиловый оранжевый</a:t>
            </a:r>
            <a:endParaRPr b="0" lang="en-US" sz="15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4600" y="5018040"/>
            <a:ext cx="2400120" cy="415800"/>
          </a:xfrm>
          <a:prstGeom prst="rect">
            <a:avLst/>
          </a:prstGeom>
          <a:solidFill>
            <a:srgbClr val="7c5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сини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5018040"/>
            <a:ext cx="2352960" cy="415800"/>
          </a:xfrm>
          <a:prstGeom prst="rect">
            <a:avLst/>
          </a:prstGeom>
          <a:solidFill>
            <a:srgbClr val="a43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фиолетовы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5018040"/>
            <a:ext cx="2447640" cy="41580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f1311"/>
                </a:solidFill>
                <a:latin typeface="Arial"/>
              </a:rPr>
              <a:t>Лакмус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24600" y="4581360"/>
            <a:ext cx="240012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Щелоч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71640" y="4581360"/>
            <a:ext cx="235296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Нейтральная сред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4581360"/>
            <a:ext cx="2447640" cy="436680"/>
          </a:xfrm>
          <a:prstGeom prst="rect">
            <a:avLst/>
          </a:prstGeom>
          <a:solidFill>
            <a:srgbClr val="e6d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1311"/>
                </a:solidFill>
                <a:latin typeface="Arial"/>
              </a:rPr>
              <a:t>Индикато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458136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50180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543384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5872320"/>
            <a:ext cx="7200720" cy="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6308640"/>
            <a:ext cx="7200720" cy="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24600" y="4581360"/>
            <a:ext cx="0" cy="1727280"/>
          </a:xfrm>
          <a:prstGeom prst="line">
            <a:avLst/>
          </a:prstGeom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24720" y="4581360"/>
            <a:ext cx="0" cy="1727280"/>
          </a:xfrm>
          <a:prstGeom prst="line">
            <a:avLst/>
          </a:prstGeom>
          <a:ln cap="sq"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5b781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2de2e"/>
                                      </p:to>
                                    </p:animClr>
                                    <p:set>
                                      <p:cBhvr>
                                        <p:cTn id="2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62eaf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араграф 42 ответить на вопросы 3-6 учебник химия 8 класс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.Н.Нурахметов,К.А. Сарманова, К.М. Жексембин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Алматы «Мектеп» 2008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7:17:43Z</dcterms:created>
  <dc:creator>1</dc:creator>
  <dc:description/>
  <dc:language>en-US</dc:language>
  <cp:lastModifiedBy>1</cp:lastModifiedBy>
  <dcterms:modified xsi:type="dcterms:W3CDTF">2012-01-30T17:38:06Z</dcterms:modified>
  <cp:revision>2</cp:revision>
  <dc:subject/>
  <dc:title>Основания, классификация, номенклатура, свойства.</dc:title>
</cp:coreProperties>
</file>