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67C-2AD8-4D60-B730-E0994AC2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B1B-3C1B-44E6-8634-1D6913EA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C7D-3300-49C6-9D31-66D3C9EE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59D-85AD-43D9-8D31-513865E7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FE28-4F39-4DC4-AF11-7C7373B3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F518-05E5-4BD1-8F62-2B7798A8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13B4-34D9-4A90-A1E3-5EC36A1F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3134-6D43-4CD8-B988-C40BD982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C594-3809-4DD3-BD83-43486E4E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4D6D-B10E-4300-B969-67F59C5D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0C1E-2846-4147-8105-943E04A9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3FB-DE7C-40F8-BF6B-B12912A9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254C-1026-44D4-8D24-19CFCFE5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7225-2A64-44D7-A057-9E5C4401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9BE4-C5AD-49EC-AB79-BCA83D36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B1EE-952C-4436-AFCC-48B5AF41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BE49-2D37-40E7-BCD9-5F05322D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EC2-22AB-444A-A613-CC5E1C9E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3D2-5FC3-492A-9083-D0C84ACD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B95-0286-46DF-BC5C-0545E2E3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54F-76DD-406A-99B5-B6A3116F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8A2-77ED-4A4F-A674-DBC89920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C0F-532A-4B3B-B569-21BFDA56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E3B-0161-4659-8528-3E7D3489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21A5-F462-406A-831A-306F9726A1F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582A-44EA-48E7-8DA3-198646F114B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bb5f"/>
                </a:solidFill>
                <a:latin typeface="Comic Sans MS"/>
              </a:rPr>
              <a:t>Основания, классификация, номенклатура, свойства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6000" y="436572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к в 8 класс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Гурько И.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Определение. Номенклатура</a:t>
            </a:r>
            <a:r>
              <a:rPr b="0" lang="en-US" sz="4000" spc="-1" strike="noStrike">
                <a:solidFill>
                  <a:srgbClr val="c1605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bb5f"/>
                </a:solidFill>
                <a:uFillTx/>
                <a:latin typeface="Arial"/>
              </a:rPr>
              <a:t>Основания</a:t>
            </a:r>
            <a:r>
              <a:rPr b="0" lang="ru-RU" sz="3200" spc="-1" strike="noStrike">
                <a:solidFill>
                  <a:srgbClr val="66bb5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это сложные вещества, в состав которых входят атомы металлов соединенных с одной или несколькими гидроксо</a:t>
            </a:r>
            <a:r>
              <a:rPr b="0" lang="en-US" sz="2800" spc="-1" strike="noStrike">
                <a:solidFill>
                  <a:srgbClr val="66bb5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 групп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933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звание: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гидроксид» + «металла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(OH)2 –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идроксид железа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Соедините название и формулу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айдите соответств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TextBox 3"/>
          <p:cNvGrpSpPr/>
          <p:nvPr/>
        </p:nvGrpSpPr>
        <p:grpSpPr>
          <a:xfrm>
            <a:off x="324000" y="5373720"/>
            <a:ext cx="3614760" cy="639720"/>
            <a:chOff x="324000" y="5373720"/>
            <a:chExt cx="3614760" cy="639720"/>
          </a:xfrm>
        </p:grpSpPr>
        <p:pic>
          <p:nvPicPr>
            <p:cNvPr id="200" name="TextBox 3" descr=""/>
            <p:cNvPicPr/>
            <p:nvPr/>
          </p:nvPicPr>
          <p:blipFill>
            <a:blip r:embed="rId2"/>
            <a:stretch/>
          </p:blipFill>
          <p:spPr>
            <a:xfrm>
              <a:off x="324000" y="537372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83040" y="543852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K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2" name="TextBox 4"/>
          <p:cNvGrpSpPr/>
          <p:nvPr/>
        </p:nvGrpSpPr>
        <p:grpSpPr>
          <a:xfrm>
            <a:off x="250920" y="2421000"/>
            <a:ext cx="3614760" cy="639720"/>
            <a:chOff x="250920" y="2421000"/>
            <a:chExt cx="3614760" cy="639720"/>
          </a:xfrm>
        </p:grpSpPr>
        <p:pic>
          <p:nvPicPr>
            <p:cNvPr id="203" name="TextBox 4" descr=""/>
            <p:cNvPicPr/>
            <p:nvPr/>
          </p:nvPicPr>
          <p:blipFill>
            <a:blip r:embed="rId3"/>
            <a:stretch/>
          </p:blipFill>
          <p:spPr>
            <a:xfrm>
              <a:off x="250920" y="2421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09960" y="24814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Mg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5" name="TextBox 5"/>
          <p:cNvGrpSpPr/>
          <p:nvPr/>
        </p:nvGrpSpPr>
        <p:grpSpPr>
          <a:xfrm>
            <a:off x="250920" y="3141720"/>
            <a:ext cx="3614760" cy="641160"/>
            <a:chOff x="250920" y="3141720"/>
            <a:chExt cx="3614760" cy="641160"/>
          </a:xfrm>
        </p:grpSpPr>
        <p:pic>
          <p:nvPicPr>
            <p:cNvPr id="206" name="TextBox 5" descr=""/>
            <p:cNvPicPr/>
            <p:nvPr/>
          </p:nvPicPr>
          <p:blipFill>
            <a:blip r:embed="rId4"/>
            <a:stretch/>
          </p:blipFill>
          <p:spPr>
            <a:xfrm>
              <a:off x="250920" y="3141720"/>
              <a:ext cx="361476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09960" y="32032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Ca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8" name="TextBox 6"/>
          <p:cNvGrpSpPr/>
          <p:nvPr/>
        </p:nvGrpSpPr>
        <p:grpSpPr>
          <a:xfrm>
            <a:off x="250920" y="3860640"/>
            <a:ext cx="3614760" cy="639720"/>
            <a:chOff x="250920" y="3860640"/>
            <a:chExt cx="3614760" cy="639720"/>
          </a:xfrm>
        </p:grpSpPr>
        <p:pic>
          <p:nvPicPr>
            <p:cNvPr id="209" name="TextBox 6" descr=""/>
            <p:cNvPicPr/>
            <p:nvPr/>
          </p:nvPicPr>
          <p:blipFill>
            <a:blip r:embed="rId5"/>
            <a:stretch/>
          </p:blipFill>
          <p:spPr>
            <a:xfrm>
              <a:off x="250920" y="386064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09960" y="392256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Fe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1" name="TextBox 7"/>
          <p:cNvGrpSpPr/>
          <p:nvPr/>
        </p:nvGrpSpPr>
        <p:grpSpPr>
          <a:xfrm>
            <a:off x="250920" y="4653000"/>
            <a:ext cx="3614760" cy="639720"/>
            <a:chOff x="250920" y="4653000"/>
            <a:chExt cx="3614760" cy="639720"/>
          </a:xfrm>
        </p:grpSpPr>
        <p:pic>
          <p:nvPicPr>
            <p:cNvPr id="212" name="TextBox 7" descr=""/>
            <p:cNvPicPr/>
            <p:nvPr/>
          </p:nvPicPr>
          <p:blipFill>
            <a:blip r:embed="rId6"/>
            <a:stretch/>
          </p:blipFill>
          <p:spPr>
            <a:xfrm>
              <a:off x="250920" y="4653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099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Na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4" name="TextBox 8"/>
          <p:cNvGrpSpPr/>
          <p:nvPr/>
        </p:nvGrpSpPr>
        <p:grpSpPr>
          <a:xfrm>
            <a:off x="3924360" y="5373720"/>
            <a:ext cx="3620880" cy="639720"/>
            <a:chOff x="3924360" y="5373720"/>
            <a:chExt cx="3620880" cy="639720"/>
          </a:xfrm>
        </p:grpSpPr>
        <p:pic>
          <p:nvPicPr>
            <p:cNvPr id="215" name="TextBox 8" descr=""/>
            <p:cNvPicPr/>
            <p:nvPr/>
          </p:nvPicPr>
          <p:blipFill>
            <a:blip r:embed="rId7"/>
            <a:stretch/>
          </p:blipFill>
          <p:spPr>
            <a:xfrm>
              <a:off x="3924360" y="5373720"/>
              <a:ext cx="36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987720" y="5438520"/>
              <a:ext cx="349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ьц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7" name="TextBox 9"/>
          <p:cNvGrpSpPr/>
          <p:nvPr/>
        </p:nvGrpSpPr>
        <p:grpSpPr>
          <a:xfrm>
            <a:off x="3995640" y="2421000"/>
            <a:ext cx="3621240" cy="639720"/>
            <a:chOff x="3995640" y="2421000"/>
            <a:chExt cx="3621240" cy="639720"/>
          </a:xfrm>
        </p:grpSpPr>
        <p:pic>
          <p:nvPicPr>
            <p:cNvPr id="218" name="TextBox 9" descr=""/>
            <p:cNvPicPr/>
            <p:nvPr/>
          </p:nvPicPr>
          <p:blipFill>
            <a:blip r:embed="rId8"/>
            <a:stretch/>
          </p:blipFill>
          <p:spPr>
            <a:xfrm>
              <a:off x="3995640" y="2421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059360" y="24814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железа </a:t>
              </a: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(III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0" name="TextBox 10"/>
          <p:cNvGrpSpPr/>
          <p:nvPr/>
        </p:nvGrpSpPr>
        <p:grpSpPr>
          <a:xfrm>
            <a:off x="3995640" y="3141720"/>
            <a:ext cx="3621240" cy="641160"/>
            <a:chOff x="3995640" y="3141720"/>
            <a:chExt cx="3621240" cy="641160"/>
          </a:xfrm>
        </p:grpSpPr>
        <p:pic>
          <p:nvPicPr>
            <p:cNvPr id="221" name="TextBox 10" descr=""/>
            <p:cNvPicPr/>
            <p:nvPr/>
          </p:nvPicPr>
          <p:blipFill>
            <a:blip r:embed="rId9"/>
            <a:stretch/>
          </p:blipFill>
          <p:spPr>
            <a:xfrm>
              <a:off x="3995640" y="3141720"/>
              <a:ext cx="36212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059360" y="32032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натр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3" name="TextBox 11"/>
          <p:cNvGrpSpPr/>
          <p:nvPr/>
        </p:nvGrpSpPr>
        <p:grpSpPr>
          <a:xfrm>
            <a:off x="3995640" y="3860640"/>
            <a:ext cx="3621240" cy="639720"/>
            <a:chOff x="3995640" y="3860640"/>
            <a:chExt cx="3621240" cy="639720"/>
          </a:xfrm>
        </p:grpSpPr>
        <p:pic>
          <p:nvPicPr>
            <p:cNvPr id="224" name="TextBox 11" descr=""/>
            <p:cNvPicPr/>
            <p:nvPr/>
          </p:nvPicPr>
          <p:blipFill>
            <a:blip r:embed="rId10"/>
            <a:stretch/>
          </p:blipFill>
          <p:spPr>
            <a:xfrm>
              <a:off x="3995640" y="386064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059360" y="39225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магн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6" name="TextBox 12"/>
          <p:cNvGrpSpPr/>
          <p:nvPr/>
        </p:nvGrpSpPr>
        <p:grpSpPr>
          <a:xfrm>
            <a:off x="3995640" y="4653000"/>
            <a:ext cx="3621240" cy="639720"/>
            <a:chOff x="3995640" y="4653000"/>
            <a:chExt cx="3621240" cy="639720"/>
          </a:xfrm>
        </p:grpSpPr>
        <p:pic>
          <p:nvPicPr>
            <p:cNvPr id="227" name="TextBox 12" descr=""/>
            <p:cNvPicPr/>
            <p:nvPr/>
          </p:nvPicPr>
          <p:blipFill>
            <a:blip r:embed="rId11"/>
            <a:stretch/>
          </p:blipFill>
          <p:spPr>
            <a:xfrm>
              <a:off x="3995640" y="4653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0593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6 L 6.94444E-006 0.20995 E">
                                      <p:cBhvr>
                                        <p:cTn id="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85185E-006 L 6.94444E-006 0.20996 E">
                                      <p:cBhvr>
                                        <p:cTn id="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07407E-006 L 6.94444E-006 0.20996 E">
                                      <p:cBhvr>
                                        <p:cTn id="1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48148E-006 L 6.94444E-006 -0.20996 E">
                                      <p:cBhvr>
                                        <p:cTn id="1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22222E-006 L 6.94444E-006 -0.40949 E">
                                      <p:cBhvr>
                                        <p:cTn id="1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Классифика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снова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91280" y="2708280"/>
            <a:ext cx="2305080" cy="1008000"/>
          </a:xfrm>
          <a:prstGeom prst="wedgeRoundRectCallout">
            <a:avLst>
              <a:gd name="adj1" fmla="val -48208"/>
              <a:gd name="adj2" fmla="val -96143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ерастворимые в вод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u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g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708280"/>
            <a:ext cx="2448000" cy="1008000"/>
          </a:xfrm>
          <a:prstGeom prst="wedgeRoundRectCallout">
            <a:avLst>
              <a:gd name="adj1" fmla="val 110504"/>
              <a:gd name="adj2" fmla="val -104171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створимые в воде (щёлочи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aOH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a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58920" y="3716280"/>
            <a:ext cx="552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Качественные реакции для щелоче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48360" y="5872320"/>
            <a:ext cx="2376360" cy="436320"/>
          </a:xfrm>
          <a:prstGeom prst="rect">
            <a:avLst/>
          </a:prstGeom>
          <a:solidFill>
            <a:srgbClr val="f62eaf"/>
          </a:solidFill>
          <a:ln w="9360">
            <a:solidFill>
              <a:srgbClr val="f62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малин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5872320"/>
            <a:ext cx="2305080" cy="436320"/>
          </a:xfrm>
          <a:prstGeom prst="rect">
            <a:avLst/>
          </a:prstGeom>
          <a:solidFill>
            <a:srgbClr val="fa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бесцветн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5872320"/>
            <a:ext cx="2447640" cy="43632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Фенолфталеи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24600" y="5433840"/>
            <a:ext cx="2400120" cy="438480"/>
          </a:xfrm>
          <a:prstGeom prst="rect">
            <a:avLst/>
          </a:prstGeom>
          <a:solidFill>
            <a:srgbClr val="dff41c"/>
          </a:solidFill>
          <a:ln w="9360">
            <a:solidFill>
              <a:srgbClr val="e2d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жёлт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5433840"/>
            <a:ext cx="2352960" cy="438480"/>
          </a:xfrm>
          <a:prstGeom prst="rect">
            <a:avLst/>
          </a:prstGeom>
          <a:solidFill>
            <a:srgbClr val="f07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оранже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433840"/>
            <a:ext cx="2447640" cy="4384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f1311"/>
                </a:solidFill>
                <a:latin typeface="Arial"/>
              </a:rPr>
              <a:t>Метиловый оранжевый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4600" y="5018040"/>
            <a:ext cx="2400120" cy="415800"/>
          </a:xfrm>
          <a:prstGeom prst="rect">
            <a:avLst/>
          </a:prstGeom>
          <a:solidFill>
            <a:srgbClr val="7c5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сини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5018040"/>
            <a:ext cx="2352960" cy="415800"/>
          </a:xfrm>
          <a:prstGeom prst="rect">
            <a:avLst/>
          </a:prstGeom>
          <a:solidFill>
            <a:srgbClr val="a43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фиолет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5018040"/>
            <a:ext cx="2447640" cy="41580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Лакмус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24600" y="4581360"/>
            <a:ext cx="240012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Щелоч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71640" y="4581360"/>
            <a:ext cx="235296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Нейтраль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4581360"/>
            <a:ext cx="244764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Индикатор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458136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50180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54338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587232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630864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2460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2472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5b781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2de2e"/>
                                      </p:to>
                                    </p:animClr>
                                    <p:set>
                                      <p:cBhvr>
                                        <p:cTn id="2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2eaf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араграф 42 ответить на вопросы 3-6 учебник химия 8 класс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.Н.Нурахметов,К.А. Сарманова, К.М. Жексемб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лматы «Мектеп» 2008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7:17:43Z</dcterms:created>
  <dc:creator>1</dc:creator>
  <dc:description/>
  <dc:language>en-US</dc:language>
  <cp:lastModifiedBy>1</cp:lastModifiedBy>
  <dcterms:modified xsi:type="dcterms:W3CDTF">2012-01-30T17:38:06Z</dcterms:modified>
  <cp:revision>2</cp:revision>
  <dc:subject/>
  <dc:title>Основания, классификация, номенклатура, свойства.</dc:title>
</cp:coreProperties>
</file>