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F5B0-2DC1-4F73-AD65-C520F03A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A234-118E-44D2-AE4A-791306CA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76CC-9E97-4E26-ACCC-A6D52954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8C91-B02B-41AA-9032-6480AD87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5A1C-A73F-49A8-B358-25085E4A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6DAB-A804-4C39-99FC-8D3A8048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9C95-4098-4B27-9A6E-FEAFA7C9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4CFA-893D-4AEF-BF05-6A7F0336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9A03-1CEE-4196-A54D-6B13B5DD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D0D9-BA6E-493C-9B1C-4CBE9DA1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931E-C6E7-437C-8BB8-D74C13EF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0672-419A-452A-B9EB-2DD7F8D3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4E15-0665-49ED-A03B-37B6B906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CD86-9937-442B-9E71-7BB66086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97FA-71F6-4C8F-BC3B-231CA7DB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9FF1-62E5-412A-8B01-11683423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8D91-39E5-4F3B-A2E6-4B93F86C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2A62-6055-44CD-B037-DDB4FF8C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25B3-BAC6-4E82-B5C4-DEB2F00D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B8FC-2D13-4EF7-BBC5-8A172E35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C0DD-B618-4CB8-841E-8C267D2F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EABC-D85D-42C0-8C74-3DCB7914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9885-F84D-49C7-AC08-27F98285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335E-7DC1-4CB3-88FC-40ABBED5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BC8F-A20B-45E7-ADD7-E125149EA5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4FE5-4C31-445B-B2F1-A7136B8E09B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Сайын </a:t>
            </a: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Мұратбеков </a:t>
            </a:r>
            <a:br>
              <a:rPr sz="5400"/>
            </a:b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(1936-2005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2884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Талдықорған өңірінің Қапал  ауданы  Қоңыр аулында дүниеге келді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86960" y="214200"/>
            <a:ext cx="75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Талдықорған қаласы  Ш.Уәлиханов атындағы №10орта мектеп-гимназияс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1460520" y="5143680"/>
            <a:ext cx="71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Дайындаған: қазақ тілі мен әдебиет пәнінің мұғалімі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Ахметова Анара Әділжанқыз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0"/>
            <a:ext cx="822960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Ертегі айтқыш Аян тағдыры қалай өрілді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Изображение 062"/>
          <p:cNvPicPr/>
          <p:nvPr/>
        </p:nvPicPr>
        <p:blipFill>
          <a:blip r:embed="rId1"/>
          <a:stretch/>
        </p:blipFill>
        <p:spPr>
          <a:xfrm>
            <a:off x="571680" y="1214280"/>
            <a:ext cx="80643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Білімі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1971жылы  Мәскеудегі  М.Горький  атындағы  Әдебиет институты  жанындағы жоғарғы курсты тәмамдай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Оған дейін орта мектепті бітіріп, туған аулында  жұмыс істейді, мұғалім бола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Шығармалар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Жазушының алғашқы әңгімесі 1954 жылы жариялана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Менің қарындасым”,”Ауыл оты”,”Жабайы алма”, “Дос іздеп жүрмін”, “Кәмен-тоғайә, “Жусан иісі”, т,б шығармалары халық арасына кеңінен тараға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усан иісі”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Сабақтың мақсат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11280" y="2103120"/>
            <a:ext cx="82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Білімділік.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Әңгімені оқу,мазмұнын түсіндіру.Әңгіменің идеясын аш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Дамытушылық.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Әңгімені мазмұндау арқылы оқушылардың жүйелі сөйлей алу дағдыларын қалыптасты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Тәрбиелік.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Балалар  бойына ермінезділікті қалыптастыру,табандылыққа, төзімділікке, қайраттылыққа тәрбиеле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Мәтінмен жұмы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.Әңгімені оқу. (Әңгіме алдын ала оқуға беріледі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2.Сөздік жұмысыын жүргізу.Әңгімеден түсініксіз немесе мазмұнын ашу керек сөздер мен сөз тіркестерінің мағынасына түсінік бе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Жарғақ сары тон-                                          тобығы тайған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іш тартып-                                                     жентектеліп еріп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күннің көзі қанталағандай-                         шелдене  қызар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кезерген ерні -                                              қара парға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Times New Roman"/>
              </a:rPr>
              <a:t>Оқулықпен жұмы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Тапсырм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.Мәтін кім туралы? Оқиға қай кезде болған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2.Аян қандай бала еді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3.Аянның әжесі өлгендегі көңіл-күйін кітаптан оқыңдар.(192-бет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4.Балалардың  «Әжесі өлгенде неге жыламайды, ей?!» деген  сөзіне аян неге назар аудармады?Қалай түсінесіңдер? (192-бет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5.Соғыс жылдарындағы ауыл балаларының тағдыры мен тауқыметі қандай болған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6.Аянның бақытты сәті туралы кітаптан оқыңдар. (Әкесі туралы түс көруі) 195-бе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7.Аян ауыл шетіндегі ат қораға не үшін барды?Өз ойларыңды айтыңдар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8.Ауыл балаларының Аянды жақсы көрулерінің себебі не деп ойлайсыңдар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9.Автор  повесті неге «Жусан иісі»  деп атайды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0.Жусан иісі арқылы  жазушы оқырманға қандай ой тастайды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1.Ертегілерінің «Бір жетім бала болыпты» деп басталуының себебі неде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2.Аян мен  әңгімеші баланың бойынан қандай адамгершілік қасиеттерді байқадыңдар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36" name="Diagram 18"/>
          <p:cNvGrpSpPr/>
          <p:nvPr/>
        </p:nvGrpSpPr>
        <p:grpSpPr>
          <a:xfrm>
            <a:off x="948960" y="1846080"/>
            <a:ext cx="7327440" cy="3281400"/>
            <a:chOff x="948960" y="1846080"/>
            <a:chExt cx="7327440" cy="3281400"/>
          </a:xfrm>
        </p:grpSpPr>
        <p:sp>
          <p:nvSpPr>
            <p:cNvPr id="137" name="_s1028"/>
            <p:cNvSpPr/>
            <p:nvPr/>
          </p:nvSpPr>
          <p:spPr>
            <a:xfrm flipH="1">
              <a:off x="2847960" y="4116240"/>
              <a:ext cx="880560" cy="25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_s1029"/>
            <p:cNvSpPr/>
            <p:nvPr/>
          </p:nvSpPr>
          <p:spPr>
            <a:xfrm>
              <a:off x="948960" y="4118040"/>
              <a:ext cx="2036880" cy="10094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Шыдамд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_s1030"/>
            <p:cNvSpPr/>
            <p:nvPr/>
          </p:nvSpPr>
          <p:spPr>
            <a:xfrm>
              <a:off x="5493600" y="4118040"/>
              <a:ext cx="879840" cy="25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_s1031"/>
            <p:cNvSpPr/>
            <p:nvPr/>
          </p:nvSpPr>
          <p:spPr>
            <a:xfrm>
              <a:off x="6239520" y="4116240"/>
              <a:ext cx="203688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Ақылд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_s1032"/>
            <p:cNvSpPr/>
            <p:nvPr/>
          </p:nvSpPr>
          <p:spPr>
            <a:xfrm flipV="1">
              <a:off x="4612680" y="2855880"/>
              <a:ext cx="0" cy="50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3594600" y="1846080"/>
              <a:ext cx="203616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Төзімді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Намысшы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3594600" y="3360600"/>
              <a:ext cx="203616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ffffff"/>
                  </a:solidFill>
                  <a:latin typeface="Times New Roman"/>
                </a:rPr>
                <a:t>Аян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imes New Roman"/>
              </a:rPr>
              <a:t>Оқушылар Аян бейнесіне орай ойларын ортаға салып, әңгімелейд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Дәптермен жұмы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Ойларын жинақтап,Аян бейнесін дәптерлеріне жаз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imes New Roman"/>
              </a:rPr>
              <a:t>Шығармашылық жұмы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Ертегі айтқыш Аян тағдыры қалай өрілді?Аянның прототипі кім? Оның  балалар үйіне  кеткеннен кейінгі өмірі қалай  болд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Аянның прототипі-Науқан Керімов.Сайын Мұратбеков  бұл шығармасының желісін өзінің балалық шағынан алған екен.Демек соғыстан кейінгі  ауыл балаларының тағдыр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Аян, яғни Науқан Керімов бүгінде Ескелді ауданының Ақын Сара  ауылында тұрады.1937 жылы туған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2:27:09Z</dcterms:created>
  <dc:creator>Ахметова</dc:creator>
  <dc:description/>
  <dc:language>en-US</dc:language>
  <cp:lastModifiedBy>Байсеит</cp:lastModifiedBy>
  <dcterms:modified xsi:type="dcterms:W3CDTF">2012-05-11T15:55:30Z</dcterms:modified>
  <cp:revision>14</cp:revision>
  <dc:subject/>
  <dc:title> Сайын Мўратбеков  (1936-2005)</dc:title>
</cp:coreProperties>
</file>