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6FA-E080-489D-B791-723B6A31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887-2A8F-4B3A-A432-8C5B12E8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325-6C7C-4425-B41E-7536E1EB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EFA-5724-40E2-84B6-73784503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03D4-5010-4CA7-BA62-C95C5138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8DC9-AE1E-45D6-ACA1-08E923D0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91A5-1CE3-463D-A394-48CDF842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8C6B-7343-4E8A-9587-BB143F1A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0504-9998-46F0-B8CA-059D80C2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86E7-F61A-4892-844E-00740DAF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7D0-BBB8-4E9D-95BE-F9ED7FE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275-EBEE-484B-89A8-F199E873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417A-2444-48B6-AF58-1F9050F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F1CA-46B7-4328-AA07-5FFB8B4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EEA0-EBDA-4181-8CDC-2E1B7093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3D54-9CA8-4E94-9902-62664C99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14E5-C0E5-4BD4-811F-BA327DB5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D2E-6D0B-4398-B977-E736498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CBD-CAD1-48A5-B794-566C5B77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E00-F8B9-4DD6-9C6B-C4751B8B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F2B-39A6-4051-8D83-1370C7E8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DAC-7DBD-4CC0-B05E-FD8EFA64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304-25F6-4216-8545-1C80AF8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989-CA58-40BD-B187-57B348EF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6E9-9C9E-4762-9696-88710F6D65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807A-D50D-4F1F-BE8B-8F665067D0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Сайын </a:t>
            </a: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Мұратбеков </a:t>
            </a:r>
            <a:br>
              <a:rPr sz="5400"/>
            </a:b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(1936-2005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288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Талдықорған өңірінің Қапал  ауданы  Қоңыр аулында дүниеге келді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86960" y="21420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лдықорған қаласы  Ш.Уәлиханов атындағы №10орта мектеп-гимназияс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460520" y="5143680"/>
            <a:ext cx="71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йындаған: қазақ тілі мен әдебиет пәнінің мұғалім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Ахметова Анара Әділжанқыз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Изображение 062"/>
          <p:cNvPicPr/>
          <p:nvPr/>
        </p:nvPicPr>
        <p:blipFill>
          <a:blip r:embed="rId1"/>
          <a:stretch/>
        </p:blipFill>
        <p:spPr>
          <a:xfrm>
            <a:off x="571680" y="1214280"/>
            <a:ext cx="80643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Білімі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1971жылы  Мәскеудегі  М.Горький  атындағы  Әдебиет институты  жанындағы жоғарғы курсты тәмамдай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Оған дейін орта мектепті бітіріп, туған аулында  жұмыс істейді, мұғалім бол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Шығармала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Жазушының алғашқы әңгімесі 1954 жылы жариялана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Менің қарындасым”,”Ауыл оты”,”Жабайы алма”, “Дос іздеп жүрмін”, “Кәмен-тоғайә, “Жусан иісі”, т,б шығармалары халық арасына кеңінен тарағ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усан иісі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Сабақтың мақсат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11280" y="21031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Білімділік.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оқу,мазмұнын түсіндіру.Әңгіменің идеясын аш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Дамытушылық.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ңгімені мазмұндау арқылы оқушылардың жүйелі сөйлей алу дағдыларын қалыптасты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Тәрбиелік.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алалар  бойына ермінезділікті қалыптастыру,табандылыққа, төзімділікке, қайраттылыққа тәрбиеле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Мәтінмен жұмы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Әңгімені оқу. (Әңгіме алдын ала оқуға беріледі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Сөздік жұмысыын жүргізу.Әңгімеден түсініксіз немесе мазмұнын ашу керек сөздер мен сөз тіркестерінің мағынасына түсінік бер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рғақ сары тон-                                          тобығы тайған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іш тартып-                                                     жентектеліп еріп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үннің көзі қанталағандай-                         шелдене  қызар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зерген ерні -                                              қара парға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Times New Roman"/>
              </a:rPr>
              <a:t>Оқулықпен жұмыс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Тапсырм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.Мәтін кім туралы? Оқиға қай кезде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2.Аян қандай бала еді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3.Аянның әжесі өлгендегі көңіл-күйін кітаптан оқыңдар.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4.Балалардың  «Әжесі өлгенде неге жыламайды, ей?!» деген  сөзіне аян неге назар аудармады?Қалай түсінесіңдер? (192-бет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5.Соғыс жылдарындағы ауыл балаларының тағдыры мен тауқыметі қандай болған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6.Аянның бақытты сәті туралы кітаптан оқыңдар. (Әкесі туралы түс көруі) 195-б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7.Аян ауыл шетіндегі ат қораға не үшін барды?Өз ойларыңды айтыңдар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8.Ауыл балаларының Аянды жақсы көрулерінің себебі не деп ойлайсыңдар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9.Автор  повесті неге «Жусан иісі»  деп а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0.Жусан иісі арқылы  жазушы оқырманға қандай ой тастайды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1.Ертегілерінің «Бір жетім бала болыпты» деп басталуының себебі нед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Times New Roman"/>
              </a:rPr>
              <a:t>12.Аян мен  әңгімеші баланың бойынан қандай адамгершілік қасиеттерді байқадыңдар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6" name="Diagram 18"/>
          <p:cNvGrpSpPr/>
          <p:nvPr/>
        </p:nvGrpSpPr>
        <p:grpSpPr>
          <a:xfrm>
            <a:off x="948960" y="1846080"/>
            <a:ext cx="7327440" cy="3281400"/>
            <a:chOff x="948960" y="1846080"/>
            <a:chExt cx="7327440" cy="3281400"/>
          </a:xfrm>
        </p:grpSpPr>
        <p:sp>
          <p:nvSpPr>
            <p:cNvPr id="137" name="_s1028"/>
            <p:cNvSpPr/>
            <p:nvPr/>
          </p:nvSpPr>
          <p:spPr>
            <a:xfrm flipH="1">
              <a:off x="2847960" y="4116240"/>
              <a:ext cx="88056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>
              <a:off x="948960" y="4118040"/>
              <a:ext cx="2036880" cy="1009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Шыдам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>
              <a:off x="5493600" y="4118040"/>
              <a:ext cx="879840" cy="25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6239520" y="4116240"/>
              <a:ext cx="203688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Ақылд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 flipV="1">
              <a:off x="4612680" y="285588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3594600" y="184608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Төзімд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Times New Roman"/>
                </a:rPr>
                <a:t>Намысшы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3594600" y="3360600"/>
              <a:ext cx="2036160" cy="1009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ffffff"/>
                  </a:solidFill>
                  <a:latin typeface="Times New Roman"/>
                </a:rPr>
                <a:t>Аян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Оқушылар Аян бейнесіне орай ойларын ортаға салып, әңгімел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әптермен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йларын жинақтап,Аян бейнесін дәптерлеріне жаз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</a:rPr>
              <a:t>Шығармашылық жұмы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Ертегі айтқыш Аян тағдыры қалай өрілді?Аянның прототипі кім? Оның  балалар үйіне  кеткеннен кейінгі өмірі қалай  болд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ның прототипі-Науқан Керімов.Сайын Мұратбеков  бұл шығармасының желісін өзінің балалық шағынан алған екен.Демек соғыстан кейінгі  ауыл балаларының тағды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Аян, яғни Науқан Керімов бүгінде Ескелді ауданының Ақын Сара  ауылында тұрады.1937 жылы туға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2:27:09Z</dcterms:created>
  <dc:creator>Ахметова</dc:creator>
  <dc:description/>
  <dc:language>en-US</dc:language>
  <cp:lastModifiedBy>Байсеит</cp:lastModifiedBy>
  <dcterms:modified xsi:type="dcterms:W3CDTF">2012-05-11T15:55:30Z</dcterms:modified>
  <cp:revision>14</cp:revision>
  <dc:subject/>
  <dc:title> Сайын Мўратбеков  (1936-2005)</dc:title>
</cp:coreProperties>
</file>