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4E71-36D4-49DA-AE9A-69E466CA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502D-BEC6-485C-B5C1-6F9CF2EA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41B9-D617-4DCA-AA02-0CB2A1F56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DDDF-758E-4023-979F-8F642B626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7F60-DB31-4D04-8D5F-3FA9DB8D0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67BD-613D-4E8D-9FD1-A04D3382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A7DA-8613-4047-BAD3-94AF67C2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C1FB-C75B-4668-A586-C04B51F1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28E1-BA06-44C6-B9F2-D6D3F23C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FEB4-9497-4A8D-8C6B-5C3504B8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2483-5871-4275-99DA-171013D1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E60C-7C98-407B-BDEB-49AD49DE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FB9C-CC56-45FB-AFDE-5F1E9706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C7AB-F5CC-46FE-A8E6-8EF1127F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DF5D-A25F-4A4D-B93E-BC32206F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4526-DCF6-4370-9CD0-30CB53FF0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0E42-EFF1-4939-8D8E-1788265F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3F75-FA43-414F-A2BD-60239CF8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B5D9-CDD8-4509-A770-542DBF2E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1EC1-3DEB-4048-85CD-7FAB838C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E0E4-ECF3-46B0-9B17-83786F48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E161-F65C-4C6A-8089-E3852342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F858-88ED-4DFB-8DB4-D30DD3B3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CFA3-21DF-4473-A48C-C9265243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2BB5-226B-45F8-873F-6DFFF129B0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F121-94E6-465F-A743-95060F206A3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Сайын </a:t>
            </a:r>
            <a:r>
              <a:rPr b="1" lang="kk-KZ" sz="5400" spc="-1" strike="noStrike">
                <a:solidFill>
                  <a:srgbClr val="feec94"/>
                </a:solidFill>
                <a:latin typeface="Times New Roman"/>
              </a:rPr>
              <a:t>Мұратбеков </a:t>
            </a:r>
            <a:br>
              <a:rPr sz="5400"/>
            </a:br>
            <a:r>
              <a:rPr b="1" lang="kk-KZ" sz="5400" spc="-1" strike="noStrike">
                <a:solidFill>
                  <a:srgbClr val="feec94"/>
                </a:solidFill>
                <a:latin typeface="Times New Roman"/>
              </a:rPr>
              <a:t>(1936-2005)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2884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Талдықорған өңірінің Қапал  ауданы  Қоңыр аулында дүниеге келді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86960" y="214200"/>
            <a:ext cx="75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Талдықорған қаласы  Ш.Уәлиханов атындағы №10орта мектеп-гимназияс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1460520" y="5143680"/>
            <a:ext cx="711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Дайындаған: қазақ тілі мен әдебиет пәнінің мұғалімі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Ахметова Анара Әділжанқыз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1280" y="0"/>
            <a:ext cx="822960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Ертегі айтқыш Аян тағдыры қалай өрілді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Изображение 062"/>
          <p:cNvPicPr/>
          <p:nvPr/>
        </p:nvPicPr>
        <p:blipFill>
          <a:blip r:embed="rId1"/>
          <a:stretch/>
        </p:blipFill>
        <p:spPr>
          <a:xfrm>
            <a:off x="571680" y="1214280"/>
            <a:ext cx="806436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Білімі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1971жылы  Мәскеудегі  М.Горький  атындағы  Әдебиет институты  жанындағы жоғарғы курсты тәмамдай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Оған дейін орта мектепті бітіріп, туған аулында  жұмыс істейді, мұғалім бола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Шығармалары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Жазушының алғашқы әңгімесі 1954 жылы жариялана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Менің қарындасым”,”Ауыл оты”,”Жабайы алма”, “Дос іздеп жүрмін”, “Кәмен-тоғайә, “Жусан иісі”, т,б шығармалары халық арасына кеңінен тараға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Жусан иісі”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Сабақтың мақсат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11280" y="2103120"/>
            <a:ext cx="82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Білімділік.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Әңгімені оқу,мазмұнын түсіндіру.Әңгіменің идеясын аш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Дамытушылық.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Әңгімені мазмұндау арқылы оқушылардың жүйелі сөйлей алу дағдыларын қалыптастыр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Тәрбиелік.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Балалар  бойына ермінезділікті қалыптастыру,табандылыққа, төзімділікке, қайраттылыққа тәрбиеле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Мәтінмен жұмы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1.Әңгімені оқу. (Әңгіме алдын ала оқуға беріледі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2.Сөздік жұмысыын жүргізу.Әңгімеден түсініксіз немесе мазмұнын ашу керек сөздер мен сөз тіркестерінің мағынасына түсінік бер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Жарғақ сары тон-                                          тобығы тайған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іш тартып-                                                     жентектеліп еріп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күннің көзі қанталағандай-                         шелдене  қызар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кезерген ерні -                                              қара парға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ffff"/>
                </a:solidFill>
                <a:latin typeface="Times New Roman"/>
              </a:rPr>
              <a:t>Оқулықпен жұмыс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Тапсырм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.Мәтін кім туралы? Оқиға қай кезде болған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2.Аян қандай бала еді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3.Аянның әжесі өлгендегі көңіл-күйін кітаптан оқыңдар.(192-бет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4.Балалардың  «Әжесі өлгенде неге жыламайды, ей?!» деген  сөзіне аян неге назар аудармады?Қалай түсінесіңдер? (192-бет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5.Соғыс жылдарындағы ауыл балаларының тағдыры мен тауқыметі қандай болған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6.Аянның бақытты сәті туралы кітаптан оқыңдар. (Әкесі туралы түс көруі) 195-бе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7.Аян ауыл шетіндегі ат қораға не үшін барды?Өз ойларыңды айтыңдар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8.Ауыл балаларының Аянды жақсы көрулерінің себебі не деп ойлайсыңдар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9.Автор  повесті неге «Жусан иісі»  деп атайды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0.Жусан иісі арқылы  жазушы оқырманға қандай ой тастайды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1.Ертегілерінің «Бір жетім бала болыпты» деп басталуының себебі неде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2.Аян мен  әңгімеші баланың бойынан қандай адамгершілік қасиеттерді байқадыңдар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36" name="Diagram 18"/>
          <p:cNvGrpSpPr/>
          <p:nvPr/>
        </p:nvGrpSpPr>
        <p:grpSpPr>
          <a:xfrm>
            <a:off x="948960" y="1846080"/>
            <a:ext cx="7327440" cy="3281400"/>
            <a:chOff x="948960" y="1846080"/>
            <a:chExt cx="7327440" cy="3281400"/>
          </a:xfrm>
        </p:grpSpPr>
        <p:sp>
          <p:nvSpPr>
            <p:cNvPr id="137" name="_s1028"/>
            <p:cNvSpPr/>
            <p:nvPr/>
          </p:nvSpPr>
          <p:spPr>
            <a:xfrm flipH="1">
              <a:off x="2847960" y="4116240"/>
              <a:ext cx="880560" cy="25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_s1029"/>
            <p:cNvSpPr/>
            <p:nvPr/>
          </p:nvSpPr>
          <p:spPr>
            <a:xfrm>
              <a:off x="948960" y="4118040"/>
              <a:ext cx="2036880" cy="10094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Шыдамд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_s1030"/>
            <p:cNvSpPr/>
            <p:nvPr/>
          </p:nvSpPr>
          <p:spPr>
            <a:xfrm>
              <a:off x="5493600" y="4118040"/>
              <a:ext cx="879840" cy="25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_s1031"/>
            <p:cNvSpPr/>
            <p:nvPr/>
          </p:nvSpPr>
          <p:spPr>
            <a:xfrm>
              <a:off x="6239520" y="4116240"/>
              <a:ext cx="2036880" cy="1009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Ақылд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_s1032"/>
            <p:cNvSpPr/>
            <p:nvPr/>
          </p:nvSpPr>
          <p:spPr>
            <a:xfrm flipV="1">
              <a:off x="4612680" y="2855880"/>
              <a:ext cx="0" cy="504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_s1033"/>
            <p:cNvSpPr/>
            <p:nvPr/>
          </p:nvSpPr>
          <p:spPr>
            <a:xfrm>
              <a:off x="3594600" y="1846080"/>
              <a:ext cx="2036160" cy="1009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Төзімді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Намысшыл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_s1034"/>
            <p:cNvSpPr/>
            <p:nvPr/>
          </p:nvSpPr>
          <p:spPr>
            <a:xfrm>
              <a:off x="3594600" y="3360600"/>
              <a:ext cx="2036160" cy="1009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800" spc="-1" strike="noStrike">
                  <a:solidFill>
                    <a:srgbClr val="ffffff"/>
                  </a:solidFill>
                  <a:latin typeface="Times New Roman"/>
                </a:rPr>
                <a:t>Аян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Times New Roman"/>
              </a:rPr>
              <a:t>Оқушылар Аян бейнесіне орай ойларын ортаға салып, әңгімелейді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Дәптермен жұмы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Ойларын жинақтап,Аян бейнесін дәптерлеріне жаз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Times New Roman"/>
              </a:rPr>
              <a:t>Шығармашылық жұмы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Ертегі айтқыш Аян тағдыры қалай өрілді?Аянның прототипі кім? Оның  балалар үйіне  кеткеннен кейінгі өмірі қалай  болды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Аянның прототипі-Науқан Керімов.Сайын Мұратбеков  бұл шығармасының желісін өзінің балалық шағынан алған екен.Демек соғыстан кейінгі  ауыл балаларының тағдыр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Аян, яғни Науқан Керімов бүгінде Ескелді ауданының Ақын Сара  ауылында тұрады.1937 жылы туған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2:27:09Z</dcterms:created>
  <dc:creator>Ахметова</dc:creator>
  <dc:description/>
  <dc:language>en-US</dc:language>
  <cp:lastModifiedBy>Байсеит</cp:lastModifiedBy>
  <dcterms:modified xsi:type="dcterms:W3CDTF">2012-05-11T15:55:30Z</dcterms:modified>
  <cp:revision>14</cp:revision>
  <dc:subject/>
  <dc:title> Сайын Мўратбеков  (1936-2005)</dc:title>
</cp:coreProperties>
</file>