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D8BF-41B3-42E6-93AA-AB69EC37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B98E-1E4C-4539-8225-2A8A5CC7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2B62-4D78-455C-B7F0-50CA6452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C64-6580-4B5C-8AC9-5BF1F263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90DF-9758-4074-97E3-F0E53CA2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DAEA-B47D-44D0-BDA5-84741826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D0E1-08B8-4612-8553-12CCF7B3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397B-71FC-4A71-8036-50DA8B8D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79FB-4E91-433F-8C8F-771661A3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A09C-93E1-48CA-B045-DD039947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A6C4-92C9-4CD7-80E7-428C0EF4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32E0-9C5F-439F-BB99-A25DBDB4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D014-B79D-44E8-8589-2B771008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CDE0-5EA8-4C52-81B1-E9DB22EF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5064-618D-4383-9057-1E8A2D70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33DA-86ED-4676-81AE-E125CFD3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F948-82D2-4400-86DF-62B51D4B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0A96-B782-48C8-8F75-4F62D6E4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8381-E06E-44F4-8A6E-F9CD1E0F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1AEC-9A05-4152-9AE2-9CF5DA63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F6C1-3AC4-44D6-BC5F-D1B4D73B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0E44-4E64-413F-A59E-07CB66FC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60DD-44E6-48FD-9114-E421D1E6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823A-1396-4D0E-9FE7-51016B19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77E2-1AA5-4856-8775-DB64C94ABA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9C6F-7A53-483C-8AAF-0C1C1D8FE8E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Сайын </a:t>
            </a: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Мұратбеков </a:t>
            </a:r>
            <a:br>
              <a:rPr sz="5400"/>
            </a:b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(1936-2005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2884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Талдықорған өңірінің Қапал  ауданы  Қоңыр аулында дүниеге келді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86960" y="214200"/>
            <a:ext cx="75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Талдықорған қаласы  Ш.Уәлиханов атындағы №10орта мектеп-гимназияс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1460520" y="5143680"/>
            <a:ext cx="71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Дайындаған: қазақ тілі мен әдебиет пәнінің мұғалімі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Ахметова Анара Әділжанқыз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0"/>
            <a:ext cx="822960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Ертегі айтқыш Аян тағдыры қалай өрілді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Изображение 062"/>
          <p:cNvPicPr/>
          <p:nvPr/>
        </p:nvPicPr>
        <p:blipFill>
          <a:blip r:embed="rId1"/>
          <a:stretch/>
        </p:blipFill>
        <p:spPr>
          <a:xfrm>
            <a:off x="571680" y="1214280"/>
            <a:ext cx="80643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Білімі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1971жылы  Мәскеудегі  М.Горький  атындағы  Әдебиет институты  жанындағы жоғарғы курсты тәмамдай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Оған дейін орта мектепті бітіріп, туған аулында  жұмыс істейді, мұғалім бола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Шығармалар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Жазушының алғашқы әңгімесі 1954 жылы жариялана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Менің қарындасым”,”Ауыл оты”,”Жабайы алма”, “Дос іздеп жүрмін”, “Кәмен-тоғайә, “Жусан иісі”, т,б шығармалары халық арасына кеңінен тараға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усан иісі”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Сабақтың мақсат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11280" y="2103120"/>
            <a:ext cx="82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Білімділік.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Әңгімені оқу,мазмұнын түсіндіру.Әңгіменің идеясын аш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Дамытушылық.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Әңгімені мазмұндау арқылы оқушылардың жүйелі сөйлей алу дағдыларын қалыптасты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Тәрбиелік.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Балалар  бойына ермінезділікті қалыптастыру,табандылыққа, төзімділікке, қайраттылыққа тәрбиеле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Мәтінмен жұмы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.Әңгімені оқу. (Әңгіме алдын ала оқуға беріледі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2.Сөздік жұмысыын жүргізу.Әңгімеден түсініксіз немесе мазмұнын ашу керек сөздер мен сөз тіркестерінің мағынасына түсінік бе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Жарғақ сары тон-                                          тобығы тайған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іш тартып-                                                     жентектеліп еріп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күннің көзі қанталағандай-                         шелдене  қызар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кезерген ерні -                                              қара парға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Times New Roman"/>
              </a:rPr>
              <a:t>Оқулықпен жұмыс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Тапсырм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.Мәтін кім туралы? Оқиға қай кезде болған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2.Аян қандай бала еді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3.Аянның әжесі өлгендегі көңіл-күйін кітаптан оқыңдар.(192-бет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4.Балалардың  «Әжесі өлгенде неге жыламайды, ей?!» деген  сөзіне аян неге назар аудармады?Қалай түсінесіңдер? (192-бет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5.Соғыс жылдарындағы ауыл балаларының тағдыры мен тауқыметі қандай болған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6.Аянның бақытты сәті туралы кітаптан оқыңдар. (Әкесі туралы түс көруі) 195-бе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7.Аян ауыл шетіндегі ат қораға не үшін барды?Өз ойларыңды айтыңдар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8.Ауыл балаларының Аянды жақсы көрулерінің себебі не деп ойлайсыңдар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9.Автор  повесті неге «Жусан иісі»  деп атайды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0.Жусан иісі арқылы  жазушы оқырманға қандай ой тастайды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1.Ертегілерінің «Бір жетім бала болыпты» деп басталуының себебі неде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2.Аян мен  әңгімеші баланың бойынан қандай адамгершілік қасиеттерді байқадыңдар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36" name="Diagram 18"/>
          <p:cNvGrpSpPr/>
          <p:nvPr/>
        </p:nvGrpSpPr>
        <p:grpSpPr>
          <a:xfrm>
            <a:off x="948960" y="1846080"/>
            <a:ext cx="7327440" cy="3281400"/>
            <a:chOff x="948960" y="1846080"/>
            <a:chExt cx="7327440" cy="3281400"/>
          </a:xfrm>
        </p:grpSpPr>
        <p:sp>
          <p:nvSpPr>
            <p:cNvPr id="137" name="_s1028"/>
            <p:cNvSpPr/>
            <p:nvPr/>
          </p:nvSpPr>
          <p:spPr>
            <a:xfrm flipH="1">
              <a:off x="2847960" y="4116240"/>
              <a:ext cx="880560" cy="25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_s1029"/>
            <p:cNvSpPr/>
            <p:nvPr/>
          </p:nvSpPr>
          <p:spPr>
            <a:xfrm>
              <a:off x="948960" y="4118040"/>
              <a:ext cx="2036880" cy="10094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Шыдамд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_s1030"/>
            <p:cNvSpPr/>
            <p:nvPr/>
          </p:nvSpPr>
          <p:spPr>
            <a:xfrm>
              <a:off x="5493600" y="4118040"/>
              <a:ext cx="879840" cy="25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_s1031"/>
            <p:cNvSpPr/>
            <p:nvPr/>
          </p:nvSpPr>
          <p:spPr>
            <a:xfrm>
              <a:off x="6239520" y="4116240"/>
              <a:ext cx="203688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Ақылд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_s1032"/>
            <p:cNvSpPr/>
            <p:nvPr/>
          </p:nvSpPr>
          <p:spPr>
            <a:xfrm flipV="1">
              <a:off x="4612680" y="2855880"/>
              <a:ext cx="0" cy="50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3594600" y="1846080"/>
              <a:ext cx="203616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Төзімді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Намысшы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3594600" y="3360600"/>
              <a:ext cx="203616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ffffff"/>
                  </a:solidFill>
                  <a:latin typeface="Times New Roman"/>
                </a:rPr>
                <a:t>Аян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imes New Roman"/>
              </a:rPr>
              <a:t>Оқушылар Аян бейнесіне орай ойларын ортаға салып, әңгімелейд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Дәптермен жұмы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Ойларын жинақтап,Аян бейнесін дәптерлеріне жаз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imes New Roman"/>
              </a:rPr>
              <a:t>Шығармашылық жұмы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Ертегі айтқыш Аян тағдыры қалай өрілді?Аянның прототипі кім? Оның  балалар үйіне  кеткеннен кейінгі өмірі қалай  болд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Аянның прототипі-Науқан Керімов.Сайын Мұратбеков  бұл шығармасының желісін өзінің балалық шағынан алған екен.Демек соғыстан кейінгі  ауыл балаларының тағдыр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Аян, яғни Науқан Керімов бүгінде Ескелді ауданының Ақын Сара  ауылында тұрады.1937 жылы туған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2:27:09Z</dcterms:created>
  <dc:creator>Ахметова</dc:creator>
  <dc:description/>
  <dc:language>en-US</dc:language>
  <cp:lastModifiedBy>Байсеит</cp:lastModifiedBy>
  <dcterms:modified xsi:type="dcterms:W3CDTF">2012-05-11T15:55:30Z</dcterms:modified>
  <cp:revision>14</cp:revision>
  <dc:subject/>
  <dc:title> Сайын Мўратбеков  (1936-2005)</dc:title>
</cp:coreProperties>
</file>