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CF7-5867-4547-9A68-F5B2D730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4AC-ECBB-4C1B-A17B-316C2F2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206-F468-4EA0-826A-30F67CEE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B8C-1814-4F22-8B24-D3D31B9E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C7CE-18B0-4B8B-97D7-68D9C678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9A0C-4D1B-4A7F-AC71-60C66EC8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CBE6-0048-44CD-AF14-29D87A9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50C3-CA76-43CA-8030-F850308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D277-8236-4FD6-9529-DF23007E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64D8-89C5-4ED9-9BBD-FA04A064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9068-1D2D-4CFD-8784-1519EF23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972-22F0-4968-9BB1-7CDF9438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8169-C6E8-443C-B5C5-14E13E0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D223-7D2C-4DCE-A2D0-1F47BBFA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0A46-0415-4AB5-BD81-B0996B2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2561-4FF3-41B1-9388-E5393C47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0341-6D24-47F9-B107-00E37C53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0CA-BF62-4D5F-BD70-60B4ABDF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204-5FDB-4E78-BF28-7B02EF04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306-CB0C-4817-8FFE-FF71D943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AA6-03FB-4A03-92FA-296D7B64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9F4-2F51-41D0-A217-F64DE6C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4D0-EA3C-414F-A5B0-E8F46DEC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1DB-FCD5-43FE-BA2B-FEFE653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FFE4-B998-4858-A298-AF1834A32E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1603-1EE6-41AB-A636-C3B6243833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Алматы облысы Жамбыл ауданы</a:t>
            </a:r>
            <a:br>
              <a:rPr sz="2400"/>
            </a:b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 Үңгіртас орта мектебі қазақ тілі мен әдебиеті пәні мұғалімі  Бопатаева Динара Тондыбайқыз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Оқушыларға жаңа тақырыпты өз бетінше меңгерту мақсатында өткізілген сабақ жосп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Шортанбай өлеңіндегі мұсылман дініне байланысты енген араб сөздерін тауып ж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eaeaea"/>
                </a:solidFill>
                <a:latin typeface="Tahoma"/>
              </a:rPr>
              <a:t>Шортанбай Қанайұлын сендер қаншалықты таныдыңдар, қай жағынан бағаладыңдар.  Мына кестені толтыру арқылы өздеріңді тексеріңде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409760"/>
          <a:ext cx="7543800" cy="5546520"/>
        </p:xfrm>
        <a:graphic>
          <a:graphicData uri="http://schemas.openxmlformats.org/drawingml/2006/table">
            <a:tbl>
              <a:tblPr/>
              <a:tblGrid>
                <a:gridCol w="573120"/>
                <a:gridCol w="3283200"/>
                <a:gridCol w="1842840"/>
                <a:gridCol w="184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ртанбай Қанайұ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о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ресе бітір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үре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ыр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ан жыршы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нш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інд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йты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ыншыл реа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Үйге  тапсырма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.Ш.Қанайұлы «Зар заман» өлеңінен үзінді жатта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Айтыскер ақындығы туралы мәліметтер жинастырып к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Үй тапсырмасы.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Д.Бабатайұлы өмірі мен шығармашылығы жайлы сұрау және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 “О, Ақтан жас” өлеңіне құрылған жоспарларын тексер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Өлеңнің жоспа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/Жетімд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/Тоқшы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/Бозбала шақ, ғашық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/Жастық шақ, батыр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Ел қорғ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/Орындалған 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/Үмі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Шортанбай Қанайұлы</a:t>
            </a:r>
            <a:br>
              <a:rPr sz="4400"/>
            </a:b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(1818-188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Сабақтың мақс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қынның өмірі мен шығармашылығы жайлы білімді өз бетім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ңг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aeaea"/>
                </a:solidFill>
                <a:latin typeface="Tahoma"/>
              </a:rPr>
              <a:t>Оқулықтан, интернеттен төмендегі сұрақтарға жауаптар іздейміз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мір сүрген заман қандай ед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 билеу жүйесінде қандай өзгерістер бо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з заманын неге «зар заман» деп ат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ұл өз дәуіріне риза болмай, түңілуден, үмітсіздіктен, сары уайымнан туған б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дың осы бір  «зар заман» деген сөзі не себепті кейінгі бір тұтас дәуірдің атына айна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не себепті дінге сүйеніп, құдайдың құдіретіне бас июге шақыр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Ақын заман өзгерісіне сай адам бойында қандай құндылықтардың жоғалып, қандай жаман қылықтардың шығып жатқанына қынжы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Төмендегі өлеңдері нені дәлелдеу үшін жазылған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0" name="Organization Chart 4"/>
          <p:cNvGrpSpPr/>
          <p:nvPr/>
        </p:nvGrpSpPr>
        <p:grpSpPr>
          <a:xfrm>
            <a:off x="250920" y="1981080"/>
            <a:ext cx="8892360" cy="4543200"/>
            <a:chOff x="250920" y="1981080"/>
            <a:chExt cx="8892360" cy="4543200"/>
          </a:xfrm>
        </p:grpSpPr>
        <p:cxnSp>
          <p:nvCxnSpPr>
            <p:cNvPr id="121" name="_s1028"/>
            <p:cNvCxnSpPr>
              <a:stCxn id="122" idx="1"/>
              <a:endCxn id="123" idx="2"/>
            </p:cNvCxnSpPr>
            <p:nvPr/>
          </p:nvCxnSpPr>
          <p:spPr>
            <a:xfrm rot="10800000">
              <a:off x="2917440" y="2514600"/>
              <a:ext cx="890280" cy="374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1"/>
              <a:endCxn id="123" idx="2"/>
            </p:cNvCxnSpPr>
            <p:nvPr/>
          </p:nvCxnSpPr>
          <p:spPr>
            <a:xfrm rot="10800000">
              <a:off x="2917440" y="2514600"/>
              <a:ext cx="890280" cy="29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1"/>
              <a:endCxn id="123" idx="2"/>
            </p:cNvCxnSpPr>
            <p:nvPr/>
          </p:nvCxnSpPr>
          <p:spPr>
            <a:xfrm rot="10800000">
              <a:off x="2917440" y="2514600"/>
              <a:ext cx="890280" cy="213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3" idx="2"/>
            </p:cNvCxnSpPr>
            <p:nvPr/>
          </p:nvCxnSpPr>
          <p:spPr>
            <a:xfrm rot="10800000">
              <a:off x="2917440" y="2514600"/>
              <a:ext cx="890280" cy="133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1"/>
              <a:endCxn id="123" idx="2"/>
            </p:cNvCxnSpPr>
            <p:nvPr/>
          </p:nvCxnSpPr>
          <p:spPr>
            <a:xfrm rot="10800000">
              <a:off x="2917440" y="2514600"/>
              <a:ext cx="890280" cy="5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3"/>
            <p:cNvSpPr/>
            <p:nvPr/>
          </p:nvSpPr>
          <p:spPr>
            <a:xfrm>
              <a:off x="250920" y="198108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Шортанбай зар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807720" y="278280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Зар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3807720" y="35845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Келер 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3807720" y="43862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Жарлының жаны берік-ті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807720" y="51883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Бір насихат айтайы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3807720" y="59900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Қалықтаған сұңқар ем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4"/>
          <p:cNvGrpSpPr/>
          <p:nvPr/>
        </p:nvGrpSpPr>
        <p:grpSpPr>
          <a:xfrm>
            <a:off x="71280" y="1916280"/>
            <a:ext cx="9072360" cy="4241160"/>
            <a:chOff x="71280" y="1916280"/>
            <a:chExt cx="9072360" cy="4241160"/>
          </a:xfrm>
        </p:grpSpPr>
        <p:cxnSp>
          <p:nvCxnSpPr>
            <p:cNvPr id="133" name="_s2052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43976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3"/>
            <p:cNvCxnSpPr>
              <a:stCxn id="137" idx="0"/>
              <a:endCxn id="135" idx="2"/>
            </p:cNvCxnSpPr>
            <p:nvPr/>
          </p:nvCxnSpPr>
          <p:spPr>
            <a:xfrm flipV="1">
              <a:off x="693108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4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589140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5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2792520" y="4056480"/>
              <a:ext cx="531000" cy="155052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56"/>
            <p:cNvCxnSpPr>
              <a:stCxn id="144" idx="0"/>
              <a:endCxn id="142" idx="2"/>
            </p:cNvCxnSpPr>
            <p:nvPr/>
          </p:nvCxnSpPr>
          <p:spPr>
            <a:xfrm flipV="1">
              <a:off x="228312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7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1244160" y="4057560"/>
              <a:ext cx="531000" cy="154836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"/>
            <p:cNvCxnSpPr>
              <a:stCxn id="135" idx="0"/>
              <a:endCxn id="148" idx="2"/>
            </p:cNvCxnSpPr>
            <p:nvPr/>
          </p:nvCxnSpPr>
          <p:spPr>
            <a:xfrm flipV="1" rot="16200000">
              <a:off x="550404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9"/>
            <p:cNvCxnSpPr>
              <a:stCxn id="142" idx="0"/>
              <a:endCxn id="148" idx="2"/>
            </p:cNvCxnSpPr>
            <p:nvPr/>
          </p:nvCxnSpPr>
          <p:spPr>
            <a:xfrm flipH="1" flipV="1" rot="5400000">
              <a:off x="317988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2060"/>
            <p:cNvSpPr/>
            <p:nvPr/>
          </p:nvSpPr>
          <p:spPr>
            <a:xfrm>
              <a:off x="3943080" y="191628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Заман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161964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Үстем та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2062"/>
            <p:cNvSpPr/>
            <p:nvPr/>
          </p:nvSpPr>
          <p:spPr>
            <a:xfrm>
              <a:off x="626688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Қоғам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7128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64"/>
            <p:cNvSpPr/>
            <p:nvPr/>
          </p:nvSpPr>
          <p:spPr>
            <a:xfrm>
              <a:off x="16203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65"/>
            <p:cNvSpPr/>
            <p:nvPr/>
          </p:nvSpPr>
          <p:spPr>
            <a:xfrm>
              <a:off x="316980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kk-KZ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66"/>
            <p:cNvSpPr/>
            <p:nvPr/>
          </p:nvSpPr>
          <p:spPr>
            <a:xfrm>
              <a:off x="47181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67"/>
            <p:cNvSpPr/>
            <p:nvPr/>
          </p:nvSpPr>
          <p:spPr>
            <a:xfrm>
              <a:off x="626760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>
              <a:off x="781668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Шортанбай ақынның ойынша заманды аздырушылар кімдер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«Зар замандағы» қайталанған эпифора сөз -....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1.Талдау  кезеңі: Өлең құрылысына  талдау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а й л а 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ұ р л ы қ   қ ы л а д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 ө з і н е   м а л   к ө р і н б е 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и л е р   ж е й д і   п а р а н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 а қ т а п  қ о й ғ а н   с ү р і н д е 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33:06Z</dcterms:created>
  <dc:creator>Customer</dc:creator>
  <dc:description/>
  <dc:language>en-US</dc:language>
  <cp:lastModifiedBy>Customer</cp:lastModifiedBy>
  <dcterms:modified xsi:type="dcterms:W3CDTF">2012-01-20T17:19:11Z</dcterms:modified>
  <cp:revision>6</cp:revision>
  <dc:subject/>
  <dc:title>Шортанбай Қанайұлы (1818-1881)</dc:title>
</cp:coreProperties>
</file>