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3A5F-BD8B-491D-8954-903B66DA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BE62-35E2-4EE0-B513-0E7CA4D8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7ED7-D019-43EF-9CC7-D616C67AD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B9E9-6BC7-45C3-A15C-CE4DB2C62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AC37-2407-4B39-9B69-DD8FCB242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CE9A-C413-4D88-8DDB-9225339F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2036-F8C2-49D8-9CD5-DDDD73F6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BB78-0AE4-4C7C-A3CA-C3122D0E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FBA1-BC44-46D3-99BC-DA068BA9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8CF5-F253-4E82-BC91-93D01F69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9B5A-F34A-4A60-A1CF-13E94D7D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0887-86E7-4275-9D44-37EDC513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6F67-83FC-475D-B0E7-60A7E536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3627-4552-41FC-8F4F-3241E308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B80A-5F47-49DB-8BCC-AED537CA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D229-E481-4649-9F2B-B86E26B2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0586-EB7E-418E-88E1-5A6DABD6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FD94-CC10-4AB4-92FC-AB0C7ED1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7428-5ED2-478D-845D-21489521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FF21-E461-474D-8BEF-FEB71FFE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FCFC-7593-4527-9547-DAC84A3A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142D-1EBA-4F63-A4A4-CEC63D9B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4C28-D7CB-47A5-95B3-F0B08BF7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1521-0602-446C-A4D2-19D7976C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4E4B-C25F-4FB0-97D4-ECB4281683D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4E72-E447-4C50-91B6-085CADB378B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7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eaeaea"/>
                </a:solidFill>
                <a:latin typeface="Tahoma"/>
              </a:rPr>
              <a:t>Алматы облысы Жамбыл ауданы</a:t>
            </a:r>
            <a:br>
              <a:rPr sz="2400"/>
            </a:br>
            <a:r>
              <a:rPr b="1" lang="kk-KZ" sz="2400" spc="-1" strike="noStrike">
                <a:solidFill>
                  <a:srgbClr val="eaeaea"/>
                </a:solidFill>
                <a:latin typeface="Tahoma"/>
              </a:rPr>
              <a:t> Үңгіртас орта мектебі қазақ тілі мен әдебиеті пәні мұғалімі  Бопатаева Динара Тондыбайқызы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43000" y="20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Оқушыларға жаңа тақырыпты өз бетінше меңгерту мақсатында өткізілген сабақ жоспа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2.Шортанбай өлеңіндегі мұсылман дініне байланысты енген араб сөздерін тауып жаз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eaeaea"/>
                </a:solidFill>
                <a:latin typeface="Tahoma"/>
              </a:rPr>
              <a:t>Шортанбай Қанайұлын сендер қаншалықты таныдыңдар, қай жағынан бағаладыңдар.  Мына кестені толтыру арқылы өздеріңді тексеріңдер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26920" y="1409760"/>
          <a:ext cx="7543800" cy="5546520"/>
        </p:xfrm>
        <a:graphic>
          <a:graphicData uri="http://schemas.openxmlformats.org/drawingml/2006/table">
            <a:tbl>
              <a:tblPr/>
              <a:tblGrid>
                <a:gridCol w="573120"/>
                <a:gridCol w="3283200"/>
                <a:gridCol w="1842840"/>
                <a:gridCol w="1844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ортанбай Қанайұ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ә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оқ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қы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дресе бітірг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үрескер ақы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ыра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ман жыршы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ынш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інда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йтыскер ақы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ты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ыншыл реали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Үйге  тапсырма.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1.Ш.Қанайұлы «Зар заман» өлеңінен үзінді жатта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2.Айтыскер ақындығы туралы мәліметтер жинастырып кел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4000" cy="39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aeaea"/>
                </a:solidFill>
                <a:latin typeface="Tahoma"/>
              </a:rPr>
              <a:t>Үй тапсырмасы.</a:t>
            </a:r>
            <a:br>
              <a:rPr sz="3200"/>
            </a:br>
            <a:r>
              <a:rPr b="1" lang="kk-KZ" sz="3200" spc="-1" strike="noStrike">
                <a:solidFill>
                  <a:srgbClr val="eaeaea"/>
                </a:solidFill>
                <a:latin typeface="Tahoma"/>
              </a:rPr>
              <a:t>Д.Бабатайұлы өмірі мен шығармашылығы жайлы сұрау және</a:t>
            </a:r>
            <a:br>
              <a:rPr sz="3200"/>
            </a:br>
            <a:r>
              <a:rPr b="1" lang="kk-KZ" sz="3200" spc="-1" strike="noStrike">
                <a:solidFill>
                  <a:srgbClr val="eaeaea"/>
                </a:solidFill>
                <a:latin typeface="Tahoma"/>
              </a:rPr>
              <a:t> “О, Ақтан жас” өлеңіне құрылған жоспарларын тексеру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Өлеңнің жоспары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1/Жетімді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2/Тоқшылы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3/Бозбала шақ, ғашықты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4/Жастық шақ, батырлы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/Ел қорға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/Орындалған арм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/Үмі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Шортанбай Қанайұлы</a:t>
            </a:r>
            <a:br>
              <a:rPr sz="4400"/>
            </a:b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(1818-1881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Сабақтың мақса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71360" y="1928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Ақынның өмірі мен шығармашылығы жайлы білімді өз бетіме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меңгер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eaeaea"/>
                </a:solidFill>
                <a:latin typeface="Tahoma"/>
              </a:rPr>
              <a:t>Оқулықтан, интернеттен төмендегі сұрақтарға жауаптар іздейміз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8200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Шортанбай өмір сүрген заман қандай еді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Ел билеу жүйесінде қандай өзгерістер бол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Шортанбай өз заманын неге «зар заман» деп ата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Бұл өз дәуіріне риза болмай, түңілуден, үмітсіздіктен, сары уайымнан туған б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Шортанбайдың осы бір  «зар заман» деген сөзі не себепті кейінгі бір тұтас дәуірдің атына айнал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Шортанбай не себепті дінге сүйеніп, құдайдың құдіретіне бас июге шақыра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Ақын заман өзгерісіне сай адам бойында қандай құндылықтардың жоғалып, қандай жаман қылықтардың шығып жатқанына қынжыла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aeaea"/>
                </a:solidFill>
                <a:latin typeface="Tahoma"/>
              </a:rPr>
              <a:t>Төмендегі өлеңдері нені дәлелдеу үшін жазылған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20" name="Organization Chart 4"/>
          <p:cNvGrpSpPr/>
          <p:nvPr/>
        </p:nvGrpSpPr>
        <p:grpSpPr>
          <a:xfrm>
            <a:off x="250920" y="1981080"/>
            <a:ext cx="8892360" cy="4543200"/>
            <a:chOff x="250920" y="1981080"/>
            <a:chExt cx="8892360" cy="4543200"/>
          </a:xfrm>
        </p:grpSpPr>
        <p:cxnSp>
          <p:nvCxnSpPr>
            <p:cNvPr id="121" name="_s1028"/>
            <p:cNvCxnSpPr>
              <a:stCxn id="122" idx="1"/>
              <a:endCxn id="123" idx="2"/>
            </p:cNvCxnSpPr>
            <p:nvPr/>
          </p:nvCxnSpPr>
          <p:spPr>
            <a:xfrm rot="10800000">
              <a:off x="2917440" y="2514600"/>
              <a:ext cx="890280" cy="374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029"/>
            <p:cNvCxnSpPr>
              <a:stCxn id="125" idx="1"/>
              <a:endCxn id="123" idx="2"/>
            </p:cNvCxnSpPr>
            <p:nvPr/>
          </p:nvCxnSpPr>
          <p:spPr>
            <a:xfrm rot="10800000">
              <a:off x="2917440" y="2514600"/>
              <a:ext cx="890280" cy="2941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030"/>
            <p:cNvCxnSpPr>
              <a:stCxn id="127" idx="1"/>
              <a:endCxn id="123" idx="2"/>
            </p:cNvCxnSpPr>
            <p:nvPr/>
          </p:nvCxnSpPr>
          <p:spPr>
            <a:xfrm rot="10800000">
              <a:off x="2917440" y="2514600"/>
              <a:ext cx="890280" cy="2138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1031"/>
            <p:cNvCxnSpPr>
              <a:stCxn id="129" idx="1"/>
              <a:endCxn id="123" idx="2"/>
            </p:cNvCxnSpPr>
            <p:nvPr/>
          </p:nvCxnSpPr>
          <p:spPr>
            <a:xfrm rot="10800000">
              <a:off x="2917440" y="2514600"/>
              <a:ext cx="890280" cy="1337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1032"/>
            <p:cNvCxnSpPr>
              <a:stCxn id="131" idx="1"/>
              <a:endCxn id="123" idx="2"/>
            </p:cNvCxnSpPr>
            <p:nvPr/>
          </p:nvCxnSpPr>
          <p:spPr>
            <a:xfrm rot="10800000">
              <a:off x="2917440" y="2514600"/>
              <a:ext cx="890280" cy="535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3" name="_s1033"/>
            <p:cNvSpPr/>
            <p:nvPr/>
          </p:nvSpPr>
          <p:spPr>
            <a:xfrm>
              <a:off x="250920" y="198108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Шортанбай зары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_s1034"/>
            <p:cNvSpPr/>
            <p:nvPr/>
          </p:nvSpPr>
          <p:spPr>
            <a:xfrm>
              <a:off x="3807720" y="278280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Зар заман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_s1035"/>
            <p:cNvSpPr/>
            <p:nvPr/>
          </p:nvSpPr>
          <p:spPr>
            <a:xfrm>
              <a:off x="3807720" y="358452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Келер  заман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_s1036"/>
            <p:cNvSpPr/>
            <p:nvPr/>
          </p:nvSpPr>
          <p:spPr>
            <a:xfrm>
              <a:off x="3807720" y="438624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Жарлының жаны берік-ті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_s1037"/>
            <p:cNvSpPr/>
            <p:nvPr/>
          </p:nvSpPr>
          <p:spPr>
            <a:xfrm>
              <a:off x="3807720" y="518832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Бір насихат айтайын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_s1038"/>
            <p:cNvSpPr/>
            <p:nvPr/>
          </p:nvSpPr>
          <p:spPr>
            <a:xfrm>
              <a:off x="3807720" y="599004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Қалықтаған сұңқар ем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Organization Chart 4"/>
          <p:cNvGrpSpPr/>
          <p:nvPr/>
        </p:nvGrpSpPr>
        <p:grpSpPr>
          <a:xfrm>
            <a:off x="71280" y="1916280"/>
            <a:ext cx="9072360" cy="4241160"/>
            <a:chOff x="71280" y="1916280"/>
            <a:chExt cx="9072360" cy="4241160"/>
          </a:xfrm>
        </p:grpSpPr>
        <p:cxnSp>
          <p:nvCxnSpPr>
            <p:cNvPr id="133" name="_s2052"/>
            <p:cNvCxnSpPr>
              <a:stCxn id="134" idx="0"/>
              <a:endCxn id="135" idx="2"/>
            </p:cNvCxnSpPr>
            <p:nvPr/>
          </p:nvCxnSpPr>
          <p:spPr>
            <a:xfrm flipV="1" rot="16200000">
              <a:off x="7439760" y="4057200"/>
              <a:ext cx="531000" cy="1549080"/>
            </a:xfrm>
            <a:prstGeom prst="bentConnector3">
              <a:avLst>
                <a:gd name="adj1" fmla="val 333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2053"/>
            <p:cNvCxnSpPr>
              <a:stCxn id="137" idx="0"/>
              <a:endCxn id="135" idx="2"/>
            </p:cNvCxnSpPr>
            <p:nvPr/>
          </p:nvCxnSpPr>
          <p:spPr>
            <a:xfrm flipV="1">
              <a:off x="6931080" y="4566240"/>
              <a:ext cx="1080" cy="531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2054"/>
            <p:cNvCxnSpPr>
              <a:stCxn id="139" idx="0"/>
              <a:endCxn id="135" idx="2"/>
            </p:cNvCxnSpPr>
            <p:nvPr/>
          </p:nvCxnSpPr>
          <p:spPr>
            <a:xfrm flipH="1" flipV="1" rot="5400000">
              <a:off x="5891400" y="4057200"/>
              <a:ext cx="531000" cy="1549080"/>
            </a:xfrm>
            <a:prstGeom prst="bentConnector3">
              <a:avLst>
                <a:gd name="adj1" fmla="val 333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2055"/>
            <p:cNvCxnSpPr>
              <a:stCxn id="141" idx="0"/>
              <a:endCxn id="142" idx="2"/>
            </p:cNvCxnSpPr>
            <p:nvPr/>
          </p:nvCxnSpPr>
          <p:spPr>
            <a:xfrm flipV="1" rot="16200000">
              <a:off x="2792520" y="4056480"/>
              <a:ext cx="531000" cy="1550520"/>
            </a:xfrm>
            <a:prstGeom prst="bentConnector3">
              <a:avLst>
                <a:gd name="adj1" fmla="val 333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2056"/>
            <p:cNvCxnSpPr>
              <a:stCxn id="144" idx="0"/>
              <a:endCxn id="142" idx="2"/>
            </p:cNvCxnSpPr>
            <p:nvPr/>
          </p:nvCxnSpPr>
          <p:spPr>
            <a:xfrm flipV="1">
              <a:off x="2283120" y="4566240"/>
              <a:ext cx="1080" cy="531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2057"/>
            <p:cNvCxnSpPr>
              <a:stCxn id="146" idx="0"/>
              <a:endCxn id="142" idx="2"/>
            </p:cNvCxnSpPr>
            <p:nvPr/>
          </p:nvCxnSpPr>
          <p:spPr>
            <a:xfrm flipH="1" flipV="1" rot="5400000">
              <a:off x="1244160" y="4057560"/>
              <a:ext cx="531000" cy="1548360"/>
            </a:xfrm>
            <a:prstGeom prst="bentConnector3">
              <a:avLst>
                <a:gd name="adj1" fmla="val 333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2058"/>
            <p:cNvCxnSpPr>
              <a:stCxn id="135" idx="0"/>
              <a:endCxn id="148" idx="2"/>
            </p:cNvCxnSpPr>
            <p:nvPr/>
          </p:nvCxnSpPr>
          <p:spPr>
            <a:xfrm flipV="1" rot="16200000">
              <a:off x="5504040" y="2079000"/>
              <a:ext cx="530640" cy="232452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2059"/>
            <p:cNvCxnSpPr>
              <a:stCxn id="142" idx="0"/>
              <a:endCxn id="148" idx="2"/>
            </p:cNvCxnSpPr>
            <p:nvPr/>
          </p:nvCxnSpPr>
          <p:spPr>
            <a:xfrm flipH="1" flipV="1" rot="5400000">
              <a:off x="3179880" y="2079000"/>
              <a:ext cx="530640" cy="232452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8" name="_s2060"/>
            <p:cNvSpPr/>
            <p:nvPr/>
          </p:nvSpPr>
          <p:spPr>
            <a:xfrm>
              <a:off x="3943080" y="191628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Заман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_s2061"/>
            <p:cNvSpPr/>
            <p:nvPr/>
          </p:nvSpPr>
          <p:spPr>
            <a:xfrm>
              <a:off x="1619640" y="350640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Үстем тап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_s2062"/>
            <p:cNvSpPr/>
            <p:nvPr/>
          </p:nvSpPr>
          <p:spPr>
            <a:xfrm>
              <a:off x="6266880" y="350640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Қоғам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_s2063"/>
            <p:cNvSpPr/>
            <p:nvPr/>
          </p:nvSpPr>
          <p:spPr>
            <a:xfrm>
              <a:off x="71280" y="509724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_s2064"/>
            <p:cNvSpPr/>
            <p:nvPr/>
          </p:nvSpPr>
          <p:spPr>
            <a:xfrm>
              <a:off x="1620360" y="509724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_s2065"/>
            <p:cNvSpPr/>
            <p:nvPr/>
          </p:nvSpPr>
          <p:spPr>
            <a:xfrm>
              <a:off x="3169800" y="5097240"/>
              <a:ext cx="132696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0" lang="kk-KZ" sz="2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_s2066"/>
            <p:cNvSpPr/>
            <p:nvPr/>
          </p:nvSpPr>
          <p:spPr>
            <a:xfrm>
              <a:off x="4718160" y="509724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_s2067"/>
            <p:cNvSpPr/>
            <p:nvPr/>
          </p:nvSpPr>
          <p:spPr>
            <a:xfrm>
              <a:off x="6267600" y="509724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_s2068"/>
            <p:cNvSpPr/>
            <p:nvPr/>
          </p:nvSpPr>
          <p:spPr>
            <a:xfrm>
              <a:off x="7816680" y="5097240"/>
              <a:ext cx="132696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Шортанбай ақынның ойынша заманды аздырушылар кімдер?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Rectangle 33"/>
          <p:cNvSpPr/>
          <p:nvPr/>
        </p:nvSpPr>
        <p:spPr>
          <a:xfrm>
            <a:off x="0" y="507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aeaea"/>
                </a:solidFill>
                <a:latin typeface="Tahoma"/>
              </a:rPr>
              <a:t>«Зар замандағы» қайталанған эпифора сөз -......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1.Талдау  кезеңі: Өлең құрылысына  талдау жаса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Б а й л а 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ұ р л ы қ   қ ы л а д 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К ө з і н е   м а л   к ө р і н б е 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Б и л е р   ж е й д і   п а р а н 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С а қ т а п  қ о й ғ а н   с ү р і н д е 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20:33:06Z</dcterms:created>
  <dc:creator>Customer</dc:creator>
  <dc:description/>
  <dc:language>en-US</dc:language>
  <cp:lastModifiedBy>Customer</cp:lastModifiedBy>
  <dcterms:modified xsi:type="dcterms:W3CDTF">2012-01-20T17:19:11Z</dcterms:modified>
  <cp:revision>6</cp:revision>
  <dc:subject/>
  <dc:title>Шортанбай Қанайұлы (1818-1881)</dc:title>
</cp:coreProperties>
</file>