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47E-34AF-4FA1-B687-55BB9B9A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D29-EC4A-4D96-BA4B-80C56B77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585-AAC5-46F4-AF88-6F71069C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BEF-EE54-484C-AB8C-67FFED79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FCC3-9774-414A-AC9E-46D949AE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2AD3-E108-4399-9CE7-26957238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AE35-1FF3-40B4-88CE-4A56794D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D4E8-7686-4A12-B61A-201989D7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79CB-D60B-418A-92CC-A63F4BF4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17B2-9077-488A-BD58-25481BB8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7787-47C8-46B4-96DB-80A4369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B3C-039E-4880-BBE5-4F6A9043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B208-F5A3-408A-A1AD-FEF6A066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060B-0312-41EB-BFD7-556C2F51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54A8-E745-4A49-A462-2D9751C7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47C4-3755-4F26-BA01-14743F0B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7DCB-C20A-4293-94C0-1C755A3C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5AD-44D8-49C0-927E-2FB8644B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DF8-16A1-4E35-8F5E-9F920CBD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095-6078-48F2-A541-64BDE3B0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4B7-71D3-4807-8859-59B47058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87F-5937-495D-9DCE-D43FC403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B16-D304-45F0-A57D-DD08165A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F6A-B0E3-4856-A626-D3BB4CC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7D1F-B4A3-43F3-9FC6-6662CFBB1E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DE8D-97D3-4011-A067-A60F21BFD38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7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Алматы облысы Жамбыл ауданы</a:t>
            </a:r>
            <a:br>
              <a:rPr sz="2400"/>
            </a:b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 Үңгіртас орта мектебі қазақ тілі мен әдебиеті пәні мұғалімі  Бопатаева Динара Тондыбайқызы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Оқушыларға жаңа тақырыпты өз бетінше меңгерту мақсатында өткізілген сабақ жосп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Шортанбай өлеңіндегі мұсылман дініне байланысты енген араб сөздерін тауып ж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eaeaea"/>
                </a:solidFill>
                <a:latin typeface="Tahoma"/>
              </a:rPr>
              <a:t>Шортанбай Қанайұлын сендер қаншалықты таныдыңдар, қай жағынан бағаладыңдар.  Мына кестені толтыру арқылы өздеріңді тексеріңдер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26920" y="1409760"/>
          <a:ext cx="7543800" cy="5546520"/>
        </p:xfrm>
        <a:graphic>
          <a:graphicData uri="http://schemas.openxmlformats.org/drawingml/2006/table">
            <a:tbl>
              <a:tblPr/>
              <a:tblGrid>
                <a:gridCol w="573120"/>
                <a:gridCol w="3283200"/>
                <a:gridCol w="1842840"/>
                <a:gridCol w="1844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ртанбай Қанайұ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о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ресе бітірг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үре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ыра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ан жыршы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нш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інд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йты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т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ыншыл реа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Үйге  тапсырма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.Ш.Қанайұлы «Зар заман» өлеңінен үзінді жатта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Айтыскер ақындығы туралы мәліметтер жинастырып ке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Үй тапсырмасы.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Д.Бабатайұлы өмірі мен шығармашылығы жайлы сұрау және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 “О, Ақтан жас” өлеңіне құрылған жоспарларын тексер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Өлеңнің жоспар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/Жетімді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/Тоқшы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3/Бозбала шақ, ғашықт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4/Жастық шақ, батыр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/Ел қорғ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/Орындалған ар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/Үмі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Шортанбай Қанайұлы</a:t>
            </a:r>
            <a:br>
              <a:rPr sz="4400"/>
            </a:b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(1818-1881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Сабақтың мақса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қынның өмірі мен шығармашылығы жайлы білімді өз бетіме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еңг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aeaea"/>
                </a:solidFill>
                <a:latin typeface="Tahoma"/>
              </a:rPr>
              <a:t>Оқулықтан, интернеттен төмендегі сұрақтарға жауаптар іздейміз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8200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мір сүрген заман қандай еді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Ел билеу жүйесінде қандай өзгерістер бо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з заманын неге «зар заман» деп ат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ұл өз дәуіріне риза болмай, түңілуден, үмітсіздіктен, сары уайымнан туған б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дың осы бір  «зар заман» деген сөзі не себепті кейінгі бір тұтас дәуірдің атына айна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не себепті дінге сүйеніп, құдайдың құдіретіне бас июге шақыр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Ақын заман өзгерісіне сай адам бойында қандай құндылықтардың жоғалып, қандай жаман қылықтардың шығып жатқанына қынжы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aeaea"/>
                </a:solidFill>
                <a:latin typeface="Tahoma"/>
              </a:rPr>
              <a:t>Төмендегі өлеңдері нені дәлелдеу үшін жазылған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0" name="Organization Chart 4"/>
          <p:cNvGrpSpPr/>
          <p:nvPr/>
        </p:nvGrpSpPr>
        <p:grpSpPr>
          <a:xfrm>
            <a:off x="250920" y="1981080"/>
            <a:ext cx="8892360" cy="4543200"/>
            <a:chOff x="250920" y="1981080"/>
            <a:chExt cx="8892360" cy="4543200"/>
          </a:xfrm>
        </p:grpSpPr>
        <p:cxnSp>
          <p:nvCxnSpPr>
            <p:cNvPr id="121" name="_s1028"/>
            <p:cNvCxnSpPr>
              <a:stCxn id="122" idx="1"/>
              <a:endCxn id="123" idx="2"/>
            </p:cNvCxnSpPr>
            <p:nvPr/>
          </p:nvCxnSpPr>
          <p:spPr>
            <a:xfrm rot="10800000">
              <a:off x="2917440" y="2514600"/>
              <a:ext cx="890280" cy="374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9"/>
            <p:cNvCxnSpPr>
              <a:stCxn id="125" idx="1"/>
              <a:endCxn id="123" idx="2"/>
            </p:cNvCxnSpPr>
            <p:nvPr/>
          </p:nvCxnSpPr>
          <p:spPr>
            <a:xfrm rot="10800000">
              <a:off x="2917440" y="2514600"/>
              <a:ext cx="890280" cy="294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0"/>
            <p:cNvCxnSpPr>
              <a:stCxn id="127" idx="1"/>
              <a:endCxn id="123" idx="2"/>
            </p:cNvCxnSpPr>
            <p:nvPr/>
          </p:nvCxnSpPr>
          <p:spPr>
            <a:xfrm rot="10800000">
              <a:off x="2917440" y="2514600"/>
              <a:ext cx="890280" cy="213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1"/>
            <p:cNvCxnSpPr>
              <a:stCxn id="129" idx="1"/>
              <a:endCxn id="123" idx="2"/>
            </p:cNvCxnSpPr>
            <p:nvPr/>
          </p:nvCxnSpPr>
          <p:spPr>
            <a:xfrm rot="10800000">
              <a:off x="2917440" y="2514600"/>
              <a:ext cx="890280" cy="133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2"/>
            <p:cNvCxnSpPr>
              <a:stCxn id="131" idx="1"/>
              <a:endCxn id="123" idx="2"/>
            </p:cNvCxnSpPr>
            <p:nvPr/>
          </p:nvCxnSpPr>
          <p:spPr>
            <a:xfrm rot="10800000">
              <a:off x="2917440" y="2514600"/>
              <a:ext cx="890280" cy="53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1033"/>
            <p:cNvSpPr/>
            <p:nvPr/>
          </p:nvSpPr>
          <p:spPr>
            <a:xfrm>
              <a:off x="250920" y="198108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Шортанбай зар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3807720" y="278280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Зар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5"/>
            <p:cNvSpPr/>
            <p:nvPr/>
          </p:nvSpPr>
          <p:spPr>
            <a:xfrm>
              <a:off x="3807720" y="35845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Келер 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6"/>
            <p:cNvSpPr/>
            <p:nvPr/>
          </p:nvSpPr>
          <p:spPr>
            <a:xfrm>
              <a:off x="3807720" y="43862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Жарлының жаны берік-ті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7"/>
            <p:cNvSpPr/>
            <p:nvPr/>
          </p:nvSpPr>
          <p:spPr>
            <a:xfrm>
              <a:off x="3807720" y="51883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Бір насихат айтайы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3807720" y="59900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Қалықтаған сұңқар ем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Organization Chart 4"/>
          <p:cNvGrpSpPr/>
          <p:nvPr/>
        </p:nvGrpSpPr>
        <p:grpSpPr>
          <a:xfrm>
            <a:off x="71280" y="1916280"/>
            <a:ext cx="9072360" cy="4241160"/>
            <a:chOff x="71280" y="1916280"/>
            <a:chExt cx="9072360" cy="4241160"/>
          </a:xfrm>
        </p:grpSpPr>
        <p:cxnSp>
          <p:nvCxnSpPr>
            <p:cNvPr id="133" name="_s2052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743976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53"/>
            <p:cNvCxnSpPr>
              <a:stCxn id="137" idx="0"/>
              <a:endCxn id="135" idx="2"/>
            </p:cNvCxnSpPr>
            <p:nvPr/>
          </p:nvCxnSpPr>
          <p:spPr>
            <a:xfrm flipV="1">
              <a:off x="693108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4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589140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5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2792520" y="4056480"/>
              <a:ext cx="531000" cy="155052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056"/>
            <p:cNvCxnSpPr>
              <a:stCxn id="144" idx="0"/>
              <a:endCxn id="142" idx="2"/>
            </p:cNvCxnSpPr>
            <p:nvPr/>
          </p:nvCxnSpPr>
          <p:spPr>
            <a:xfrm flipV="1">
              <a:off x="228312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57"/>
            <p:cNvCxnSpPr>
              <a:stCxn id="146" idx="0"/>
              <a:endCxn id="142" idx="2"/>
            </p:cNvCxnSpPr>
            <p:nvPr/>
          </p:nvCxnSpPr>
          <p:spPr>
            <a:xfrm flipH="1" flipV="1" rot="5400000">
              <a:off x="1244160" y="4057560"/>
              <a:ext cx="531000" cy="154836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8"/>
            <p:cNvCxnSpPr>
              <a:stCxn id="135" idx="0"/>
              <a:endCxn id="148" idx="2"/>
            </p:cNvCxnSpPr>
            <p:nvPr/>
          </p:nvCxnSpPr>
          <p:spPr>
            <a:xfrm flipV="1" rot="16200000">
              <a:off x="550404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059"/>
            <p:cNvCxnSpPr>
              <a:stCxn id="142" idx="0"/>
              <a:endCxn id="148" idx="2"/>
            </p:cNvCxnSpPr>
            <p:nvPr/>
          </p:nvCxnSpPr>
          <p:spPr>
            <a:xfrm flipH="1" flipV="1" rot="5400000">
              <a:off x="317988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2060"/>
            <p:cNvSpPr/>
            <p:nvPr/>
          </p:nvSpPr>
          <p:spPr>
            <a:xfrm>
              <a:off x="3943080" y="191628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Заман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2061"/>
            <p:cNvSpPr/>
            <p:nvPr/>
          </p:nvSpPr>
          <p:spPr>
            <a:xfrm>
              <a:off x="161964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Үстем тап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2062"/>
            <p:cNvSpPr/>
            <p:nvPr/>
          </p:nvSpPr>
          <p:spPr>
            <a:xfrm>
              <a:off x="626688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Қоғам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3"/>
            <p:cNvSpPr/>
            <p:nvPr/>
          </p:nvSpPr>
          <p:spPr>
            <a:xfrm>
              <a:off x="7128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2064"/>
            <p:cNvSpPr/>
            <p:nvPr/>
          </p:nvSpPr>
          <p:spPr>
            <a:xfrm>
              <a:off x="16203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65"/>
            <p:cNvSpPr/>
            <p:nvPr/>
          </p:nvSpPr>
          <p:spPr>
            <a:xfrm>
              <a:off x="316980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kk-KZ" sz="2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2066"/>
            <p:cNvSpPr/>
            <p:nvPr/>
          </p:nvSpPr>
          <p:spPr>
            <a:xfrm>
              <a:off x="47181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2067"/>
            <p:cNvSpPr/>
            <p:nvPr/>
          </p:nvSpPr>
          <p:spPr>
            <a:xfrm>
              <a:off x="626760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>
              <a:off x="781668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Шортанбай ақынның ойынша заманды аздырушылар кімдер?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0" y="50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«Зар замандағы» қайталанған эпифора сөз -....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1.Талдау  кезеңі: Өлең құрылысына  талдау жаса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а й л а 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ұ р л ы қ   қ ы л а д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 ө з і н е   м а л   к ө р і н б е 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и л е р   ж е й д і   п а р а н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С а қ т а п  қ о й ғ а н   с ү р і н д е 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20:33:06Z</dcterms:created>
  <dc:creator>Customer</dc:creator>
  <dc:description/>
  <dc:language>en-US</dc:language>
  <cp:lastModifiedBy>Customer</cp:lastModifiedBy>
  <dcterms:modified xsi:type="dcterms:W3CDTF">2012-01-20T17:19:11Z</dcterms:modified>
  <cp:revision>6</cp:revision>
  <dc:subject/>
  <dc:title>Шортанбай Қанайұлы (1818-1881)</dc:title>
</cp:coreProperties>
</file>