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A99-E48B-4C1A-879E-2E2BE3827E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17E-5BCF-4E47-88B7-1AA26C302F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24FE-2240-42BE-8E9C-8D68FF3C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7AE-2455-4406-9C4E-B552CAC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6E8-4D7E-45B8-983D-659447C7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DA3-7DC5-4520-BF97-F63379D8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8DE-9C2C-4B9C-BE29-C8172F56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F68-97EA-4C17-A6BF-C32394E1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167-94B0-44E4-BFA6-2CE63CA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ACC-33FC-42B3-BDB8-5BABB60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CA8E-167A-4714-A28C-5F036756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4B7-9B79-44DA-B0E6-4451DAEC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D89-B7F2-4A73-8431-06E9FA0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A01-B4AE-472F-AD2F-222B7B96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7B6A-BF4C-4469-A8C3-B34BDD76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4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4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gif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Тақырып: </a:t>
            </a:r>
            <a:r>
              <a:rPr b="1" i="1" lang="kk-KZ" sz="4000" spc="-1" strike="noStrike">
                <a:solidFill>
                  <a:srgbClr val="993300"/>
                </a:solidFill>
                <a:latin typeface="Arial"/>
              </a:rPr>
              <a:t>“Ертегі туралы түсінік</a:t>
            </a:r>
            <a:r>
              <a:rPr b="1" i="1" lang="kk-KZ" sz="3600" spc="-1" strike="noStrike">
                <a:solidFill>
                  <a:srgbClr val="993300"/>
                </a:solidFill>
                <a:latin typeface="Arial"/>
              </a:rPr>
              <a:t>”</a:t>
            </a:r>
            <a:r>
              <a:rPr b="1" i="1" lang="kk-KZ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3200" spc="-1" strike="noStrike" u="sng">
                <a:solidFill>
                  <a:srgbClr val="0000ff"/>
                </a:solidFill>
                <a:uFillTx/>
                <a:latin typeface="Arial"/>
              </a:rPr>
              <a:t>Пән: Әдеби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 u="sng">
                <a:solidFill>
                  <a:srgbClr val="0000ff"/>
                </a:solidFill>
                <a:uFillTx/>
                <a:latin typeface="Arial"/>
              </a:rPr>
              <a:t>Сынып: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5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ff"/>
                </a:solidFill>
                <a:latin typeface="Times New Roman"/>
              </a:rPr>
              <a:t>Оқулықпен жұмыс 34-35 б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Тақырыпты оқып шығып, ертегінің түрлерін ажыратып, топтасты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993300"/>
                </a:solidFill>
                <a:latin typeface="Arial"/>
              </a:rPr>
              <a:t>Олардың айырмашылығын тауып, дәлелдеп, кестені толты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332000" y="6165720"/>
            <a:ext cx="576000" cy="49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524720" y="6093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51664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21928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4140360" y="5445000"/>
            <a:ext cx="1295280" cy="93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843280" y="404640"/>
            <a:ext cx="352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170028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Хайуана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ур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1700280"/>
            <a:ext cx="172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иял-ғажайы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700280"/>
            <a:ext cx="1656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ш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тегі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9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32000" y="1413000"/>
            <a:ext cx="633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0509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141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Негіз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йіпкер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ң, құс, 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ануар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о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р жүр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дамд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сын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шк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 алу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2997360"/>
            <a:ext cx="158436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Өмірдег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ы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иғала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аяндал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C:\Documents and Settings\Loner\Мои документы\Мои рисунки\r8.gif"/>
          <p:cNvPicPr/>
          <p:nvPr/>
        </p:nvPicPr>
        <p:blipFill>
          <a:blip r:embed="rId14"/>
          <a:stretch/>
        </p:blipFill>
        <p:spPr>
          <a:xfrm flipH="1">
            <a:off x="5148000" y="573408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0" y="164304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2457"/>
          <p:cNvPicPr/>
          <p:nvPr/>
        </p:nvPicPr>
        <p:blipFill>
          <a:blip r:embed="rId1"/>
          <a:stretch/>
        </p:blipFill>
        <p:spPr>
          <a:xfrm>
            <a:off x="3071880" y="1714680"/>
            <a:ext cx="3929040" cy="311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2"/>
          <p:cNvSpPr/>
          <p:nvPr/>
        </p:nvSpPr>
        <p:spPr>
          <a:xfrm rot="16864800">
            <a:off x="3995280" y="5419800"/>
            <a:ext cx="202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Адамдар неге ертегіні ойлап шығар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5"/>
          <p:cNvSpPr/>
          <p:nvPr/>
        </p:nvSpPr>
        <p:spPr>
          <a:xfrm rot="1276200">
            <a:off x="1368000" y="3282840"/>
            <a:ext cx="31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Адамдардың жақ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3300"/>
                </a:solidFill>
                <a:latin typeface="Times New Roman"/>
              </a:rPr>
              <a:t>өмірді аңсау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6"/>
          <p:cNvSpPr/>
          <p:nvPr/>
        </p:nvSpPr>
        <p:spPr>
          <a:xfrm rot="14517000">
            <a:off x="2551680" y="884880"/>
            <a:ext cx="15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шақ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 rot="15793800">
            <a:off x="3057480" y="594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машинал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8"/>
          <p:cNvSpPr/>
          <p:nvPr/>
        </p:nvSpPr>
        <p:spPr>
          <a:xfrm rot="17416200">
            <a:off x="4415040" y="90216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Жарық, 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9"/>
          <p:cNvSpPr/>
          <p:nvPr/>
        </p:nvSpPr>
        <p:spPr>
          <a:xfrm rot="17624400">
            <a:off x="5609880" y="98136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"/>
              </a:rPr>
              <a:t>Ұялы байланыс, телефон, х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0"/>
          <p:cNvSpPr/>
          <p:nvPr/>
        </p:nvSpPr>
        <p:spPr>
          <a:xfrm>
            <a:off x="285840" y="35712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Бесінші деңгей- син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Arial"/>
                <a:ea typeface="Arial"/>
              </a:rPr>
              <a:t>Гениологиялық ағ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Прямая со стрелкой 53"/>
          <p:cNvCxnSpPr/>
          <p:nvPr/>
        </p:nvCxnSpPr>
        <p:spPr>
          <a:xfrm>
            <a:off x="3634920" y="3933720"/>
            <a:ext cx="10724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47" name="Picture 4" descr="C:\Documents and Settings\Loner\Мои документы\Мои рисунки\f121.gif"/>
          <p:cNvPicPr/>
          <p:nvPr/>
        </p:nvPicPr>
        <p:blipFill>
          <a:blip r:embed="rId2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>
            <a:off x="7956360" y="40464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flipH="1">
            <a:off x="-360" y="206064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>
            <a:off x="250920" y="364500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 flipH="1">
            <a:off x="179280" y="5334120"/>
            <a:ext cx="935280" cy="152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C:\Documents and Settings\Loner\Мои документы\Мои рисунки\r8.gif"/>
          <p:cNvPicPr/>
          <p:nvPr/>
        </p:nvPicPr>
        <p:blipFill>
          <a:blip r:embed="rId10"/>
          <a:stretch/>
        </p:blipFill>
        <p:spPr>
          <a:xfrm>
            <a:off x="147636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 flipH="1">
            <a:off x="5795640" y="5353200"/>
            <a:ext cx="186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94"/>
          <p:cNvSpPr/>
          <p:nvPr/>
        </p:nvSpPr>
        <p:spPr>
          <a:xfrm>
            <a:off x="1187280" y="404640"/>
            <a:ext cx="633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Алтыншы деңгей - баға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280" y="1773360"/>
            <a:ext cx="684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993300"/>
                </a:solidFill>
                <a:latin typeface="Arial"/>
              </a:rPr>
              <a:t>Сүйікті ертегімнің кейіпкері маған неге ұнайды?» тақырыбында шағын әңгіме жазу.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7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98" dur="500" autoRev="1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4"/>
          <p:cNvSpPr/>
          <p:nvPr/>
        </p:nvSpPr>
        <p:spPr>
          <a:xfrm>
            <a:off x="826920" y="2565360"/>
            <a:ext cx="7407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қсаты: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лер және оның түрлері туралы түсінік алу,тіл байлығымды дамыту, ертегі оқуға деген қызығушылығымды артты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0000ff"/>
                </a:solidFill>
                <a:uFillTx/>
                <a:latin typeface="Times New Roman"/>
              </a:rPr>
              <a:t>Мазмұны</a:t>
            </a:r>
            <a:r>
              <a:rPr b="1" i="1" lang="kk-KZ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ертегі туралы түсін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993300"/>
                </a:solidFill>
                <a:latin typeface="Times New Roman"/>
              </a:rPr>
              <a:t>2. ертегінің түрлері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5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5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95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5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6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07" dur="500" autoRev="1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0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1" dur="500" autoRev="1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4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4"/>
          <p:cNvSpPr/>
          <p:nvPr/>
        </p:nvSpPr>
        <p:spPr>
          <a:xfrm>
            <a:off x="971640" y="333360"/>
            <a:ext cx="7407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Морфологиялық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250920" y="1397160"/>
          <a:ext cx="8569080" cy="5055840"/>
        </p:xfrm>
        <a:graphic>
          <a:graphicData uri="http://schemas.openxmlformats.org/drawingml/2006/table">
            <a:tbl>
              <a:tblPr/>
              <a:tblGrid>
                <a:gridCol w="504720"/>
                <a:gridCol w="1224000"/>
                <a:gridCol w="1800360"/>
                <a:gridCol w="1584000"/>
                <a:gridCol w="1729080"/>
                <a:gridCol w="1726920"/>
              </a:tblGrid>
              <a:tr h="20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қ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ры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Өмірг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жетт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асқа пәндерде кездесетін ақпа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Берілген пәнді одан әрі оқып тану үшін қажетті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Жалпы ой-өрісін дамыту үшін ақпарат</a:t>
                      </a: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 туралы түсіні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Ертегінің көркем, бай тілі арқылы шешен сөйлеуге, өз ойын әдемі баяндау үйренеді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Қазақ тілі, тар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ҰБТ, ОЖСБ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5-11 әдебиет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Танымдық қабілетін, ой-қиялын,тіл байлығын дамы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94"/>
          <p:cNvSpPr/>
          <p:nvPr/>
        </p:nvSpPr>
        <p:spPr>
          <a:xfrm>
            <a:off x="1042920" y="2276640"/>
            <a:ext cx="7191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Фольклор мен ауыз әдебиеті бір ұғым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 Ауыз әдебиетінің қандай белгі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Ауыз әдебиетінің қандай түрлері ба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– мәтелдерді неге ауыз әдебиетіне жатқызамы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Мақал мен мәтелдің айырмасын ай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Arial"/>
              </a:rPr>
              <a:t>- Жұмбақ ауыз әдебиетінің қандай түрі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4"/>
          <p:cNvSpPr/>
          <p:nvPr/>
        </p:nvSpPr>
        <p:spPr>
          <a:xfrm>
            <a:off x="826920" y="404640"/>
            <a:ext cx="7407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Бірінші деңгей - білімдер</a:t>
            </a: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6040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20"/>
          <p:cNvSpPr txBox="1"/>
          <p:nvPr/>
        </p:nvSpPr>
        <p:spPr>
          <a:xfrm>
            <a:off x="1692360" y="1125360"/>
            <a:ext cx="5543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Қане жауап ізделі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5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5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5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5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4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5" dur="500" autoRev="1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8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29" dur="500" autoRev="1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2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3" dur="500" autoRev="1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0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1" dur="500" autoRev="1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4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45" dur="500" autoRev="1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692360" y="260280"/>
            <a:ext cx="7200720" cy="489744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Екінші деңгей – түсіну</a:t>
            </a: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Мына мақалдардың мағынасын қала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түсінесіңдер?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Өз сөздеріңмен білдіріңд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қсы жолды бол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Жолдасы жаман қолды бол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Татулық – табылмас бақ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- Оқусыз білім жоқ, білімсіз күнің жо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993300"/>
                </a:solidFill>
                <a:latin typeface="Times New Roman"/>
              </a:rPr>
              <a:t>(әр қатарға 1 мақалда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1763640" y="1341360"/>
            <a:ext cx="6913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1549440" cy="414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Loner\Мои документы\Мои рисунки\30_1.gif"/>
          <p:cNvPicPr/>
          <p:nvPr/>
        </p:nvPicPr>
        <p:blipFill>
          <a:blip r:embed="rId2"/>
          <a:stretch/>
        </p:blipFill>
        <p:spPr>
          <a:xfrm>
            <a:off x="6156360" y="5011560"/>
            <a:ext cx="1008000" cy="628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4"/>
          <p:cNvSpPr/>
          <p:nvPr/>
        </p:nvSpPr>
        <p:spPr>
          <a:xfrm>
            <a:off x="1763640" y="476280"/>
            <a:ext cx="6759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Loner\Мои документы\Мои рисунки\f121.gif"/>
          <p:cNvPicPr/>
          <p:nvPr/>
        </p:nvPicPr>
        <p:blipFill>
          <a:blip r:embed="rId3"/>
          <a:stretch/>
        </p:blipFill>
        <p:spPr>
          <a:xfrm flipH="1" rot="5400000">
            <a:off x="709812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 rot="16200000">
            <a:off x="547308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:\Documents and Settings\Loner\Мои документы\Мои рисунки\30_1.gif"/>
          <p:cNvPicPr/>
          <p:nvPr/>
        </p:nvPicPr>
        <p:blipFill>
          <a:blip r:embed="rId5"/>
          <a:stretch/>
        </p:blipFill>
        <p:spPr>
          <a:xfrm>
            <a:off x="2340000" y="5011560"/>
            <a:ext cx="1008000" cy="62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 flipH="1" rot="5400000">
            <a:off x="3281760" y="536616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 rot="16200000">
            <a:off x="1656720" y="533592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Loner\Мои документы\Мои рисунки\30_1.gif"/>
          <p:cNvPicPr/>
          <p:nvPr/>
        </p:nvPicPr>
        <p:blipFill>
          <a:blip r:embed="rId8"/>
          <a:stretch/>
        </p:blipFill>
        <p:spPr>
          <a:xfrm>
            <a:off x="0" y="0"/>
            <a:ext cx="100800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Loner\Мои документы\Мои рисунки\B_Fly04.gif"/>
          <p:cNvPicPr/>
          <p:nvPr/>
        </p:nvPicPr>
        <p:blipFill>
          <a:blip r:embed="rId9"/>
          <a:stretch/>
        </p:blipFill>
        <p:spPr>
          <a:xfrm flipH="1">
            <a:off x="8027640" y="33336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C:\Documents and Settings\Loner\Мои документы\Мои рисунки\B_Fly04.gif"/>
          <p:cNvPicPr/>
          <p:nvPr/>
        </p:nvPicPr>
        <p:blipFill>
          <a:blip r:embed="rId10"/>
          <a:stretch/>
        </p:blipFill>
        <p:spPr>
          <a:xfrm flipH="1">
            <a:off x="1618920" y="4869000"/>
            <a:ext cx="576360" cy="49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C:\Documents and Settings\Loner\Мои документы\Мои рисунки\B_Fly04.gif"/>
          <p:cNvPicPr/>
          <p:nvPr/>
        </p:nvPicPr>
        <p:blipFill>
          <a:blip r:embed="rId11"/>
          <a:stretch/>
        </p:blipFill>
        <p:spPr>
          <a:xfrm>
            <a:off x="3348000" y="5013360"/>
            <a:ext cx="647640" cy="4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C:\Documents and Settings\Loner\Мои документы\Мои рисунки\B_Fly04.gif"/>
          <p:cNvPicPr/>
          <p:nvPr/>
        </p:nvPicPr>
        <p:blipFill>
          <a:blip r:embed="rId12"/>
          <a:stretch/>
        </p:blipFill>
        <p:spPr>
          <a:xfrm>
            <a:off x="6516720" y="404640"/>
            <a:ext cx="5032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 u="sng">
                <a:solidFill>
                  <a:srgbClr val="0000ff"/>
                </a:solidFill>
                <a:uFillTx/>
                <a:latin typeface="Arial"/>
              </a:rPr>
              <a:t>Үшінші деңгей – қолда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3300"/>
                </a:solidFill>
                <a:latin typeface="Times New Roman"/>
              </a:rPr>
              <a:t>Өрмекшіні құру арқылы халық ауыз әдебиетінің түрлерін топтасры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4"/>
          <p:cNvSpPr/>
          <p:nvPr/>
        </p:nvSpPr>
        <p:spPr>
          <a:xfrm>
            <a:off x="826920" y="0"/>
            <a:ext cx="740736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1484280"/>
            <a:ext cx="15829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1197000"/>
            <a:ext cx="1512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1484280"/>
            <a:ext cx="15127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3860640"/>
            <a:ext cx="16574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67280" y="4292640"/>
            <a:ext cx="1439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4076640"/>
            <a:ext cx="1584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8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299" dur="500" autoRev="1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2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03" dur="500" autoRev="1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94"/>
          <p:cNvSpPr/>
          <p:nvPr/>
        </p:nvSpPr>
        <p:spPr>
          <a:xfrm>
            <a:off x="1042920" y="260280"/>
            <a:ext cx="740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Өрмекшіні құру арқылы халық ауыз әдебиетінің түрлерін топтас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4"/>
          <p:cNvSpPr/>
          <p:nvPr/>
        </p:nvSpPr>
        <p:spPr>
          <a:xfrm>
            <a:off x="1187280" y="1484280"/>
            <a:ext cx="7407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2268360" y="5084640"/>
            <a:ext cx="2095560" cy="150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5003280" y="4941720"/>
            <a:ext cx="1863720" cy="1505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203640" y="2421000"/>
            <a:ext cx="3456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987280" y="1989000"/>
            <a:ext cx="57636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788000" y="1700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084720" y="1988640"/>
            <a:ext cx="64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87280" y="3357720"/>
            <a:ext cx="64764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3573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00280"/>
            <a:ext cx="86544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052640"/>
            <a:ext cx="280836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Мақал – мәтелд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1197000"/>
            <a:ext cx="2735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ұмбақт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27640" y="1268280"/>
            <a:ext cx="2376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аты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500280"/>
            <a:ext cx="2448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ұрмыс-сал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4221000"/>
            <a:ext cx="251964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ңыз әңгіме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3860640"/>
            <a:ext cx="251928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Төрт түлік тур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жыр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5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5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52,0)"/>
                                      </p:to>
                                    </p:set>
                                    <p:set>
                                      <p:cBhvr>
                                        <p:cTn id="336" dur="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Arial"/>
              </a:rPr>
              <a:t>Мына сөздерді пайдаланып, мақал-мәтел жазыңдар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Times New Roman"/>
              </a:rPr>
              <a:t>Отан, жер, еңбек, оқу, тіл, білі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Эйлер дөңгелегі арқылы  қарама – қарсы мағына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ақал-мәтелдерді көрсетіңдер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993300"/>
                </a:solidFill>
                <a:latin typeface="Arial"/>
              </a:rPr>
              <a:t>Оқулықпен жұмыс.  26-27 б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2924280"/>
            <a:ext cx="763272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Дос                                                  Дұш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Жақсыдан                                       Жаман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шу                                                Ақ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2924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92428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0" y="5229360"/>
            <a:ext cx="1449360" cy="1628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7308720" y="5157720"/>
            <a:ext cx="15084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826920" y="404640"/>
            <a:ext cx="7407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C:\Documents and Settings\Loner\Мои документы\Мои рисунки\f121.gif"/>
          <p:cNvPicPr/>
          <p:nvPr/>
        </p:nvPicPr>
        <p:blipFill>
          <a:blip r:embed="rId1"/>
          <a:stretch/>
        </p:blipFill>
        <p:spPr>
          <a:xfrm flipH="1">
            <a:off x="145800" y="494172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C:\Documents and Settings\Loner\Мои документы\Мои рисунки\B_Fly04.gif"/>
          <p:cNvPicPr/>
          <p:nvPr/>
        </p:nvPicPr>
        <p:blipFill>
          <a:blip r:embed="rId2"/>
          <a:stretch/>
        </p:blipFill>
        <p:spPr>
          <a:xfrm flipH="1">
            <a:off x="1402920" y="4653000"/>
            <a:ext cx="576360" cy="498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C:\Documents and Settings\Loner\Мои документы\Мои рисунки\B_Fly04.gif"/>
          <p:cNvPicPr/>
          <p:nvPr/>
        </p:nvPicPr>
        <p:blipFill>
          <a:blip r:embed="rId3"/>
          <a:stretch/>
        </p:blipFill>
        <p:spPr>
          <a:xfrm>
            <a:off x="7451640" y="4724280"/>
            <a:ext cx="503280" cy="4986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4"/>
          <p:cNvSpPr/>
          <p:nvPr/>
        </p:nvSpPr>
        <p:spPr>
          <a:xfrm>
            <a:off x="5292720" y="1484280"/>
            <a:ext cx="3301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C:\Documents and Settings\Loner\Мои документы\Мои рисунки\f121.gif"/>
          <p:cNvPicPr/>
          <p:nvPr/>
        </p:nvPicPr>
        <p:blipFill>
          <a:blip r:embed="rId4"/>
          <a:stretch/>
        </p:blipFill>
        <p:spPr>
          <a:xfrm>
            <a:off x="217440" y="335772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ocuments and Settings\Loner\Мои документы\Мои рисунки\f121.gif"/>
          <p:cNvPicPr/>
          <p:nvPr/>
        </p:nvPicPr>
        <p:blipFill>
          <a:blip r:embed="rId5"/>
          <a:stretch/>
        </p:blipFill>
        <p:spPr>
          <a:xfrm flipH="1">
            <a:off x="99720" y="170028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Documents and Settings\Loner\Мои документы\Мои рисунки\f121.gif"/>
          <p:cNvPicPr/>
          <p:nvPr/>
        </p:nvPicPr>
        <p:blipFill>
          <a:blip r:embed="rId6"/>
          <a:stretch/>
        </p:blipFill>
        <p:spPr>
          <a:xfrm>
            <a:off x="171360" y="115920"/>
            <a:ext cx="86544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Documents and Settings\Loner\Мои документы\Мои рисунки\f121.gif"/>
          <p:cNvPicPr/>
          <p:nvPr/>
        </p:nvPicPr>
        <p:blipFill>
          <a:blip r:embed="rId7"/>
          <a:stretch/>
        </p:blipFill>
        <p:spPr>
          <a:xfrm>
            <a:off x="8172360" y="4941720"/>
            <a:ext cx="8654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:\Documents and Settings\Loner\Мои документы\Мои рисунки\f121.gif"/>
          <p:cNvPicPr/>
          <p:nvPr/>
        </p:nvPicPr>
        <p:blipFill>
          <a:blip r:embed="rId8"/>
          <a:stretch/>
        </p:blipFill>
        <p:spPr>
          <a:xfrm flipH="1">
            <a:off x="8086320" y="3357720"/>
            <a:ext cx="934920" cy="1523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C:\Documents and Settings\Loner\Мои документы\Мои рисунки\f121.gif"/>
          <p:cNvPicPr/>
          <p:nvPr/>
        </p:nvPicPr>
        <p:blipFill>
          <a:blip r:embed="rId9"/>
          <a:stretch/>
        </p:blipFill>
        <p:spPr>
          <a:xfrm>
            <a:off x="8113680" y="1844640"/>
            <a:ext cx="865080" cy="1523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Loner\Мои документы\Мои рисунки\f121.gif"/>
          <p:cNvPicPr/>
          <p:nvPr/>
        </p:nvPicPr>
        <p:blipFill>
          <a:blip r:embed="rId10"/>
          <a:stretch/>
        </p:blipFill>
        <p:spPr>
          <a:xfrm flipH="1">
            <a:off x="8027640" y="260280"/>
            <a:ext cx="934920" cy="1524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Documents and Settings\Loner\Мои документы\Мои рисунки\r8.gif"/>
          <p:cNvPicPr/>
          <p:nvPr/>
        </p:nvPicPr>
        <p:blipFill>
          <a:blip r:embed="rId11"/>
          <a:stretch/>
        </p:blipFill>
        <p:spPr>
          <a:xfrm>
            <a:off x="1403280" y="5353200"/>
            <a:ext cx="2095560" cy="1504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Documents and Settings\Loner\Мои документы\Мои рисунки\r8.gif"/>
          <p:cNvPicPr/>
          <p:nvPr/>
        </p:nvPicPr>
        <p:blipFill>
          <a:blip r:embed="rId12"/>
          <a:stretch/>
        </p:blipFill>
        <p:spPr>
          <a:xfrm flipH="1">
            <a:off x="4571640" y="5589720"/>
            <a:ext cx="1863720" cy="150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Documents and Settings\Loner\Мои документы\Мои рисунки\30_1.gif"/>
          <p:cNvPicPr/>
          <p:nvPr/>
        </p:nvPicPr>
        <p:blipFill>
          <a:blip r:embed="rId13"/>
          <a:stretch/>
        </p:blipFill>
        <p:spPr>
          <a:xfrm>
            <a:off x="3780000" y="4869000"/>
            <a:ext cx="1295280" cy="936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 u="sng">
                <a:solidFill>
                  <a:srgbClr val="0000ff"/>
                </a:solidFill>
                <a:uFillTx/>
                <a:latin typeface="Times New Roman"/>
              </a:rPr>
              <a:t>Төртінші деңгей – талда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4"/>
          <a:stretch/>
        </p:blipFill>
        <p:spPr>
          <a:xfrm>
            <a:off x="971640" y="1052640"/>
            <a:ext cx="3398760" cy="4464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932360" y="1691280"/>
            <a:ext cx="3141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Мына суретте ауы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әдебиетінің қан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түрі бейнеленг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деп ойлайсыңда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7:05:16Z</dcterms:created>
  <dc:creator>Пользователь</dc:creator>
  <dc:description/>
  <dc:language>en-US</dc:language>
  <cp:lastModifiedBy>Admin</cp:lastModifiedBy>
  <dcterms:modified xsi:type="dcterms:W3CDTF">2012-04-29T16:37:03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9000000000001024110</vt:lpwstr>
  </property>
</Properties>
</file>