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4FFA-F5BC-4E29-8112-70357CA4F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DAED-37DC-4B09-A76F-7CBA9C2E1F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126-0CDA-4563-A1E2-16664563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1C1-07F3-4B98-BCCC-8DF960EC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F5E-3690-4E86-BBD5-9D2CD1A9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424-724E-484C-B3D9-6B5E72A2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6D3-4B7E-4346-B071-E7EBE21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30E-6C4E-4ECE-A690-5B51B7A0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696-F203-4121-8A71-D5108F8A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B4A-D649-4E80-8431-790451CA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EBC-FD08-42FE-ACD2-D0430F25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240-2C3F-4A5E-B3DF-44750325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B94-C65F-4F09-9AE6-A8BE760A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F38-CFE0-4C51-82A0-82C3571A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C743-A5B6-4356-975E-2E6680AA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4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4"/>
          <p:cNvSpPr/>
          <p:nvPr/>
        </p:nvSpPr>
        <p:spPr>
          <a:xfrm>
            <a:off x="826920" y="2565360"/>
            <a:ext cx="7407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Тақырып: </a:t>
            </a:r>
            <a:r>
              <a:rPr b="1" i="1" lang="kk-KZ" sz="4000" spc="-1" strike="noStrike">
                <a:solidFill>
                  <a:srgbClr val="993300"/>
                </a:solidFill>
                <a:latin typeface="Arial"/>
              </a:rPr>
              <a:t>“Ертегі туралы түсінік</a:t>
            </a:r>
            <a:r>
              <a:rPr b="1" i="1" lang="kk-KZ" sz="36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i="1" lang="kk-KZ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3200" spc="-1" strike="noStrike" u="sng">
                <a:solidFill>
                  <a:srgbClr val="0000ff"/>
                </a:solidFill>
                <a:uFillTx/>
                <a:latin typeface="Arial"/>
              </a:rPr>
              <a:t>Пән: Әдеби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 u="sng">
                <a:solidFill>
                  <a:srgbClr val="0000ff"/>
                </a:solidFill>
                <a:uFillTx/>
                <a:latin typeface="Arial"/>
              </a:rPr>
              <a:t>Сынып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ff"/>
                </a:solidFill>
                <a:latin typeface="Times New Roman"/>
              </a:rPr>
              <a:t>Оқулықпен жұмыс 34-35 б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3300"/>
                </a:solidFill>
                <a:latin typeface="Arial"/>
              </a:rPr>
              <a:t>Тақырыпты оқып шығып, ертегінің түрлерін ажыратып, топтасты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3300"/>
                </a:solidFill>
                <a:latin typeface="Arial"/>
              </a:rPr>
              <a:t>Олардың айырмашылығын тауып, дәлелдеп, кестені толты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4"/>
          <p:cNvSpPr/>
          <p:nvPr/>
        </p:nvSpPr>
        <p:spPr>
          <a:xfrm>
            <a:off x="826920" y="404640"/>
            <a:ext cx="740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332000" y="616572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524720" y="6093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51664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219280" y="5589720"/>
            <a:ext cx="1863720" cy="1504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4140360" y="5445000"/>
            <a:ext cx="1295280" cy="93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43280" y="404640"/>
            <a:ext cx="352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1700280"/>
            <a:ext cx="1655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Хайуана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ур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1700280"/>
            <a:ext cx="172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иял-ғажайы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1700280"/>
            <a:ext cx="16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ынш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9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1413000"/>
            <a:ext cx="633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Негізг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йіпкер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ң, құс, 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ануарл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 жүр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ты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дамд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сын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шк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 алу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иғал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янда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Өмірдег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ы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иғал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янда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C:\Documents and Settings\Loner\Мои документы\Мои рисунки\r8.gif"/>
          <p:cNvPicPr/>
          <p:nvPr/>
        </p:nvPicPr>
        <p:blipFill>
          <a:blip r:embed="rId14"/>
          <a:stretch/>
        </p:blipFill>
        <p:spPr>
          <a:xfrm flipH="1">
            <a:off x="5148000" y="5734080"/>
            <a:ext cx="186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"/>
          <p:cNvSpPr/>
          <p:nvPr/>
        </p:nvSpPr>
        <p:spPr>
          <a:xfrm>
            <a:off x="0" y="164304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2457"/>
          <p:cNvPicPr/>
          <p:nvPr/>
        </p:nvPicPr>
        <p:blipFill>
          <a:blip r:embed="rId1"/>
          <a:stretch/>
        </p:blipFill>
        <p:spPr>
          <a:xfrm>
            <a:off x="3071880" y="1714680"/>
            <a:ext cx="3929040" cy="3112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2"/>
          <p:cNvSpPr/>
          <p:nvPr/>
        </p:nvSpPr>
        <p:spPr>
          <a:xfrm rot="16864800">
            <a:off x="3995280" y="541980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Адамдар неге ертегіні ойлап шығар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5"/>
          <p:cNvSpPr/>
          <p:nvPr/>
        </p:nvSpPr>
        <p:spPr>
          <a:xfrm rot="1276200">
            <a:off x="1368000" y="3282840"/>
            <a:ext cx="319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3300"/>
                </a:solidFill>
                <a:latin typeface="Times New Roman"/>
              </a:rPr>
              <a:t>Адамдардың жақ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3300"/>
                </a:solidFill>
                <a:latin typeface="Times New Roman"/>
              </a:rPr>
              <a:t>өмірді аңсау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6"/>
          <p:cNvSpPr/>
          <p:nvPr/>
        </p:nvSpPr>
        <p:spPr>
          <a:xfrm rot="14517000">
            <a:off x="2551680" y="88488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ұшақ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 rot="15793800">
            <a:off x="3057480" y="594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машин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8"/>
          <p:cNvSpPr/>
          <p:nvPr/>
        </p:nvSpPr>
        <p:spPr>
          <a:xfrm rot="17416200">
            <a:off x="4415040" y="90216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Жарық, 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9"/>
          <p:cNvSpPr/>
          <p:nvPr/>
        </p:nvSpPr>
        <p:spPr>
          <a:xfrm rot="17624400">
            <a:off x="5609880" y="98136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Ұялы байланыс, телефон, х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0"/>
          <p:cNvSpPr/>
          <p:nvPr/>
        </p:nvSpPr>
        <p:spPr>
          <a:xfrm>
            <a:off x="285840" y="35712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Бесінші деңгей- син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ff"/>
                </a:solidFill>
                <a:latin typeface="Arial"/>
                <a:ea typeface="Arial"/>
              </a:rPr>
              <a:t>Гениологиялық ағ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53"/>
          <p:cNvCxnSpPr/>
          <p:nvPr/>
        </p:nvCxnSpPr>
        <p:spPr>
          <a:xfrm>
            <a:off x="3634920" y="3933720"/>
            <a:ext cx="10724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7" name="Picture 4" descr="C:\Documents and Settings\Loner\Мои документы\Мои рисунки\f121.gif"/>
          <p:cNvPicPr/>
          <p:nvPr/>
        </p:nvPicPr>
        <p:blipFill>
          <a:blip r:embed="rId2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Loner\Мои документы\Мои рисунки\f121.gif"/>
          <p:cNvPicPr/>
          <p:nvPr/>
        </p:nvPicPr>
        <p:blipFill>
          <a:blip r:embed="rId3"/>
          <a:stretch/>
        </p:blipFill>
        <p:spPr>
          <a:xfrm flipH="1">
            <a:off x="7956360" y="40464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 flipH="1">
            <a:off x="-360" y="206064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>
            <a:off x="250920" y="364500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 flipH="1">
            <a:off x="179280" y="5334120"/>
            <a:ext cx="935280" cy="152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Documents and Settings\Loner\Мои документы\Мои рисунки\r8.gif"/>
          <p:cNvPicPr/>
          <p:nvPr/>
        </p:nvPicPr>
        <p:blipFill>
          <a:blip r:embed="rId10"/>
          <a:stretch/>
        </p:blipFill>
        <p:spPr>
          <a:xfrm>
            <a:off x="1476360" y="535320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 flipH="1">
            <a:off x="5795640" y="5353200"/>
            <a:ext cx="186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94"/>
          <p:cNvSpPr/>
          <p:nvPr/>
        </p:nvSpPr>
        <p:spPr>
          <a:xfrm>
            <a:off x="1187280" y="404640"/>
            <a:ext cx="633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Алтыншы деңгей - баға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280" y="1773360"/>
            <a:ext cx="6840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993300"/>
                </a:solidFill>
                <a:latin typeface="Arial"/>
              </a:rPr>
              <a:t>Сүйікті ертегімнің кейіпкері маған неге ұнайды?» тақырыбында шағын әңгіме жазу.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7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8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4"/>
          <p:cNvSpPr/>
          <p:nvPr/>
        </p:nvSpPr>
        <p:spPr>
          <a:xfrm>
            <a:off x="826920" y="2565360"/>
            <a:ext cx="7407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0000ff"/>
                </a:solidFill>
                <a:uFillTx/>
                <a:latin typeface="Times New Roman"/>
              </a:rPr>
              <a:t>Мақсаты:</a:t>
            </a: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ертегілер және оның түрлері туралы түсінік алу,тіл байлығымды дамыту, ертегі оқуға деген қызығушылығымды артты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0000ff"/>
                </a:solidFill>
                <a:uFillTx/>
                <a:latin typeface="Times New Roman"/>
              </a:rPr>
              <a:t>Мазмұны</a:t>
            </a: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ертегі туралы түсін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2. ертегінің түрлері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5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5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95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5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7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4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5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4"/>
          <p:cNvSpPr/>
          <p:nvPr/>
        </p:nvSpPr>
        <p:spPr>
          <a:xfrm>
            <a:off x="971640" y="333360"/>
            <a:ext cx="7407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Морфологиялық к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250920" y="1397160"/>
          <a:ext cx="8569080" cy="5055840"/>
        </p:xfrm>
        <a:graphic>
          <a:graphicData uri="http://schemas.openxmlformats.org/drawingml/2006/table">
            <a:tbl>
              <a:tblPr/>
              <a:tblGrid>
                <a:gridCol w="504720"/>
                <a:gridCol w="1224000"/>
                <a:gridCol w="1800360"/>
                <a:gridCol w="1584000"/>
                <a:gridCol w="1729080"/>
                <a:gridCol w="1726920"/>
              </a:tblGrid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ақ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ы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Өмірг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қажетт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ақ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Басқа пәндерде кездесетін ақ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Берілген пәнді одан әрі оқып тану үшін қажетті ақпарат</a:t>
                      </a: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Жалпы ой-өрісін дамыту үшін ақпарат</a:t>
                      </a: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Ертегі туралы түсін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Ертегінің көркем, бай тілі арқылы шешен сөйлеуге, өз ойын әдемі баяндау үйренеді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Қазақ тілі, тар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ҰБТ, ОЖСБ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5-11 әдебие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анымдық қабілетін, ой-қиялын,тіл байлығын дамы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4"/>
          <p:cNvSpPr/>
          <p:nvPr/>
        </p:nvSpPr>
        <p:spPr>
          <a:xfrm>
            <a:off x="1042920" y="2276640"/>
            <a:ext cx="7191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Фольклор мен ауыз әдебиеті бір ұғым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 Ауыз әдебиетінің қандай белгілері б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Ауыз әдебиетінің қандай түрлері б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Мақал – мәтелдерді неге ауыз әдебиетіне жатқызамы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Мақал мен мәтелдің айырмасын ай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Жұмбақ ауыз әдебиетінің қандай түр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4"/>
          <p:cNvSpPr/>
          <p:nvPr/>
        </p:nvSpPr>
        <p:spPr>
          <a:xfrm>
            <a:off x="826920" y="404640"/>
            <a:ext cx="740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 u="sng">
                <a:solidFill>
                  <a:srgbClr val="0000ff"/>
                </a:solidFill>
                <a:uFillTx/>
                <a:latin typeface="Arial"/>
              </a:rPr>
              <a:t>Бірінші деңгей - білімдер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6040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0"/>
          <p:cNvSpPr txBox="1"/>
          <p:nvPr/>
        </p:nvSpPr>
        <p:spPr>
          <a:xfrm>
            <a:off x="1692360" y="1125360"/>
            <a:ext cx="5543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Қане жауап ізделі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5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5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5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5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5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5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4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5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2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3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0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4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5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692360" y="260280"/>
            <a:ext cx="7200720" cy="48974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Екінші деңгей – түсіну</a:t>
            </a: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Мына мақалдардың мағынасын қала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түсінесіңдер?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Өз сөздеріңмен білдірің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Жолдасы жақсы жолды бол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Жолдасы жаман қолды бо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- Татулық – табылмас бақы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- Оқусыз білім жоқ, білімсіз күнің жо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(әр қатарға 1 мақалд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763640" y="1341360"/>
            <a:ext cx="6913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1549440" cy="414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Loner\Мои документы\Мои рисунки\30_1.gif"/>
          <p:cNvPicPr/>
          <p:nvPr/>
        </p:nvPicPr>
        <p:blipFill>
          <a:blip r:embed="rId2"/>
          <a:stretch/>
        </p:blipFill>
        <p:spPr>
          <a:xfrm>
            <a:off x="6156360" y="5011560"/>
            <a:ext cx="1008000" cy="628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4"/>
          <p:cNvSpPr/>
          <p:nvPr/>
        </p:nvSpPr>
        <p:spPr>
          <a:xfrm>
            <a:off x="1763640" y="476280"/>
            <a:ext cx="6759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Loner\Мои документы\Мои рисунки\f121.gif"/>
          <p:cNvPicPr/>
          <p:nvPr/>
        </p:nvPicPr>
        <p:blipFill>
          <a:blip r:embed="rId3"/>
          <a:stretch/>
        </p:blipFill>
        <p:spPr>
          <a:xfrm flipH="1" rot="5400000">
            <a:off x="7098120" y="536616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 rot="16200000">
            <a:off x="5473080" y="533592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Documents and Settings\Loner\Мои документы\Мои рисунки\30_1.gif"/>
          <p:cNvPicPr/>
          <p:nvPr/>
        </p:nvPicPr>
        <p:blipFill>
          <a:blip r:embed="rId5"/>
          <a:stretch/>
        </p:blipFill>
        <p:spPr>
          <a:xfrm>
            <a:off x="2340000" y="5011560"/>
            <a:ext cx="1008000" cy="6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 flipH="1" rot="5400000">
            <a:off x="3281760" y="536616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 rot="16200000">
            <a:off x="1656720" y="533592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Loner\Мои документы\Мои рисунки\30_1.gif"/>
          <p:cNvPicPr/>
          <p:nvPr/>
        </p:nvPicPr>
        <p:blipFill>
          <a:blip r:embed="rId8"/>
          <a:stretch/>
        </p:blipFill>
        <p:spPr>
          <a:xfrm>
            <a:off x="0" y="0"/>
            <a:ext cx="1008000" cy="62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Loner\Мои документы\Мои рисунки\B_Fly04.gif"/>
          <p:cNvPicPr/>
          <p:nvPr/>
        </p:nvPicPr>
        <p:blipFill>
          <a:blip r:embed="rId9"/>
          <a:stretch/>
        </p:blipFill>
        <p:spPr>
          <a:xfrm flipH="1">
            <a:off x="8027640" y="33336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C:\Documents and Settings\Loner\Мои документы\Мои рисунки\B_Fly04.gif"/>
          <p:cNvPicPr/>
          <p:nvPr/>
        </p:nvPicPr>
        <p:blipFill>
          <a:blip r:embed="rId10"/>
          <a:stretch/>
        </p:blipFill>
        <p:spPr>
          <a:xfrm flipH="1">
            <a:off x="1618920" y="486900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Documents and Settings\Loner\Мои документы\Мои рисунки\B_Fly04.gif"/>
          <p:cNvPicPr/>
          <p:nvPr/>
        </p:nvPicPr>
        <p:blipFill>
          <a:blip r:embed="rId11"/>
          <a:stretch/>
        </p:blipFill>
        <p:spPr>
          <a:xfrm>
            <a:off x="3348000" y="5013360"/>
            <a:ext cx="647640" cy="4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:\Documents and Settings\Loner\Мои документы\Мои рисунки\B_Fly04.gif"/>
          <p:cNvPicPr/>
          <p:nvPr/>
        </p:nvPicPr>
        <p:blipFill>
          <a:blip r:embed="rId12"/>
          <a:stretch/>
        </p:blipFill>
        <p:spPr>
          <a:xfrm>
            <a:off x="6516720" y="404640"/>
            <a:ext cx="5032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4"/>
          <p:cNvSpPr/>
          <p:nvPr/>
        </p:nvSpPr>
        <p:spPr>
          <a:xfrm>
            <a:off x="1042920" y="260280"/>
            <a:ext cx="740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 u="sng">
                <a:solidFill>
                  <a:srgbClr val="0000ff"/>
                </a:solidFill>
                <a:uFillTx/>
                <a:latin typeface="Arial"/>
              </a:rPr>
              <a:t>Үшінші деңгей – қолд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Times New Roman"/>
              </a:rPr>
              <a:t>Өрмекшіні құру арқылы халық ауыз әдебиетінің түрлерін топтасры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4"/>
          <p:cNvSpPr/>
          <p:nvPr/>
        </p:nvSpPr>
        <p:spPr>
          <a:xfrm>
            <a:off x="826920" y="0"/>
            <a:ext cx="7407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3640" y="2421000"/>
            <a:ext cx="3456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987280" y="1989000"/>
            <a:ext cx="57636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788000" y="1700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84720" y="198864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987280" y="3357720"/>
            <a:ext cx="64764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573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3500280"/>
            <a:ext cx="86544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1484280"/>
            <a:ext cx="15829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1197000"/>
            <a:ext cx="1512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484280"/>
            <a:ext cx="151272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3860640"/>
            <a:ext cx="16574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429264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4076640"/>
            <a:ext cx="1584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98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99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02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03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4"/>
          <p:cNvSpPr/>
          <p:nvPr/>
        </p:nvSpPr>
        <p:spPr>
          <a:xfrm>
            <a:off x="1042920" y="260280"/>
            <a:ext cx="740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Times New Roman"/>
              </a:rPr>
              <a:t>Өрмекшіні құру арқылы халық ауыз әдебиетінің түрлерін топтас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03640" y="2421000"/>
            <a:ext cx="3456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987280" y="1989000"/>
            <a:ext cx="57636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788000" y="1700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84720" y="198864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87280" y="3357720"/>
            <a:ext cx="64764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3573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500280"/>
            <a:ext cx="86544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052640"/>
            <a:ext cx="280836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Мақал – мәтелд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1197000"/>
            <a:ext cx="2735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ұмбақ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1268280"/>
            <a:ext cx="2376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атырл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500280"/>
            <a:ext cx="2448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Тұрмыс-сал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4221000"/>
            <a:ext cx="25196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ңыз әңгіме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00720" y="3860640"/>
            <a:ext cx="25192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Төрт түлік тур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35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36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Мына сөздерді пайдаланып, мақал-мәтел жазыңдар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Times New Roman"/>
              </a:rPr>
              <a:t>Отан, жер, еңбек, оқу, тіл, білі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Эйлер дөңгелегі арқылы  қарама – қарсы мағын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ақал-мәтелдерді көрсетіңдер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3300"/>
                </a:solidFill>
                <a:latin typeface="Arial"/>
              </a:rPr>
              <a:t>Оқулықпен жұмыс.  26-27 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924280"/>
            <a:ext cx="763272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Дос                                                  Дұш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Жақсыдан                                       Жаман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шу                                                Ақ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2924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292428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0" y="5229360"/>
            <a:ext cx="1449360" cy="1628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50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4"/>
          <p:cNvSpPr/>
          <p:nvPr/>
        </p:nvSpPr>
        <p:spPr>
          <a:xfrm>
            <a:off x="5292720" y="1484280"/>
            <a:ext cx="3301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1403280" y="535320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4571640" y="5589720"/>
            <a:ext cx="1863720" cy="150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Төртінші деңгей – талда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4"/>
          <a:stretch/>
        </p:blipFill>
        <p:spPr>
          <a:xfrm>
            <a:off x="971640" y="1052640"/>
            <a:ext cx="3398760" cy="4464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32360" y="1691280"/>
            <a:ext cx="3141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Мына суретте ауы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әдебиетінің қанд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түрі бейнеленг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деп ойлайсыңда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7:05:16Z</dcterms:created>
  <dc:creator>Пользователь</dc:creator>
  <dc:description/>
  <dc:language>en-US</dc:language>
  <cp:lastModifiedBy>Admin</cp:lastModifiedBy>
  <dcterms:modified xsi:type="dcterms:W3CDTF">2012-04-29T16:37:03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9000000000001024110</vt:lpwstr>
  </property>
</Properties>
</file>