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870C-C0A6-4BCB-86DC-159F641D50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A57B-CFE7-4B10-9457-57BC169C11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9B1-3AAF-4D4F-B19C-A7DBF1E9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02F-D2CF-4119-B363-384137EA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F9C-BED1-4418-AE09-F367B5F0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012-4C2C-404E-8ED4-AD150FFD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5C8-B85C-4CBD-BE70-5D3C243D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197-8B57-41B3-9F8E-3CFF54B9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650-766C-4DB0-88D6-69F66CAC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813-1772-4BD2-A145-7DA14D33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36F-56ED-41F6-9C24-B2EF224C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B39-64FD-4292-B5ED-7F30A614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4F8-A011-487F-8A05-FD3879FF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6E2-18A3-4107-B6E4-B3241283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55A6-AC27-4FC8-8F6F-CB849DC75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4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4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4"/>
          <p:cNvSpPr/>
          <p:nvPr/>
        </p:nvSpPr>
        <p:spPr>
          <a:xfrm>
            <a:off x="826920" y="2565360"/>
            <a:ext cx="7407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Тақырып: </a:t>
            </a:r>
            <a:r>
              <a:rPr b="1" i="1" lang="kk-KZ" sz="4000" spc="-1" strike="noStrike">
                <a:solidFill>
                  <a:srgbClr val="993300"/>
                </a:solidFill>
                <a:latin typeface="Arial"/>
              </a:rPr>
              <a:t>“Ертегі туралы түсінік</a:t>
            </a:r>
            <a:r>
              <a:rPr b="1" i="1" lang="kk-KZ" sz="3600" spc="-1" strike="noStrike">
                <a:solidFill>
                  <a:srgbClr val="993300"/>
                </a:solidFill>
                <a:latin typeface="Arial"/>
              </a:rPr>
              <a:t>”</a:t>
            </a:r>
            <a:r>
              <a:rPr b="1" i="1" lang="kk-KZ" sz="36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3200" spc="-1" strike="noStrike" u="sng">
                <a:solidFill>
                  <a:srgbClr val="0000ff"/>
                </a:solidFill>
                <a:uFillTx/>
                <a:latin typeface="Arial"/>
              </a:rPr>
              <a:t>Пән: Әдеби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4000" spc="-1" strike="noStrike" u="sng">
                <a:solidFill>
                  <a:srgbClr val="0000ff"/>
                </a:solidFill>
                <a:uFillTx/>
                <a:latin typeface="Arial"/>
              </a:rPr>
              <a:t>Сынып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ff"/>
                </a:solidFill>
                <a:latin typeface="Times New Roman"/>
              </a:rPr>
              <a:t>Оқулықпен жұмыс 34-35 б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993300"/>
                </a:solidFill>
                <a:latin typeface="Arial"/>
              </a:rPr>
              <a:t>Тақырыпты оқып шығып, ертегінің түрлерін ажыратып, топтасты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993300"/>
                </a:solidFill>
                <a:latin typeface="Arial"/>
              </a:rPr>
              <a:t>Олардың айырмашылығын тауып, дәлелдеп, кестені толты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4"/>
          <p:cNvSpPr/>
          <p:nvPr/>
        </p:nvSpPr>
        <p:spPr>
          <a:xfrm>
            <a:off x="826920" y="404640"/>
            <a:ext cx="7407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332000" y="6165720"/>
            <a:ext cx="576000" cy="498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524720" y="6093000"/>
            <a:ext cx="503280" cy="498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516640"/>
            <a:ext cx="2095560" cy="1504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219280" y="5589720"/>
            <a:ext cx="1863720" cy="1504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4140360" y="5445000"/>
            <a:ext cx="1295280" cy="936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843280" y="404640"/>
            <a:ext cx="352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Ертегі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1700280"/>
            <a:ext cx="1655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Хайуана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ур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ртегі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1700280"/>
            <a:ext cx="1727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иял-ғажайы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ртегі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84720" y="1700280"/>
            <a:ext cx="16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ынш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ртегі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9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1413000"/>
            <a:ext cx="633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0920" y="141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141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04000" y="141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2997360"/>
            <a:ext cx="158436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Негізг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йіпкер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ң, құс, ү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ануарл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ол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08360" y="2997360"/>
            <a:ext cx="158436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р жүр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аты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дамдар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асын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шк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н алу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иғал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аяндал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2997360"/>
            <a:ext cx="158436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Өмірдег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ынд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иғала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аяндал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C:\Documents and Settings\Loner\Мои документы\Мои рисунки\r8.gif"/>
          <p:cNvPicPr/>
          <p:nvPr/>
        </p:nvPicPr>
        <p:blipFill>
          <a:blip r:embed="rId14"/>
          <a:stretch/>
        </p:blipFill>
        <p:spPr>
          <a:xfrm flipH="1">
            <a:off x="5148000" y="5734080"/>
            <a:ext cx="18637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2"/>
          <p:cNvSpPr/>
          <p:nvPr/>
        </p:nvSpPr>
        <p:spPr>
          <a:xfrm>
            <a:off x="0" y="164304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2457"/>
          <p:cNvPicPr/>
          <p:nvPr/>
        </p:nvPicPr>
        <p:blipFill>
          <a:blip r:embed="rId1"/>
          <a:stretch/>
        </p:blipFill>
        <p:spPr>
          <a:xfrm>
            <a:off x="3071880" y="1714680"/>
            <a:ext cx="3929040" cy="31129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2"/>
          <p:cNvSpPr/>
          <p:nvPr/>
        </p:nvSpPr>
        <p:spPr>
          <a:xfrm rot="16864800">
            <a:off x="3995280" y="5419800"/>
            <a:ext cx="202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Адамдар неге ертегіні ойлап шығар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5"/>
          <p:cNvSpPr/>
          <p:nvPr/>
        </p:nvSpPr>
        <p:spPr>
          <a:xfrm rot="1276200">
            <a:off x="1368000" y="3282840"/>
            <a:ext cx="319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3300"/>
                </a:solidFill>
                <a:latin typeface="Times New Roman"/>
              </a:rPr>
              <a:t>Адамдардың жақ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3300"/>
                </a:solidFill>
                <a:latin typeface="Times New Roman"/>
              </a:rPr>
              <a:t>өмірді аңсау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6"/>
          <p:cNvSpPr/>
          <p:nvPr/>
        </p:nvSpPr>
        <p:spPr>
          <a:xfrm rot="14517000">
            <a:off x="2551680" y="884880"/>
            <a:ext cx="15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ұшақ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7"/>
          <p:cNvSpPr/>
          <p:nvPr/>
        </p:nvSpPr>
        <p:spPr>
          <a:xfrm rot="15793800">
            <a:off x="3057480" y="594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машина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8"/>
          <p:cNvSpPr/>
          <p:nvPr/>
        </p:nvSpPr>
        <p:spPr>
          <a:xfrm rot="17416200">
            <a:off x="4415040" y="90216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Жарық, 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9"/>
          <p:cNvSpPr/>
          <p:nvPr/>
        </p:nvSpPr>
        <p:spPr>
          <a:xfrm rot="17624400">
            <a:off x="5609880" y="981360"/>
            <a:ext cx="20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Ұялы байланыс, телефон, х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0"/>
          <p:cNvSpPr/>
          <p:nvPr/>
        </p:nvSpPr>
        <p:spPr>
          <a:xfrm>
            <a:off x="285840" y="357120"/>
            <a:ext cx="24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Бесінші деңгей- синт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ff"/>
                </a:solidFill>
                <a:latin typeface="Arial"/>
                <a:ea typeface="Arial"/>
              </a:rPr>
              <a:t>Гениологиялық ағ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Прямая со стрелкой 53"/>
          <p:cNvCxnSpPr/>
          <p:nvPr/>
        </p:nvCxnSpPr>
        <p:spPr>
          <a:xfrm>
            <a:off x="3634920" y="3933720"/>
            <a:ext cx="107244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47" name="Picture 4" descr="C:\Documents and Settings\Loner\Мои документы\Мои рисунки\f121.gif"/>
          <p:cNvPicPr/>
          <p:nvPr/>
        </p:nvPicPr>
        <p:blipFill>
          <a:blip r:embed="rId2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Documents and Settings\Loner\Мои документы\Мои рисунки\f121.gif"/>
          <p:cNvPicPr/>
          <p:nvPr/>
        </p:nvPicPr>
        <p:blipFill>
          <a:blip r:embed="rId3"/>
          <a:stretch/>
        </p:blipFill>
        <p:spPr>
          <a:xfrm flipH="1">
            <a:off x="7956360" y="40464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 flipH="1">
            <a:off x="-360" y="206064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>
            <a:off x="250920" y="364500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 flipH="1">
            <a:off x="179280" y="5334120"/>
            <a:ext cx="935280" cy="1523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C:\Documents and Settings\Loner\Мои документы\Мои рисунки\r8.gif"/>
          <p:cNvPicPr/>
          <p:nvPr/>
        </p:nvPicPr>
        <p:blipFill>
          <a:blip r:embed="rId10"/>
          <a:stretch/>
        </p:blipFill>
        <p:spPr>
          <a:xfrm>
            <a:off x="1476360" y="5353200"/>
            <a:ext cx="2095560" cy="1504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 flipH="1">
            <a:off x="5795640" y="5353200"/>
            <a:ext cx="18637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94"/>
          <p:cNvSpPr/>
          <p:nvPr/>
        </p:nvSpPr>
        <p:spPr>
          <a:xfrm>
            <a:off x="1187280" y="404640"/>
            <a:ext cx="6336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2400" spc="-1" strike="noStrike" u="sng">
                <a:solidFill>
                  <a:srgbClr val="0000ff"/>
                </a:solidFill>
                <a:uFillTx/>
                <a:latin typeface="Times New Roman"/>
              </a:rPr>
              <a:t>Алтыншы деңгей - бағал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71280" y="1773360"/>
            <a:ext cx="6840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993300"/>
                </a:solidFill>
                <a:latin typeface="Arial"/>
              </a:rPr>
              <a:t>Сүйікті ертегімнің кейіпкері маған неге ұнайды?» тақырыбында шағын әңгіме жазу.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97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98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4"/>
          <p:cNvSpPr/>
          <p:nvPr/>
        </p:nvSpPr>
        <p:spPr>
          <a:xfrm>
            <a:off x="826920" y="2565360"/>
            <a:ext cx="7407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0000ff"/>
                </a:solidFill>
                <a:uFillTx/>
                <a:latin typeface="Times New Roman"/>
              </a:rPr>
              <a:t>Мақсаты:</a:t>
            </a: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993300"/>
                </a:solidFill>
                <a:latin typeface="Times New Roman"/>
              </a:rPr>
              <a:t>ертегілер және оның түрлері туралы түсінік алу,тіл байлығымды дамыту, ертегі оқуға деген қызығушылығымды артты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0000ff"/>
                </a:solidFill>
                <a:uFillTx/>
                <a:latin typeface="Times New Roman"/>
              </a:rPr>
              <a:t>Мазмұны</a:t>
            </a: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kk-KZ" sz="2800" spc="-1" strike="noStrike">
                <a:solidFill>
                  <a:srgbClr val="993300"/>
                </a:solidFill>
                <a:latin typeface="Times New Roman"/>
              </a:rPr>
              <a:t>ертегі туралы түсін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3300"/>
                </a:solidFill>
                <a:latin typeface="Times New Roman"/>
              </a:rPr>
              <a:t>2. ертегінің түрлері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5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5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95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45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02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06" dur="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07" dur="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500" autoRev="1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500" autoRev="1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4" dur="500" autoRev="1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5" dur="500" autoRev="1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9" dur="500" autoRev="1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4"/>
          <p:cNvSpPr/>
          <p:nvPr/>
        </p:nvSpPr>
        <p:spPr>
          <a:xfrm>
            <a:off x="971640" y="333360"/>
            <a:ext cx="7407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Морфологиялық к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250920" y="1397160"/>
          <a:ext cx="8569080" cy="5055840"/>
        </p:xfrm>
        <a:graphic>
          <a:graphicData uri="http://schemas.openxmlformats.org/drawingml/2006/table">
            <a:tbl>
              <a:tblPr/>
              <a:tblGrid>
                <a:gridCol w="504720"/>
                <a:gridCol w="1224000"/>
                <a:gridCol w="1800360"/>
                <a:gridCol w="1584000"/>
                <a:gridCol w="1729080"/>
                <a:gridCol w="1726920"/>
              </a:tblGrid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р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Тақ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ры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Өмірг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қажетт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ақпа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Басқа пәндерде кездесетін ақпа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Берілген пәнді одан әрі оқып тану үшін қажетті ақпарат</a:t>
                      </a: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Жалпы ой-өрісін дамыту үшін ақпарат</a:t>
                      </a: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Ертегі туралы түсін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Ертегінің көркем, бай тілі арқылы шешен сөйлеуге, өз ойын әдемі баяндау үйренеді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Қазақ тілі, тар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ҰБТ, ОЖСБ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5-11 әдебие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Танымдық қабілетін, ой-қиялын,тіл байлығын дамы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94"/>
          <p:cNvSpPr/>
          <p:nvPr/>
        </p:nvSpPr>
        <p:spPr>
          <a:xfrm>
            <a:off x="1042920" y="2276640"/>
            <a:ext cx="7191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Фольклор мен ауыз әдебиеті бір ұғым 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 Ауыз әдебиетінің қандай белгілері б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Ауыз әдебиетінің қандай түрлері б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Мақал – мәтелдерді неге ауыз әдебиетіне жатқызамы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Мақал мен мәтелдің айырмасын ай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Жұмбақ ауыз әдебиетінің қандай түр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4"/>
          <p:cNvSpPr/>
          <p:nvPr/>
        </p:nvSpPr>
        <p:spPr>
          <a:xfrm>
            <a:off x="826920" y="404640"/>
            <a:ext cx="7407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 u="sng">
                <a:solidFill>
                  <a:srgbClr val="0000ff"/>
                </a:solidFill>
                <a:uFillTx/>
                <a:latin typeface="Arial"/>
              </a:rPr>
              <a:t>Бірінші деңгей - білімдер</a:t>
            </a: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6040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20"/>
          <p:cNvSpPr txBox="1"/>
          <p:nvPr/>
        </p:nvSpPr>
        <p:spPr>
          <a:xfrm>
            <a:off x="1692360" y="1125360"/>
            <a:ext cx="5543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Қане жауап ізделі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5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5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5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5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5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5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24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25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500" autoRev="1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28" dur="500" autoRev="1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29" dur="500" autoRev="1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500" autoRev="1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32" dur="500" autoRev="1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33" dur="500" autoRev="1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500" autoRev="1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40" dur="500" autoRev="1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41" dur="500" autoRev="1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500" autoRev="1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44" dur="500" autoRev="1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45" dur="500" autoRev="1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692360" y="260280"/>
            <a:ext cx="7200720" cy="48974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0000ff"/>
                </a:solidFill>
                <a:uFillTx/>
                <a:latin typeface="Times New Roman"/>
              </a:rPr>
              <a:t>Екінші деңгей – түсіну</a:t>
            </a: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Мына мақалдардың мағынасын қала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түсінесіңдер?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Өз сөздеріңмен білдіріңд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Жолдасы жақсы жолды бол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Жолдасы жаман қолды бо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- Татулық – табылмас бақы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- Оқусыз білім жоқ, білімсіз күнің жо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(әр қатарға 1 мақалд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1763640" y="1341360"/>
            <a:ext cx="6913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0" y="1484280"/>
            <a:ext cx="1549440" cy="414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Documents and Settings\Loner\Мои документы\Мои рисунки\30_1.gif"/>
          <p:cNvPicPr/>
          <p:nvPr/>
        </p:nvPicPr>
        <p:blipFill>
          <a:blip r:embed="rId2"/>
          <a:stretch/>
        </p:blipFill>
        <p:spPr>
          <a:xfrm>
            <a:off x="6156360" y="5011560"/>
            <a:ext cx="1008000" cy="628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4"/>
          <p:cNvSpPr/>
          <p:nvPr/>
        </p:nvSpPr>
        <p:spPr>
          <a:xfrm>
            <a:off x="1763640" y="476280"/>
            <a:ext cx="6759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Documents and Settings\Loner\Мои документы\Мои рисунки\f121.gif"/>
          <p:cNvPicPr/>
          <p:nvPr/>
        </p:nvPicPr>
        <p:blipFill>
          <a:blip r:embed="rId3"/>
          <a:stretch/>
        </p:blipFill>
        <p:spPr>
          <a:xfrm flipH="1" rot="5400000">
            <a:off x="7098120" y="536616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 rot="16200000">
            <a:off x="5473080" y="5335920"/>
            <a:ext cx="934920" cy="15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Documents and Settings\Loner\Мои документы\Мои рисунки\30_1.gif"/>
          <p:cNvPicPr/>
          <p:nvPr/>
        </p:nvPicPr>
        <p:blipFill>
          <a:blip r:embed="rId5"/>
          <a:stretch/>
        </p:blipFill>
        <p:spPr>
          <a:xfrm>
            <a:off x="2340000" y="5011560"/>
            <a:ext cx="1008000" cy="62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 flipH="1" rot="5400000">
            <a:off x="3281760" y="536616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 rot="16200000">
            <a:off x="1656720" y="5335920"/>
            <a:ext cx="934920" cy="1584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Documents and Settings\Loner\Мои документы\Мои рисунки\30_1.gif"/>
          <p:cNvPicPr/>
          <p:nvPr/>
        </p:nvPicPr>
        <p:blipFill>
          <a:blip r:embed="rId8"/>
          <a:stretch/>
        </p:blipFill>
        <p:spPr>
          <a:xfrm>
            <a:off x="0" y="0"/>
            <a:ext cx="1008000" cy="628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Loner\Мои документы\Мои рисунки\B_Fly04.gif"/>
          <p:cNvPicPr/>
          <p:nvPr/>
        </p:nvPicPr>
        <p:blipFill>
          <a:blip r:embed="rId9"/>
          <a:stretch/>
        </p:blipFill>
        <p:spPr>
          <a:xfrm flipH="1">
            <a:off x="8027640" y="33336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C:\Documents and Settings\Loner\Мои документы\Мои рисунки\B_Fly04.gif"/>
          <p:cNvPicPr/>
          <p:nvPr/>
        </p:nvPicPr>
        <p:blipFill>
          <a:blip r:embed="rId10"/>
          <a:stretch/>
        </p:blipFill>
        <p:spPr>
          <a:xfrm flipH="1">
            <a:off x="1618920" y="486900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C:\Documents and Settings\Loner\Мои документы\Мои рисунки\B_Fly04.gif"/>
          <p:cNvPicPr/>
          <p:nvPr/>
        </p:nvPicPr>
        <p:blipFill>
          <a:blip r:embed="rId11"/>
          <a:stretch/>
        </p:blipFill>
        <p:spPr>
          <a:xfrm>
            <a:off x="3348000" y="5013360"/>
            <a:ext cx="647640" cy="49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C:\Documents and Settings\Loner\Мои документы\Мои рисунки\B_Fly04.gif"/>
          <p:cNvPicPr/>
          <p:nvPr/>
        </p:nvPicPr>
        <p:blipFill>
          <a:blip r:embed="rId12"/>
          <a:stretch/>
        </p:blipFill>
        <p:spPr>
          <a:xfrm>
            <a:off x="6516720" y="404640"/>
            <a:ext cx="5032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4"/>
          <p:cNvSpPr/>
          <p:nvPr/>
        </p:nvSpPr>
        <p:spPr>
          <a:xfrm>
            <a:off x="1042920" y="260280"/>
            <a:ext cx="740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 u="sng">
                <a:solidFill>
                  <a:srgbClr val="0000ff"/>
                </a:solidFill>
                <a:uFillTx/>
                <a:latin typeface="Arial"/>
              </a:rPr>
              <a:t>Үшінші деңгей – қолд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Times New Roman"/>
              </a:rPr>
              <a:t>Өрмекшіні құру арқылы халық ауыз әдебиетінің түрлерін топтасры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4"/>
          <p:cNvSpPr/>
          <p:nvPr/>
        </p:nvSpPr>
        <p:spPr>
          <a:xfrm>
            <a:off x="826920" y="0"/>
            <a:ext cx="74073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03640" y="2421000"/>
            <a:ext cx="345600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Халық ауыз әдебие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987280" y="1989000"/>
            <a:ext cx="57636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788000" y="1700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84720" y="1988640"/>
            <a:ext cx="64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987280" y="3357720"/>
            <a:ext cx="647640" cy="50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573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3500280"/>
            <a:ext cx="86544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1484280"/>
            <a:ext cx="15829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1197000"/>
            <a:ext cx="15127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1484280"/>
            <a:ext cx="151272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3860640"/>
            <a:ext cx="16574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67280" y="4292640"/>
            <a:ext cx="1439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4076640"/>
            <a:ext cx="1584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5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5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98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99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500" autoRev="1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02" dur="500" autoRev="1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03" dur="500" autoRev="1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94"/>
          <p:cNvSpPr/>
          <p:nvPr/>
        </p:nvSpPr>
        <p:spPr>
          <a:xfrm>
            <a:off x="1042920" y="260280"/>
            <a:ext cx="740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Times New Roman"/>
              </a:rPr>
              <a:t>Өрмекшіні құру арқылы халық ауыз әдебиетінің түрлерін топтасты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03640" y="2421000"/>
            <a:ext cx="345600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Халық ауыз әдебие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987280" y="1989000"/>
            <a:ext cx="57636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788000" y="1700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084720" y="1988640"/>
            <a:ext cx="64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987280" y="3357720"/>
            <a:ext cx="647640" cy="50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3573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3500280"/>
            <a:ext cx="86544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052640"/>
            <a:ext cx="280836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Мақал – мәтелд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1197000"/>
            <a:ext cx="2735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Жұмбақ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27640" y="1268280"/>
            <a:ext cx="2376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Батырл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жы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3500280"/>
            <a:ext cx="2448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Тұрмыс-сал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жырл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4221000"/>
            <a:ext cx="251964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ңыз әңгіме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00720" y="3860640"/>
            <a:ext cx="251928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Төрт түлік тура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жыр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35" dur="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36" dur="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4358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ff"/>
                </a:solidFill>
                <a:latin typeface="Arial"/>
              </a:rPr>
              <a:t>Мына сөздерді пайдаланып, мақал-мәтел жазыңдар</a:t>
            </a: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3300"/>
                </a:solidFill>
                <a:latin typeface="Times New Roman"/>
              </a:rPr>
              <a:t>Отан, жер, еңбек, оқу, тіл, білі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Эйлер дөңгелегі арқылы  қарама – қарсы мағына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ақал-мәтелдерді көрсетіңдер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3300"/>
                </a:solidFill>
                <a:latin typeface="Arial"/>
              </a:rPr>
              <a:t>Оқулықпен жұмыс.  26-27 б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924280"/>
            <a:ext cx="7632720" cy="25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Дос                                                  Дұш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Жақсыдан                                       Жаманн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шу                                                Ақ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8000" y="292428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292428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0" y="5229360"/>
            <a:ext cx="1449360" cy="1628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5084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94"/>
          <p:cNvSpPr/>
          <p:nvPr/>
        </p:nvSpPr>
        <p:spPr>
          <a:xfrm>
            <a:off x="5292720" y="1484280"/>
            <a:ext cx="3301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1403280" y="5353200"/>
            <a:ext cx="2095560" cy="1504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4571640" y="5589720"/>
            <a:ext cx="1863720" cy="150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 u="sng">
                <a:solidFill>
                  <a:srgbClr val="0000ff"/>
                </a:solidFill>
                <a:uFillTx/>
                <a:latin typeface="Times New Roman"/>
              </a:rPr>
              <a:t>Төртінші деңгей – талда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4"/>
          <a:stretch/>
        </p:blipFill>
        <p:spPr>
          <a:xfrm>
            <a:off x="971640" y="1052640"/>
            <a:ext cx="3398760" cy="4464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932360" y="1691280"/>
            <a:ext cx="3141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Мына суретте ауы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әдебиетінің қанд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түрі бейнеленг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деп ойлайсыңда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7:05:16Z</dcterms:created>
  <dc:creator>Пользователь</dc:creator>
  <dc:description/>
  <dc:language>en-US</dc:language>
  <cp:lastModifiedBy>Admin</cp:lastModifiedBy>
  <dcterms:modified xsi:type="dcterms:W3CDTF">2012-04-29T16:37:03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9000000000001024110</vt:lpwstr>
  </property>
</Properties>
</file>