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8D3-1275-47AF-B02B-8F8D2498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67A-2361-40F7-8D20-CDD4484E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47E-F45C-4E6A-B0F5-B6C6294D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7E0-D954-4F51-8117-55F7B313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6BAB-2AD2-4DC8-BC26-5DDC9579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1AC-C589-40BB-AD36-AB069C6E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7DD-BA25-4C27-9BF9-54CC4E7A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8C44-8045-401F-8446-A2ACF323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41B-F0F0-4EC5-A047-64EF0E69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528A-589D-4995-8CC2-3AFA0132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D64-23F3-4214-BF67-31101BAB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FD8-C8DE-4880-814B-7EFD807E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254C-54D8-41B9-B1CC-4F6279DFF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1;1.ppt" TargetMode="External"/><Relationship Id="rId2" Type="http://schemas.openxmlformats.org/officeDocument/2006/relationships/hyperlink" Target="file:///&#1041;2.ppt" TargetMode="External"/><Relationship Id="rId3" Type="http://schemas.openxmlformats.org/officeDocument/2006/relationships/hyperlink" Target="file:///&#1041;3.ppt" TargetMode="External"/><Relationship Id="rId4" Type="http://schemas.openxmlformats.org/officeDocument/2006/relationships/hyperlink" Target="file:///&#1041;4.ppt" TargetMode="External"/><Relationship Id="rId5" Type="http://schemas.openxmlformats.org/officeDocument/2006/relationships/hyperlink" Target="file:///&#1041;5.ppt" TargetMode="External"/><Relationship Id="rId6" Type="http://schemas.openxmlformats.org/officeDocument/2006/relationships/hyperlink" Target="file:///&#1041;8.ppt" TargetMode="External"/><Relationship Id="rId7" Type="http://schemas.openxmlformats.org/officeDocument/2006/relationships/hyperlink" Target="file:///&#1041;7.ppt" TargetMode="External"/><Relationship Id="rId8" Type="http://schemas.openxmlformats.org/officeDocument/2006/relationships/hyperlink" Target="file:///&#1041;5.ppt" TargetMode="External"/><Relationship Id="rId9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1;1.ppt" TargetMode="External"/><Relationship Id="rId2" Type="http://schemas.openxmlformats.org/officeDocument/2006/relationships/hyperlink" Target="file:///&#1041;2.ppt" TargetMode="External"/><Relationship Id="rId3" Type="http://schemas.openxmlformats.org/officeDocument/2006/relationships/hyperlink" Target="file:///&#1041;3.ppt" TargetMode="External"/><Relationship Id="rId4" Type="http://schemas.openxmlformats.org/officeDocument/2006/relationships/hyperlink" Target="file:///&#1041;4.ppt" TargetMode="External"/><Relationship Id="rId5" Type="http://schemas.openxmlformats.org/officeDocument/2006/relationships/hyperlink" Target="file:///&#1041;5.ppt" TargetMode="External"/><Relationship Id="rId6" Type="http://schemas.openxmlformats.org/officeDocument/2006/relationships/hyperlink" Target="file:///&#1041;8.ppt" TargetMode="External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251460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Мұхтар Әуезов.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Қараш-Қараш оқиғас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(хикаяттан үзінді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030400" cy="2819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52440" y="1447920"/>
            <a:ext cx="38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Сабақтың тақырыб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840" y="42721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(1897-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24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2133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481480" y="2286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99840" y="22860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32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5800" y="2819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75360" y="228600"/>
            <a:ext cx="13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 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40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" y="335268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457000" y="2286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47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2819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475720" y="228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55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5800" y="358128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60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494080" y="22860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flipV="1">
            <a:off x="685800" y="914040"/>
            <a:ext cx="0" cy="4800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905120"/>
            <a:ext cx="6094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2800" y="22860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I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4191120"/>
            <a:ext cx="6094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629400" y="1066320"/>
            <a:ext cx="0" cy="17528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1"/>
          </p:cNvPr>
          <p:cNvSpPr/>
          <p:nvPr/>
        </p:nvSpPr>
        <p:spPr>
          <a:xfrm>
            <a:off x="387360" y="8380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80" y="0"/>
            <a:ext cx="11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/>
          </p:cNvPr>
          <p:cNvSpPr/>
          <p:nvPr/>
        </p:nvSpPr>
        <p:spPr>
          <a:xfrm>
            <a:off x="2749320" y="91440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3"/>
          </p:cNvPr>
          <p:cNvSpPr/>
          <p:nvPr/>
        </p:nvSpPr>
        <p:spPr>
          <a:xfrm>
            <a:off x="6406920" y="60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4"/>
          </p:cNvPr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5"/>
          </p:cNvPr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6"/>
          </p:cNvPr>
          <p:cNvSpPr/>
          <p:nvPr/>
        </p:nvSpPr>
        <p:spPr>
          <a:xfrm>
            <a:off x="387360" y="57913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7"/>
          </p:cNvPr>
          <p:cNvSpPr/>
          <p:nvPr/>
        </p:nvSpPr>
        <p:spPr>
          <a:xfrm>
            <a:off x="3587760" y="5638680"/>
            <a:ext cx="44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8"/>
          </p:cNvPr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4840" y="160020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ектіғұлдың ауру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уыр тағды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800" y="23623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янышты өл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7440" y="23760"/>
            <a:ext cx="122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66400" y="1523880"/>
            <a:ext cx="35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ақтығұлдың өш алу жолы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Сәлмен жылқысына барымтаға аттан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98240" y="213372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ұрлап әк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2362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19051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53080" y="1219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1143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әкеп, сойып а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14479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шылар үстінен дөп түсе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1828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Масқара соққыға ұшыра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Намыс, ар, қор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9227600">
            <a:off x="1066320" y="3351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рқар ат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55360" y="320040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6720" y="449568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Ел ішіндегі тартыстың ұлғаю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9600" y="4800600"/>
            <a:ext cx="24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ң сатқындығ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0320" y="52578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лер соты, үк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441972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ашып құты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3240" y="49528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6000" y="6195960"/>
            <a:ext cx="130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227600">
            <a:off x="1141200" y="35046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 аулы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оны тарту 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9227600">
            <a:off x="2225160" y="3361680"/>
            <a:ext cx="148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йтқан өтініш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ілег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9227600">
            <a:off x="5029560" y="3351960"/>
            <a:ext cx="12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арасбайд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сенімді серіг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9227600">
            <a:off x="5564160" y="3352320"/>
            <a:ext cx="13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қтығұлдың а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олдан таю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9227600">
            <a:off x="6324120" y="335232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рымтан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иілеу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9227600">
            <a:off x="6935040" y="3276360"/>
            <a:ext cx="11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 іздеп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сіздік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еріксіз бару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09200" y="4952880"/>
            <a:ext cx="17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 аты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өлтіріп, өш ал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5120" y="4495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ау-тасқа жасыры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629400" y="1066320"/>
            <a:ext cx="0" cy="1752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720" y="8380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0" y="0"/>
            <a:ext cx="2055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Іште кеткен к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59040" y="9144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16640" y="6094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720" y="579132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97120" y="5638680"/>
            <a:ext cx="44604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4840" y="160020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ектіғұлдың ауру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уыр тағды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800" y="23623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янышты өл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4920" y="23760"/>
            <a:ext cx="3170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Кек жолындағы жортуы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66400" y="1523880"/>
            <a:ext cx="35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ақтығұлдың өш алу жолы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Сәлмен жылқысына барымтаға аттан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98240" y="213372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ұрлап әк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уғыншыл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2362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19051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1219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1143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әкеп, сойып а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05720" y="14479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шылар үстінен дөп түсе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05720" y="1828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Масқара соққыға ұшыра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05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Намыс, ар, қор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9227600">
            <a:off x="1066320" y="3351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рқар ат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76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Пана ізд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080920" y="3200400"/>
            <a:ext cx="1035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Ада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6720" y="449568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Ел ішіндегі тартыстың ұлғаю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9600" y="4800600"/>
            <a:ext cx="24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ң сатқындығ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0320" y="52578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лер соты, үк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441972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ашып құты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63240" y="49528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6195960"/>
            <a:ext cx="2201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Екі жүзді аярлы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уғ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Өш а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9227600">
            <a:off x="1141200" y="35046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 аулы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оны тарту 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9227600">
            <a:off x="2225160" y="3361680"/>
            <a:ext cx="148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йтқан өтініш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ілег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9227600">
            <a:off x="5029560" y="3351960"/>
            <a:ext cx="12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арасбайд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сенімді серіг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9227600">
            <a:off x="5564160" y="3352320"/>
            <a:ext cx="13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қтығұлдың а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олдан таю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9227600">
            <a:off x="6324120" y="335232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рымтан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иілеу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9227600">
            <a:off x="6935040" y="3276360"/>
            <a:ext cx="11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 іздеп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сіздік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еріксіз бару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09200" y="4952880"/>
            <a:ext cx="17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 аты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өлтіріп, өш ал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5120" y="4495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ау-тасқа жасыры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127320" cy="4495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5360" y="5105520"/>
            <a:ext cx="247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Тұрар Рысқұ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1846-19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5600" y="457200"/>
            <a:ext cx="541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20 жасындаТүркістан АССР-і үкімет басшы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үркістан республикасының шынайы сая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млекеттік егемендігі жолындағы сая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үрескер болды. Республиканы түркі тілд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алықтардың “ұлттық мемлекеттігіне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йналдыру мақсатын қойып, осы бағыт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циалистік революция жариялаған “ұлттар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өзін-өзі билеу құқығын” өмірге демократия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олмен енгізу үшін қажырлы күрес жүргіз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ұрар Рысқұловтың Түрік республикасын құ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деясының дұрыстығын кеңестік Қазақстан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әне кеңестік түркілердің кейінгі тағдыр-тарих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әлелдеп берді. “Түркі тілдес түгел бол!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ұл – аяулы арысымыз, бүкіл түркі тект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алқымыздың ұлы перзенті Тұрар Рысқұловт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ұраны, ұстанған бағыты. Мұраты, мия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нымен бірге кейінгі ұрпаққа мұраға қалдырғ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ұлы өсие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3427560" cy="464796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128400" y="5486400"/>
            <a:ext cx="33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Рысқұл Жылқайд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1859-19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2845080" cy="4267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72120" y="1254240"/>
            <a:ext cx="421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1968 жылы “Қазақфильм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мен “Қырғызфильм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киностудияла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бірігіп, “Выстрел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перевале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(“Асуда атылған оқ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көркем фильмі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түсір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257184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44760" y="5334120"/>
            <a:ext cx="66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99"/>
                </a:solidFill>
                <a:latin typeface="Verdana"/>
              </a:rPr>
              <a:t>Бақтығұлдың ролінде ойнаған қырғыз актері С.Чокм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209880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156996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2200" y="403848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6094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(“Асуда атылған оқ”) көркем фильмінен кадр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248520" y="129528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33520" y="4114800"/>
            <a:ext cx="236196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kk-KZ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3600" spc="-1" strike="noStrike">
                <a:solidFill>
                  <a:srgbClr val="cc0000"/>
                </a:solidFill>
                <a:latin typeface="Times New Roman"/>
              </a:rPr>
              <a:t>Прототип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Бақтығұл - Рысқұл Жылқайдарұ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Тектіғұл – Молдаб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Тұрар – Сейі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Болыс Жарасбай – Саймасай Үшкемпі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Қатша – Ізбай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629400" y="1218960"/>
            <a:ext cx="0" cy="1600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"/>
          </p:cNvPr>
          <p:cNvSpPr/>
          <p:nvPr/>
        </p:nvSpPr>
        <p:spPr>
          <a:xfrm>
            <a:off x="387360" y="8380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80" y="0"/>
            <a:ext cx="11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/>
          </p:cNvPr>
          <p:cNvSpPr/>
          <p:nvPr/>
        </p:nvSpPr>
        <p:spPr>
          <a:xfrm>
            <a:off x="2749320" y="91440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"/>
          </p:cNvPr>
          <p:cNvSpPr/>
          <p:nvPr/>
        </p:nvSpPr>
        <p:spPr>
          <a:xfrm>
            <a:off x="6406920" y="7621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/>
          </p:cNvPr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5"/>
          </p:cNvPr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6"/>
          </p:cNvPr>
          <p:cNvSpPr/>
          <p:nvPr/>
        </p:nvSpPr>
        <p:spPr>
          <a:xfrm>
            <a:off x="387360" y="57913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7760" y="5638680"/>
            <a:ext cx="44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7440" y="23760"/>
            <a:ext cx="122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21337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1828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55360" y="320040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6000" y="6195960"/>
            <a:ext cx="130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685800" y="914040"/>
            <a:ext cx="0" cy="4800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5800" y="2133720"/>
            <a:ext cx="609480" cy="1828800"/>
            <a:chOff x="685800" y="2133720"/>
            <a:chExt cx="609480" cy="1828800"/>
          </a:xfrm>
        </p:grpSpPr>
        <p:sp>
          <p:nvSpPr>
            <p:cNvPr id="119" name=""/>
            <p:cNvSpPr/>
            <p:nvPr/>
          </p:nvSpPr>
          <p:spPr>
            <a:xfrm>
              <a:off x="685800" y="21337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463120" y="2286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15T17:27:2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