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886-E603-4C12-8949-2033487F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560-4C4D-40D4-A691-5BE904EB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6D30-DDDE-4569-A8A9-A83A432E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2B9-3265-4FA3-9FA5-A874A889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07C-EF20-4560-A4F8-62AADF4C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320-4A16-4F72-9745-B4A51942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D52-9713-4301-BD4E-9A12A885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86D-25A3-4FF0-8FA0-1B43CCC5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E20-46BF-406D-9546-73C32254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7E9-F3EF-48A0-AE66-FD7E616E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5B6-95CF-4F1D-8977-7B0872EA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9A4-C25A-4350-9A7A-0D2A1AA0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85E4-F518-4C34-A26C-BF2E9AD7D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hyperlink" Target="file:///&#1041;7.ppt" TargetMode="External"/><Relationship Id="rId8" Type="http://schemas.openxmlformats.org/officeDocument/2006/relationships/hyperlink" Target="file:///&#1041;5.ppt" TargetMode="External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51460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Мұхтар Әуезов.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Қараш-Қараш оқиға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(хикаяттан үзінді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030400" cy="2819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52440" y="1447920"/>
            <a:ext cx="38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Сабақтың тақырыб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840" y="42721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(1897-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24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481480" y="2286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99840" y="22860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32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75360" y="228600"/>
            <a:ext cx="13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 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" y="33526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57000" y="2286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7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475720" y="228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55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800" y="35812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6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494080" y="2286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905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2800" y="2286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I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191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3"/>
          </p:cNvPr>
          <p:cNvSpPr/>
          <p:nvPr/>
        </p:nvSpPr>
        <p:spPr>
          <a:xfrm>
            <a:off x="6406920" y="60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7"/>
          </p:cNvPr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8"/>
          </p:cNvPr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720" y="8380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0" y="0"/>
            <a:ext cx="2055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Іште кеткен к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59040" y="9144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16640" y="60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720" y="579132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97120" y="5638680"/>
            <a:ext cx="44604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4920" y="23760"/>
            <a:ext cx="3170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Кек жолындағы жортуы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шы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76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Пана ізд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080920" y="3200400"/>
            <a:ext cx="103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Ада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6195960"/>
            <a:ext cx="2201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Екі жүзді аяр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Өш а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127320" cy="4495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5360" y="5105520"/>
            <a:ext cx="247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Тұрар Рысқұ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46-19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5600" y="457200"/>
            <a:ext cx="541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20 жасындаТүркістан АССР-і үкімет басшы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үркістан республикасының шынайы сая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млекеттік егемендігі жолындағы сая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үрескер болды. Республиканы түркі тілд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ықтардың “ұлттық мемлекеттігіне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йналдыру мақсатын қойып, осы бағыт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циалистік революция жариялаған “ұлттар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өзін-өзі билеу құқығын” өмірге демократия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олмен енгізу үшін қажырлы күрес жүргіз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ұрар Рысқұловтың Түрік республикасын құ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деясының дұрыстығын кеңестік Қазақстан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әне кеңестік түркілердің кейінгі тағдыр-тарих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әлелдеп берді. “Түркі тілдес түгел бол!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ұл – аяулы арысымыз, бүкіл түркі тект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қымыздың ұлы перзенті Тұрар Рысқұловт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раны, ұстанған бағыты. Мұраты, мия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нымен бірге кейінгі ұрпаққа мұраға қалдырғ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лы өсие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3427560" cy="464796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128400" y="5486400"/>
            <a:ext cx="33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Рысқұл Жылқайд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59-19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2845080" cy="4267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72120" y="1254240"/>
            <a:ext cx="421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1968 жылы “Қазақ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мен “Қырғыз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иностудияла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бірігіп, “Выстрел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перевале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(“Асуда атылған оқ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өркем фильмі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түсір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257184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4760" y="5334120"/>
            <a:ext cx="66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99"/>
                </a:solidFill>
                <a:latin typeface="Verdana"/>
              </a:rPr>
              <a:t>Бақтығұлдың ролінде ойнаған қырғыз актері С.Чокм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20988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156996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2200" y="40384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6094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(“Асуда атылған оқ”) көркем фильмінен кадр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33520" y="4114800"/>
            <a:ext cx="236196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kk-KZ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3600" spc="-1" strike="noStrike">
                <a:solidFill>
                  <a:srgbClr val="cc0000"/>
                </a:solidFill>
                <a:latin typeface="Times New Roman"/>
              </a:rPr>
              <a:t>Прототип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ақтығұл - Рысқұл Жылқайдарұ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ектіғұл – Молдаб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ұрар – Сейі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олыс Жарасбай – Саймасай Үшкемпі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Қатша – Ізбай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629400" y="1218960"/>
            <a:ext cx="0" cy="1600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"/>
          </p:cNvPr>
          <p:cNvSpPr/>
          <p:nvPr/>
        </p:nvSpPr>
        <p:spPr>
          <a:xfrm>
            <a:off x="6406920" y="7621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21337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1828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5800" y="2133720"/>
            <a:ext cx="609480" cy="1828800"/>
            <a:chOff x="685800" y="2133720"/>
            <a:chExt cx="609480" cy="1828800"/>
          </a:xfrm>
        </p:grpSpPr>
        <p:sp>
          <p:nvSpPr>
            <p:cNvPr id="119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463120" y="2286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15T17:27:2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