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F2B2-5044-444A-AF51-A375BFA09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C24B-686C-4393-A08A-0C1E0280A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879C-1A66-4D44-8057-449209DF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6BFF-43F7-4E5C-8D6B-7B1D7862E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6D7-9E5E-4667-B45A-FE919796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72E-113B-4A0A-8D70-F3BBF1FC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8A9C-2357-4B59-8F1A-323A08EB8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72CE-5A1C-483E-8784-C6962B272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91E6-4F19-4492-926B-53E759B3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C18-99FB-4475-9193-20FE14B3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B21-6F2A-4732-A103-059B594D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0904-62DA-4747-B175-7B22C47A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F9E1-0AFE-4A3D-AFC1-B341D5987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hyperlink" Target="file:///&#1041;7.ppt" TargetMode="External"/><Relationship Id="rId8" Type="http://schemas.openxmlformats.org/officeDocument/2006/relationships/hyperlink" Target="file:///&#1041;5.ppt" TargetMode="External"/><Relationship Id="rId9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&#1041;1.ppt" TargetMode="External"/><Relationship Id="rId2" Type="http://schemas.openxmlformats.org/officeDocument/2006/relationships/hyperlink" Target="file:///&#1041;2.ppt" TargetMode="External"/><Relationship Id="rId3" Type="http://schemas.openxmlformats.org/officeDocument/2006/relationships/hyperlink" Target="file:///&#1041;3.ppt" TargetMode="External"/><Relationship Id="rId4" Type="http://schemas.openxmlformats.org/officeDocument/2006/relationships/hyperlink" Target="file:///&#1041;4.ppt" TargetMode="External"/><Relationship Id="rId5" Type="http://schemas.openxmlformats.org/officeDocument/2006/relationships/hyperlink" Target="file:///&#1041;5.ppt" TargetMode="External"/><Relationship Id="rId6" Type="http://schemas.openxmlformats.org/officeDocument/2006/relationships/hyperlink" Target="file:///&#1041;8.ppt" TargetMode="External"/><Relationship Id="rId7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2514600"/>
            <a:ext cx="655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Мұхтар Әуезов.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Қараш-Қараш оқиғасы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0099"/>
                </a:solidFill>
                <a:latin typeface="Times New Roman"/>
              </a:rPr>
              <a:t>(хикаяттан үзінді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2030400" cy="28195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052440" y="1447920"/>
            <a:ext cx="389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840" y="427212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</a:rPr>
              <a:t>(1897-196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24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2481480" y="228600"/>
            <a:ext cx="13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499840" y="228600"/>
            <a:ext cx="14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32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75360" y="228600"/>
            <a:ext cx="138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</a:t>
            </a: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 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5800" y="33526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457000" y="228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47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85800" y="2819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2475720" y="228600"/>
            <a:ext cx="138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55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" y="5105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5800" y="358128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685800" y="914040"/>
            <a:ext cx="609480" cy="4800600"/>
            <a:chOff x="685800" y="914040"/>
            <a:chExt cx="609480" cy="4800600"/>
          </a:xfrm>
        </p:grpSpPr>
        <p:sp>
          <p:nvSpPr>
            <p:cNvPr id="160" name=""/>
            <p:cNvSpPr/>
            <p:nvPr/>
          </p:nvSpPr>
          <p:spPr>
            <a:xfrm flipV="1">
              <a:off x="685800" y="914040"/>
              <a:ext cx="0" cy="4800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5800" y="19051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2494080" y="228600"/>
            <a:ext cx="147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905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12800" y="2286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Verdana"/>
              </a:rPr>
              <a:t>VI</a:t>
            </a: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" y="4191120"/>
            <a:ext cx="6094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3"/>
          </p:cNvPr>
          <p:cNvSpPr/>
          <p:nvPr/>
        </p:nvSpPr>
        <p:spPr>
          <a:xfrm>
            <a:off x="6406920" y="60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>
            <a:hlinkClick r:id="rId7"/>
          </p:cNvPr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8"/>
          </p:cNvPr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6629400" y="1066320"/>
            <a:ext cx="0" cy="17528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6720" y="8380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0" y="0"/>
            <a:ext cx="2055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Іште кеткен к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759040" y="9144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416640" y="60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96720" y="579132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7120" y="5638680"/>
            <a:ext cx="44604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34840" y="1600200"/>
            <a:ext cx="183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ектіғұлдың ауруы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уыр тағды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38800" y="236232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янышты өл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284920" y="23760"/>
            <a:ext cx="31708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Кек жолындағы жортуы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966400" y="1523880"/>
            <a:ext cx="3530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ақтығұлдың өш алу жолын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Сәлмен жылқысына барымтаға аттан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98240" y="21337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ұрлап әк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шыла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53080" y="2362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53080" y="19051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12193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705720" y="1143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ені әкеп, сойып а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705720" y="1447920"/>
            <a:ext cx="2438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шылар үстінен дөп түсед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705720" y="18288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Масқара соққыға ұшыра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228600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Намыс, ар, қорла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rot="19227600">
            <a:off x="1066320" y="3351960"/>
            <a:ext cx="112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рқар ат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3276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Пана ізде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080920" y="3200400"/>
            <a:ext cx="10357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Адас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6720" y="4495680"/>
            <a:ext cx="269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Ел ішіндегі тартыстың ұлғаю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59600" y="4800600"/>
            <a:ext cx="241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ң сатқындығ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0320" y="525780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Билер соты, үкі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86200" y="441972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ашып құтылу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963240" y="4952880"/>
            <a:ext cx="66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Қуғы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04920" y="6195960"/>
            <a:ext cx="22014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Екі жүзді аярлы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уғы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Өш а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19227600">
            <a:off x="1141200" y="3504600"/>
            <a:ext cx="1752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 аулы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оны тарту ету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9227600">
            <a:off x="2225160" y="3361680"/>
            <a:ext cx="1480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ғ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айтқан өтініші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ілег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rot="19227600">
            <a:off x="5029560" y="3351960"/>
            <a:ext cx="123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арасбайд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сенімді серіг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19227600">
            <a:off x="5564160" y="3352320"/>
            <a:ext cx="1352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қтығұлдың ақ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олдан таю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9227600">
            <a:off x="6324120" y="3352320"/>
            <a:ext cx="114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Барымтаның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жиілеу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rot="19227600">
            <a:off x="6935040" y="3276360"/>
            <a:ext cx="119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 іздеп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әділетсіздікк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66"/>
                </a:solidFill>
                <a:latin typeface="Arial"/>
              </a:rPr>
              <a:t>еріксіз бару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09200" y="4952880"/>
            <a:ext cx="176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Жарасбайды аты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өлтіріп, өш алу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55120" y="4495680"/>
            <a:ext cx="193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kk-KZ" sz="1400" spc="-1" strike="noStrike">
                <a:solidFill>
                  <a:srgbClr val="000066"/>
                </a:solidFill>
                <a:latin typeface="Arial"/>
              </a:rPr>
              <a:t>Тау-тасқа жасыры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3127320" cy="4495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5360" y="5105520"/>
            <a:ext cx="247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Тұрар Рысқұ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46-193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85600" y="457200"/>
            <a:ext cx="54172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20 жасындаТүркістан АССР-і үкімет басшыс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үркістан республикасының шынайы саяс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мемлекеттік егемендігі жолындағы саяс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күрескер болды. Республиканы түркі тілд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ықтардың “ұлттық мемлекеттігіне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айналдыру мақсатын қойып, осы бағыт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циалистік революция жариялаған “ұлттард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өзін-өзі билеу құқығын” өмірге демократиялық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олмен енгізу үшін қажырлы күрес жүргізді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Тұрар Рысқұловтың Түрік республикасын құ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идеясының дұрыстығын кеңестік Қазақстанның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және кеңестік түркілердің кейінгі тағдыр-тарих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дәлелдеп берді. “Түркі тілдес түгел бол!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Бұл – аяулы арысымыз, бүкіл түркі тектес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халқымыздың ұлы перзенті Тұрар Рысқұловты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раны, ұстанған бағыты. Мұраты, мия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Сонымен бірге кейінгі ұрпаққа мұраға қалдырға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99"/>
                </a:solidFill>
                <a:latin typeface="Arial"/>
              </a:rPr>
              <a:t>ұлы өсиеті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971800" y="533520"/>
            <a:ext cx="3427560" cy="4647960"/>
          </a:xfrm>
          <a:prstGeom prst="rect">
            <a:avLst/>
          </a:prstGeom>
          <a:ln w="12600">
            <a:solidFill>
              <a:srgbClr val="333333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3128400" y="5486400"/>
            <a:ext cx="332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Рысқұл Жылқайдар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1859-19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2845080" cy="4267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4272120" y="1254240"/>
            <a:ext cx="4219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1968 жылы “Қазақ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мен “Қырғызфильм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иностудиялар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бірігіп, “Выстрел 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перевале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(“Асуда атылған оқ”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көркем фильмі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99"/>
                </a:solidFill>
                <a:latin typeface="Times New Roman"/>
              </a:rPr>
              <a:t>түсірді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200400" y="1371600"/>
            <a:ext cx="2571840" cy="3600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44760" y="5334120"/>
            <a:ext cx="66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99"/>
                </a:solidFill>
                <a:latin typeface="Verdana"/>
              </a:rPr>
              <a:t>Бақтығұлдың ролінде ойнаған қырғыз актері С.Чокм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29000" y="1371600"/>
            <a:ext cx="2098800" cy="3733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990720" y="1219320"/>
            <a:ext cx="156996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172200" y="40384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>
            <a:off x="609480" y="30492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0099"/>
                </a:solidFill>
                <a:latin typeface="Times New Roman"/>
              </a:rPr>
              <a:t>(“Асуда атылған оқ”) көркем фильмінен кадрл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6248520" y="1295280"/>
            <a:ext cx="2209680" cy="1657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533520" y="4114800"/>
            <a:ext cx="2361960" cy="1579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380880" y="6858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    </a:t>
            </a:r>
            <a:r>
              <a:rPr b="1" lang="kk-KZ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3600" spc="-1" strike="noStrike">
                <a:solidFill>
                  <a:srgbClr val="cc0000"/>
                </a:solidFill>
                <a:latin typeface="Times New Roman"/>
              </a:rPr>
              <a:t>Прототипте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ақтығұл - Рысқұл Жылқайдарұл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ектіғұл – Молдаб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Тұрар – Сейі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Болыс Жарасбай – Саймасай Үшкемпі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66"/>
                </a:solidFill>
                <a:latin typeface="Times New Roman"/>
              </a:rPr>
              <a:t>Қатша – Ізбайш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 flipH="1">
            <a:off x="685440" y="2895480"/>
            <a:ext cx="29718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685800" y="1219320"/>
            <a:ext cx="0" cy="167616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400" y="312408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048120"/>
            <a:ext cx="266688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200400" y="3733920"/>
            <a:ext cx="457200" cy="5331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609120" y="4267080"/>
            <a:ext cx="259092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4267080"/>
            <a:ext cx="0" cy="15242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3962520"/>
            <a:ext cx="0" cy="3808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3809880" y="434340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8098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095880" y="4343400"/>
            <a:ext cx="274320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839080" y="4343400"/>
            <a:ext cx="0" cy="129528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2819520"/>
            <a:ext cx="1066680" cy="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6629400" y="1218960"/>
            <a:ext cx="0" cy="160020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 flipV="1">
            <a:off x="2971440" y="2590560"/>
            <a:ext cx="762120" cy="75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971800" y="1294920"/>
            <a:ext cx="0" cy="1295640"/>
          </a:xfrm>
          <a:prstGeom prst="line">
            <a:avLst/>
          </a:prstGeom>
          <a:ln w="93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>
            <a:hlinkClick r:id="rId1"/>
          </p:cNvPr>
          <p:cNvSpPr/>
          <p:nvPr/>
        </p:nvSpPr>
        <p:spPr>
          <a:xfrm>
            <a:off x="387360" y="8380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80" y="0"/>
            <a:ext cx="11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 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rId2"/>
          </p:cNvPr>
          <p:cNvSpPr/>
          <p:nvPr/>
        </p:nvSpPr>
        <p:spPr>
          <a:xfrm>
            <a:off x="2749320" y="91440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rId3"/>
          </p:cNvPr>
          <p:cNvSpPr/>
          <p:nvPr/>
        </p:nvSpPr>
        <p:spPr>
          <a:xfrm>
            <a:off x="6406920" y="7621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rId4"/>
          </p:cNvPr>
          <p:cNvSpPr/>
          <p:nvPr/>
        </p:nvSpPr>
        <p:spPr>
          <a:xfrm>
            <a:off x="404640" y="294948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rId5"/>
          </p:cNvPr>
          <p:cNvSpPr/>
          <p:nvPr/>
        </p:nvSpPr>
        <p:spPr>
          <a:xfrm>
            <a:off x="8229600" y="2743200"/>
            <a:ext cx="53352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rId6"/>
          </p:cNvPr>
          <p:cNvSpPr/>
          <p:nvPr/>
        </p:nvSpPr>
        <p:spPr>
          <a:xfrm>
            <a:off x="387360" y="5791320"/>
            <a:ext cx="476280" cy="3988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87760" y="5638680"/>
            <a:ext cx="44604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1880" y="5638680"/>
            <a:ext cx="53352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Б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95480" y="22096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16765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7440" y="23760"/>
            <a:ext cx="1227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05720" y="0"/>
            <a:ext cx="1981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553080" y="24382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213372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553080" y="1828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1523880"/>
            <a:ext cx="15264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28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71800" y="3048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9436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32767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–</a:t>
            </a:r>
            <a:r>
              <a:rPr b="0" lang="kk-KZ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55360" y="3200400"/>
            <a:ext cx="98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0" lang="kk-KZ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3733920"/>
            <a:ext cx="457200" cy="60948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62940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48720" y="29718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53341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4495680"/>
            <a:ext cx="152280" cy="15264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6000" y="6195960"/>
            <a:ext cx="130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54120" y="6019920"/>
            <a:ext cx="13921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</a:t>
            </a: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1520" y="6019920"/>
            <a:ext cx="14806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Times New Roman"/>
              </a:rPr>
              <a:t>VI</a:t>
            </a:r>
            <a:r>
              <a:rPr b="1" lang="kk-KZ" sz="1800" spc="-1" strike="noStrike">
                <a:solidFill>
                  <a:srgbClr val="cc0000"/>
                </a:solidFill>
                <a:latin typeface="Times New Roman"/>
              </a:rPr>
              <a:t>І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763120" y="457200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763120" y="51055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2971800"/>
            <a:ext cx="15264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4876920"/>
            <a:ext cx="152280" cy="152280"/>
          </a:xfrm>
          <a:prstGeom prst="flowChartConnector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657600" y="2666880"/>
            <a:ext cx="1905120" cy="1295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М.Әуез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“</a:t>
            </a: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Қараш-Қараш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оқиғасы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685800" y="914040"/>
            <a:ext cx="0" cy="4800600"/>
          </a:xfrm>
          <a:prstGeom prst="line">
            <a:avLst/>
          </a:prstGeom>
          <a:ln w="284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685800" y="2133720"/>
            <a:ext cx="609480" cy="1828800"/>
            <a:chOff x="685800" y="2133720"/>
            <a:chExt cx="609480" cy="1828800"/>
          </a:xfrm>
        </p:grpSpPr>
        <p:sp>
          <p:nvSpPr>
            <p:cNvPr id="119" name=""/>
            <p:cNvSpPr/>
            <p:nvPr/>
          </p:nvSpPr>
          <p:spPr>
            <a:xfrm>
              <a:off x="685800" y="21337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5800" y="3962520"/>
              <a:ext cx="6094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463120" y="228600"/>
            <a:ext cx="123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0099"/>
                </a:solidFill>
                <a:latin typeface="Verdana"/>
              </a:rPr>
              <a:t>І тарау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3040" y="457200"/>
            <a:ext cx="476280" cy="3988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cc0000"/>
                </a:solidFill>
                <a:latin typeface="Times New Roman"/>
              </a:rPr>
              <a:t>Б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2-15T17:27:2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