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6A8-63DE-40D7-9514-D121983D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041-EEF1-48D2-A620-729A2910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CD6-EECC-4FC9-B70D-B775E1F7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1F5-FF4F-4553-8944-B1145EF5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73C-EABC-4E4E-9907-D3560122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744D-7823-4B9F-9E02-8F19EFC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733D-61F3-4A94-A478-A8874764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EC47-6A59-4588-9804-B8FB8D5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9AB6-BBEF-4716-81E4-D2CEF511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3E54-B494-4F45-9337-9CFCAE9F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8A0-0BB4-4EB3-8074-84CAC37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465-CE6C-44AD-8024-08C1B17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56CD-FFE0-43B5-B686-B76FAEC1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E65E-9A22-4DBC-AF98-EC92DEA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F83-46AB-41D4-8208-8260FFE8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848D-B1EC-4BB9-9337-7E2DA0E9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9DE2-C63F-42E8-B7C0-0024FB8E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39D-E49A-47A4-9ADC-F1FBC237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4D7-3E3F-4A7E-98D0-C7BD0C26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62A-A3D0-42F9-8598-2E0E0AD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559-1C51-4451-B86C-E72D800E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315-E834-41DF-8C94-47721B2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D0F-58AE-495D-9A29-0E9DC8E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3F7-24E7-403B-B119-443E62D4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3D3B-0301-42AA-8A40-219B28663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102D-80E8-4C07-AE44-73D2DE7809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8600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imes New Roman"/>
              </a:rPr>
              <a:t>Абайды</a:t>
            </a: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7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90720" y="289548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Дәліз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Кіребері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Замандаста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Өлкетан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Пішін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590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666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492280"/>
            <a:ext cx="647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Кебеж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Асад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Қазанас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ff"/>
                </a:solidFill>
                <a:latin typeface="Times New Roman"/>
              </a:rPr>
              <a:t>Самауыры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294840"/>
            <a:ext cx="86374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Times New Roman"/>
              </a:rPr>
              <a:t>Сөйлем мүшесіне талда: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2276640"/>
            <a:ext cx="87138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ahoma"/>
              </a:rPr>
              <a:t>Ол Семей қаласынан 180 шақырым жерде орналасқан. Ол 1970 жылы күрделі жөндеуден өткізілді. 1885 жылы Абай осы екі бұйымды Семейдің өлкетану мұражайына өз қолымен өткіз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«Менің балаларыма, ертеңгі ұрпағыма Абайдан артық, Абайдан ұлы, Абайдан киелі ұғым болмауға тиіс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1" lang="kk-KZ" sz="3600" spc="-1" strike="noStrike">
                <a:solidFill>
                  <a:srgbClr val="ffffff"/>
                </a:solidFill>
                <a:latin typeface="Tahoma"/>
              </a:rPr>
              <a:t>Н. Ә. Назарба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7621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3623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ffff"/>
                </a:solidFill>
                <a:latin typeface="Times New Roman"/>
              </a:rPr>
              <a:t>Абайдың мұражай - үйі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02:45:17Z</dcterms:created>
  <dc:creator>Server</dc:creator>
  <dc:description/>
  <dc:language>en-US</dc:language>
  <cp:lastModifiedBy>Сауле Рысбековна</cp:lastModifiedBy>
  <dcterms:modified xsi:type="dcterms:W3CDTF">2008-04-15T09:10:06Z</dcterms:modified>
  <cp:revision>27</cp:revision>
  <dc:subject/>
  <dc:title>Презентация PowerPoint</dc:title>
</cp:coreProperties>
</file>