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069-87A5-4ECA-9D1A-7D2F1140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C03-B76E-41A1-92E8-7E9778F8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FF7-09E2-4E02-BFAB-E2B1EE83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460-BA9F-4D64-B389-52639A4F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0DBE-22C4-4417-996F-186D9969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E9B0-F2AD-4793-80A8-4B3E2F97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1B05-5D77-4643-8D1F-960606E3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3759-0C7B-4CDF-8C20-D40BEC93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229A-3920-45B4-892D-70D9E65F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E834-F934-4CAB-B9B7-3E374D00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0B36-D901-4F38-B044-05BFC850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F5B-28AB-4E95-B5F3-7194B6E4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35E1-434D-403A-830B-BDA4DCB5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E429-97DD-48CF-86D4-04EF768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9E2B-2F51-4DD8-8F05-28B7E123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517C-63B7-4164-B7D9-92069055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5D21-A8E2-40FC-89A9-3AEF9D78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543-813D-40A8-A4A5-67ADDF31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9A8-56AA-4B19-B07B-C6E397EF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FE9-4A93-4D0D-B805-86E6529C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18F-3C7A-4112-96EA-E9632B89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347-B944-4E19-AB66-95A188C7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6E2-18D8-4E6C-A94C-EC0A578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E93-B1A7-4A7F-91B1-6CDE574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5A09-B0BE-4467-B00C-9B5997F20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1823-54E9-4FA3-AF97-2A2553A51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8600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Абайды</a:t>
            </a: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2895480"/>
            <a:ext cx="739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Дәліз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Кіребері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Замандаста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Өлкетан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Пішін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590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666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492280"/>
            <a:ext cx="6477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Кебеж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Асад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азанасп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Самауыры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29484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Times New Roman"/>
              </a:rPr>
              <a:t>Сөйлем мүшесіне талда: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ahoma"/>
              </a:rPr>
              <a:t>Ол Семей қаласынан 180 шақырым жерде орналасқан. Ол 1970 жылы күрделі жөндеуден өткізілді. 1885 жылы Абай осы екі бұйымды Семейдің өлкетану мұражайына өз қолымен өткіз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«Менің балаларыма, ертеңгі ұрпағыма Абайдан артық, Абайдан ұлы, Абайдан киелі ұғым болмауға тиіс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Н. Ә. Назарба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3623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Абайды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02:45:17Z</dcterms:created>
  <dc:creator>Server</dc:creator>
  <dc:description/>
  <dc:language>en-US</dc:language>
  <cp:lastModifiedBy>Сауле Рысбековна</cp:lastModifiedBy>
  <dcterms:modified xsi:type="dcterms:W3CDTF">2008-04-15T09:10:06Z</dcterms:modified>
  <cp:revision>27</cp:revision>
  <dc:subject/>
  <dc:title>Презентация PowerPoint</dc:title>
</cp:coreProperties>
</file>