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C75-A1E4-48BD-8780-6D658C06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B083-D28C-4EB2-B785-B9439D94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1F3-E0E1-46F1-A982-582A0365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3984-A672-4D1C-BED9-541138C1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4764-CF3C-4576-811E-5298DC5B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4AB2-EE04-4342-A1E0-C4E802FE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7BC1-04F4-41C9-8474-78FFBD3F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C747-2AC4-482A-B0F1-ED8A47A2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BBC1-A41A-4263-8663-C1ADCD6D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7FE9-C3A0-4DA9-B3BE-3E9A54EE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71B6-A697-4819-B7CD-F03809B7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9814-20C1-427A-8E52-E7597AEC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4281-ACC0-46A9-AF31-37160AB9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17A0-9AA9-4402-9E98-C5F07D1C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6B34-3C96-4832-BDFD-46675B1C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776F-43AD-4B69-B7B7-9EF32186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CFCC-93F2-4FFF-BD7D-33F103F1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9A1-0C67-4163-B4D1-4E065454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96B-59F9-40B7-96A1-E8206E4B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8BBE-A765-404B-8D32-A0027242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410-40D0-4002-815A-18290AE3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F26-9BCF-4FDE-A33C-B67A92E3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834-C2CB-4EE0-AD4E-663846FF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33A2-B2BF-45F2-927E-3C1754C1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52BF-F3EB-44DE-A074-3F0CD40BAC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3019-EC58-4817-A245-302B196E24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7621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бақтың тақырыбы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28600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imes New Roman"/>
              </a:rPr>
              <a:t>Абайды</a:t>
            </a:r>
            <a:r>
              <a:rPr b="1" lang="kk-KZ" sz="9600" spc="-1" strike="noStrike">
                <a:solidFill>
                  <a:srgbClr val="ffffff"/>
                </a:solidFill>
                <a:latin typeface="Times New Roman"/>
              </a:rPr>
              <a:t>ң мұражай - үйі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7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0720" y="2895480"/>
            <a:ext cx="7391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Дәліз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Кіребері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Замандаста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Өлкетан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Пішін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2590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6668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2492280"/>
            <a:ext cx="6477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Кебеж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Асада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Қазанасп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Самауыры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294840"/>
            <a:ext cx="86374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Times New Roman"/>
              </a:rPr>
              <a:t>Сөйлем мүшесіне талда: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87138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ahoma"/>
              </a:rPr>
              <a:t>Ол Семей қаласынан 180 шақырым жерде орналасқан. Ол 1970 жылы күрделі жөндеуден өткізілді. 1885 жылы Абай осы екі бұйымды Семейдің өлкетану мұражайына өз қолымен өткізді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3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«Менің балаларыма, ертеңгі ұрпағыма Абайдан артық, Абайдан ұлы, Абайдан киелі ұғым болмауға тиіс»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Н. Ә. Назарбае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7621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бақтың тақырыбы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3623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600" spc="-1" strike="noStrike">
                <a:solidFill>
                  <a:srgbClr val="ffffff"/>
                </a:solidFill>
                <a:latin typeface="Times New Roman"/>
              </a:rPr>
              <a:t>Абайдың мұражай - үйі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7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2T02:45:17Z</dcterms:created>
  <dc:creator>Server</dc:creator>
  <dc:description/>
  <dc:language>en-US</dc:language>
  <cp:lastModifiedBy>Сауле Рысбековна</cp:lastModifiedBy>
  <dcterms:modified xsi:type="dcterms:W3CDTF">2008-04-15T09:10:06Z</dcterms:modified>
  <cp:revision>27</cp:revision>
  <dc:subject/>
  <dc:title>Презентация PowerPoint</dc:title>
</cp:coreProperties>
</file>