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6AF-EAE0-4D55-87C2-0E613E9F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94D-0BDB-4082-A7B6-93998A2D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B6E-4F69-41E2-A231-E8AE925F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A3F-1C8E-4709-88E2-31B268C6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1F6A-D4E8-4311-8585-F4FBA88D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5AAF-C019-4696-B9B4-EA428F96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B959-80A4-4106-AD6C-06244B87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0CE7-AFA1-4DCF-AF1C-79C54D6C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A163-B7A5-4F73-8B71-FDC4D4EC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BB90-F2C0-4DC9-A34A-5CB2378C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2767-A7F4-4742-86C9-547D8AE0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4F8-3B42-4F53-B5DF-93E24448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A55A-F321-4095-9006-28F6765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0D87-6F2A-45E2-A130-AEC88CF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25B7-406E-416F-A02C-2DD7882B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6880-B502-4F08-945A-F41DFC23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F75F-BB40-4709-8902-9FCAF39A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D05-DA46-471B-8715-76197261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C38-2410-43B3-A531-06B2347B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75F-9B25-45AB-AAF1-502A0D5B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32C-5573-4ED4-93F4-BE27E46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0CA-3F5F-4CEB-97D9-F1DE22F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311-88DC-459A-99E5-24BCB6B8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F69-95D8-491E-A120-E71D27B5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8F79-4F00-4674-9446-32C96D731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3AA3-37DA-4675-8620-6C14651EF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Абайды</a:t>
            </a: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289548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Дәліз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Кіребері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Замандаста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Өлкетан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Пішін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590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666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492280"/>
            <a:ext cx="6477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Кебеж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Асад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азанас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Самауыры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Times New Roman"/>
              </a:rPr>
              <a:t>Сөйлем мүшесіне талда: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Ол Семей қаласынан 180 шақырым жерде орналасқан. Ол 1970 жылы күрделі жөндеуден өткізілді. 1885 жылы Абай осы екі бұйымды Семейдің өлкетану мұражайына өз қолымен өткіз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«Менің балаларыма, ертеңгі ұрпағыма Абайдан артық, Абайдан ұлы, Абайдан киелі ұғым болмауға тиіс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Н. Ә. Назарба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3623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Абайды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02:45:17Z</dcterms:created>
  <dc:creator>Server</dc:creator>
  <dc:description/>
  <dc:language>en-US</dc:language>
  <cp:lastModifiedBy>Сауле Рысбековна</cp:lastModifiedBy>
  <dcterms:modified xsi:type="dcterms:W3CDTF">2008-04-15T09:10:06Z</dcterms:modified>
  <cp:revision>27</cp:revision>
  <dc:subject/>
  <dc:title>Презентация PowerPoint</dc:title>
</cp:coreProperties>
</file>