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29D-D0AC-4814-9C6E-DE35B8A1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F19-9C1B-47D6-86AE-C2339DD4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ACF-5609-4138-B8A6-8E0F9C33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C83-179C-49B0-AA6C-2C1374E8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743C-EA04-4CE7-93B6-76A9AF31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F0FE-9885-4F7C-8A18-E91E359E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818A-4E26-450D-8110-38229416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7E12-60FF-431D-8689-A34E851E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8481-A37F-4814-B4A6-DB3E412E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7F28-4658-443F-BCB6-DF89F787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DE73-AF5C-438F-8336-3BC918A2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1E0A-4BC5-4C82-915F-CEAB5650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BEB7-D838-439A-A15C-28507611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91B1-31B8-4D7F-A848-82C997EA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87F9-DD6A-4668-8DB5-4BF4445C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36F9-6E22-4CFB-9294-4B519213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BBF9-6406-4E0B-B481-62B7A665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ADD-398B-49C0-BFCD-E4BD1B80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128-F1C7-452D-AF70-B7781191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620-8DD4-43F4-A32F-65BA309D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345-A900-483B-9DA5-4BDB897B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015-FCC2-4252-BE42-1E1457CE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7A3-18F5-4FBA-8D69-1B51B3F1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46C3-FCF2-442A-9CAD-0D2AA5FC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9DC7-ECE9-4FBC-B1AD-D2505DB0E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5A85-0F90-4A6E-8397-2818A5813F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7621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бақтың тақырыбы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8600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imes New Roman"/>
              </a:rPr>
              <a:t>Абайды</a:t>
            </a:r>
            <a:r>
              <a:rPr b="1" lang="kk-KZ" sz="9600" spc="-1" strike="noStrike">
                <a:solidFill>
                  <a:srgbClr val="ffffff"/>
                </a:solidFill>
                <a:latin typeface="Times New Roman"/>
              </a:rPr>
              <a:t>ң мұражай - үйі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7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2895480"/>
            <a:ext cx="7391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Дәліз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Кіребері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Замандаста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Өлкетан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Пішін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2590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6668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492280"/>
            <a:ext cx="6477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Кебеж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Асада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Қазанасп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Самауыры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294840"/>
            <a:ext cx="86374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Times New Roman"/>
              </a:rPr>
              <a:t>Сөйлем мүшесіне талда: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7138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ahoma"/>
              </a:rPr>
              <a:t>Ол Семей қаласынан 180 шақырым жерде орналасқан. Ол 1970 жылы күрделі жөндеуден өткізілді. 1885 жылы Абай осы екі бұйымды Семейдің өлкетану мұражайына өз қолымен өткізд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«Менің балаларыма, ертеңгі ұрпағыма Абайдан артық, Абайдан ұлы, Абайдан киелі ұғым болмауға тиіс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Н. Ә. Назарба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7621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бақтың тақырыбы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3623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600" spc="-1" strike="noStrike">
                <a:solidFill>
                  <a:srgbClr val="ffffff"/>
                </a:solidFill>
                <a:latin typeface="Times New Roman"/>
              </a:rPr>
              <a:t>Абайдың мұражай - үйі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2T02:45:17Z</dcterms:created>
  <dc:creator>Server</dc:creator>
  <dc:description/>
  <dc:language>en-US</dc:language>
  <cp:lastModifiedBy>Сауле Рысбековна</cp:lastModifiedBy>
  <dcterms:modified xsi:type="dcterms:W3CDTF">2008-04-15T09:10:06Z</dcterms:modified>
  <cp:revision>27</cp:revision>
  <dc:subject/>
  <dc:title>Презентация PowerPoint</dc:title>
</cp:coreProperties>
</file>