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F01-16E7-41AC-BEC6-0026989F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AF73-45FC-4971-809F-7A345CF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659-76D9-446C-A803-2DE6517D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2DD-683E-4150-9BBA-0DA5E1B6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D500-5E8F-4D66-8690-99F47A3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FD8-864E-400C-88EA-7BE0CA0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D66-3C1D-44A0-8743-D9F548E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893-1AAA-43E1-A0FF-0FF81C05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9EB-23A7-4A10-99BC-D45528D8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110-B590-4703-AEF3-3B589A9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B75-EA5C-46B9-9883-94124B1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2D4-F4C8-4C58-9C50-78F1291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C78-4509-4F91-A488-4B65AFAC1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256;-1.ppt" TargetMode="External"/><Relationship Id="rId2" Type="http://schemas.openxmlformats.org/officeDocument/2006/relationships/hyperlink" Target="file:///&#1256;-2.ppt" TargetMode="External"/><Relationship Id="rId3" Type="http://schemas.openxmlformats.org/officeDocument/2006/relationships/hyperlink" Target="file:///&#1256;-3.ppt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7120" y="26028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Arial"/>
              </a:rPr>
              <a:t>Наурыздың екі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19700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33cc"/>
                </a:solidFill>
                <a:latin typeface="Arial"/>
              </a:rPr>
              <a:t>Біржан сал Қожағұлұлы    әлеуметтік өмір жырш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2492280"/>
            <a:ext cx="691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«Біржан – бұрын –соңғы қазақтың сал-сері ақындарының ағасы, ұстазы, жанашыр өнерпазы. Өнер дамыған сайын Біржан мұрасы мәңгі бірге жасамақ»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lang="kk-KZ" sz="2800" spc="-1" strike="noStrike">
                <a:solidFill>
                  <a:srgbClr val="333399"/>
                </a:solidFill>
                <a:latin typeface="Arial"/>
              </a:rPr>
              <a:t>Есмағамбет Ысмай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3457440" cy="439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79640" y="479736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Баласы Қожағұлдың Біржан салмы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Адамға зияным жоқ жүрген жанмы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Қасыңа мені сендер неге алмайсың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6600ff"/>
                </a:solidFill>
                <a:latin typeface="Arial"/>
              </a:rPr>
              <a:t>Өзім сұңқар,өзім сал, кімге зарм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1072080"/>
            <a:ext cx="806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 тапсы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 сал Қожағұлұлының өмірі мен өскен орта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 топ.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“Біржан деп атым шықты алты алашқ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ІІІ топ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Біржанның айтыскерліг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81160" y="187920"/>
            <a:ext cx="32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Times New Roman"/>
                <a:ea typeface="바탕"/>
              </a:rPr>
              <a:t>Кестемен жұмы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773360"/>
          <a:ext cx="8351640" cy="1858680"/>
        </p:xfrm>
        <a:graphic>
          <a:graphicData uri="http://schemas.openxmlformats.org/drawingml/2006/table">
            <a:tbl>
              <a:tblPr/>
              <a:tblGrid>
                <a:gridCol w="2881080"/>
                <a:gridCol w="1871640"/>
                <a:gridCol w="2160720"/>
                <a:gridCol w="1438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тақырыб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өлеңнің 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Шығу тарих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kk-KZ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바탕"/>
                        </a:rPr>
                        <a:t>Идея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Қоғамдық, әлеуметтік мәс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 Ақынның жан дүниесі,сезім лирик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900000" y="483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1125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І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933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00"/>
                </a:solidFill>
                <a:latin typeface="Arial"/>
              </a:rPr>
              <a:t>ІІ  -   ІІІ     т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4508640"/>
          <a:ext cx="8229600" cy="1306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те қатты әсер еткен шума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바탕"/>
                        </a:rPr>
                        <a:t>өз пікі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6920" y="1126080"/>
            <a:ext cx="770580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0000"/>
                </a:solidFill>
                <a:latin typeface="Arial"/>
              </a:rPr>
              <a:t>Өлеңдерінің шығу себептеріне  тоқт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Жан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2. Ләйлім шыр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3. Ақтент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4. Жайма-шу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5. Теміртас,Асыл,Ақық балдан тәт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42812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00"/>
                </a:solidFill>
                <a:latin typeface="Arial"/>
              </a:rPr>
              <a:t>У  тапсы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Өлең құрылысына талдау жас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Эссе «Біржан сал –қазақ ән жырыны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шамшырағ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ff"/>
                </a:solidFill>
                <a:latin typeface="Arial"/>
              </a:rPr>
              <a:t>3.  Біржан өлеңін әнімен ор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468360" y="2421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86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/>
          </p:cNvPr>
          <p:cNvSpPr/>
          <p:nvPr/>
        </p:nvSpPr>
        <p:spPr>
          <a:xfrm>
            <a:off x="406728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3573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3"/>
          </p:cNvPr>
          <p:cNvSpPr/>
          <p:nvPr/>
        </p:nvSpPr>
        <p:spPr>
          <a:xfrm>
            <a:off x="716436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39840" y="711360"/>
            <a:ext cx="70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іржан шығармашылығына байланы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псырма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2349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276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4797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3500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cc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0000" y="1989000"/>
            <a:ext cx="7632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kk-KZ" sz="4000" spc="-1" strike="noStrike">
                <a:solidFill>
                  <a:srgbClr val="ff0000"/>
                </a:solidFill>
                <a:latin typeface="Arial"/>
              </a:rPr>
              <a:t>Үй тапсырмасы:</a:t>
            </a: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   “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еміртас” өлеңіндегі шындыққа қатысты оқиғаларға психологиялы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kk-KZ" sz="3200" spc="-1" strike="noStrike">
                <a:solidFill>
                  <a:srgbClr val="0000ff"/>
                </a:solidFill>
                <a:latin typeface="Arial"/>
              </a:rPr>
              <a:t>талдау жасау</a:t>
            </a:r>
            <a:r>
              <a:rPr b="0" lang="kk-KZ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3:40:57Z</dcterms:created>
  <dc:creator>Лена</dc:creator>
  <dc:description/>
  <dc:language>en-US</dc:language>
  <cp:lastModifiedBy>Лена</cp:lastModifiedBy>
  <dcterms:modified xsi:type="dcterms:W3CDTF">2010-02-28T13:58:32Z</dcterms:modified>
  <cp:revision>5</cp:revision>
  <dc:subject/>
  <dc:title>Слайд 1</dc:title>
</cp:coreProperties>
</file>