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374-64C6-4155-8156-00A1B76D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438-F4B7-41AF-A537-2FDC8A70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7C2-2ECE-4AE1-8507-4C6E6876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DE1-617E-406F-A3D9-5C28B38F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C42-B62A-460F-955A-286D529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38D-D160-488D-AA02-25ABB5F7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DFC-E184-497E-B88A-51246B5A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419-3644-4705-A66E-FC632D21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E2F-5D54-4D98-809B-A8E1DE1B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80C-C979-4E59-B97F-2810608D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ACA-2726-44CA-BD8E-C325DF4D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F30-47FC-4116-A6E2-7A1C48F9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BD09-D0F6-456D-8A52-DA357AB0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256;-1.ppt" TargetMode="External"/><Relationship Id="rId2" Type="http://schemas.openxmlformats.org/officeDocument/2006/relationships/hyperlink" Target="file:///&#1256;-2.ppt" TargetMode="External"/><Relationship Id="rId3" Type="http://schemas.openxmlformats.org/officeDocument/2006/relationships/hyperlink" Target="file:///&#1256;-3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7120" y="26028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Arial"/>
              </a:rPr>
              <a:t>Наурыздың екі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197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Біржан сал Қожағұлұлы    әлеуметтік өмір жырш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492280"/>
            <a:ext cx="69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«Біржан – бұрын –соңғы қазақтың сал-сері ақындарының ағасы, ұстазы, жанашыр өнерпазы. Өнер дамыған сайын Біржан мұрасы мәңгі бірге жасамақ»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kk-KZ" sz="2800" spc="-1" strike="noStrike">
                <a:solidFill>
                  <a:srgbClr val="333399"/>
                </a:solidFill>
                <a:latin typeface="Arial"/>
              </a:rPr>
              <a:t>Есмағамбет Ыс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457440" cy="439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79736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Баласы Қожағұлдың Біржан салм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Адамға зияным жоқ жүрген жанм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Қасыңа мені сендер неге алмайсы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Өзім сұңқар,өзім сал, кімге зарм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720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 тапсы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 сал Қожағұлұлының өмірі мен өскен орт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 топ.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“Біржан деп атым шықты алты алашқ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ның айтыскерліг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81160" y="18792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Times New Roman"/>
                <a:ea typeface="바탕"/>
              </a:rPr>
              <a:t>Кестемен жұмы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73360"/>
          <a:ext cx="8351640" cy="1858680"/>
        </p:xfrm>
        <a:graphic>
          <a:graphicData uri="http://schemas.openxmlformats.org/drawingml/2006/table">
            <a:tbl>
              <a:tblPr/>
              <a:tblGrid>
                <a:gridCol w="2881080"/>
                <a:gridCol w="1871640"/>
                <a:gridCol w="2160720"/>
                <a:gridCol w="14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тақы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өлеңнің 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Шығу тарих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Идея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Қоғамдық, әлеуметтік мәс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 Ақынның жан дүниесі,сезім лирик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483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12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І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3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Arial"/>
              </a:rPr>
              <a:t>ІІ  -   ІІІ    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4508640"/>
          <a:ext cx="8229600" cy="130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те қатты әсер еткен шума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з пікі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126080"/>
            <a:ext cx="77058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Өлеңдерінің шығу себептеріне  тоқт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Жан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2. Ләйлім шыр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3. Ақтент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4. Жайма-шу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5. Теміртас,Асыл,Ақық балдан тәт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42812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Arial"/>
              </a:rPr>
              <a:t>У  тапсы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Өлең құрылысына талдау жас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Эссе «Біржан сал –қазақ ән жырыны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шамшырағ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3.  Біржан өлеңін әнімен ор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468360" y="24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86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/>
          </p:cNvPr>
          <p:cNvSpPr/>
          <p:nvPr/>
        </p:nvSpPr>
        <p:spPr>
          <a:xfrm>
            <a:off x="406728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3"/>
          </p:cNvPr>
          <p:cNvSpPr/>
          <p:nvPr/>
        </p:nvSpPr>
        <p:spPr>
          <a:xfrm>
            <a:off x="716436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39840" y="71136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іржан шығармашылығына байланыс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псырм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1989000"/>
            <a:ext cx="763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Үй тапсырмасы:</a:t>
            </a: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   “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еміртас” өлеңіндегі шындыққа қатысты оқиғаларға психологиял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алдау жасау</a:t>
            </a: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3:40:57Z</dcterms:created>
  <dc:creator>Лена</dc:creator>
  <dc:description/>
  <dc:language>en-US</dc:language>
  <cp:lastModifiedBy>Лена</cp:lastModifiedBy>
  <dcterms:modified xsi:type="dcterms:W3CDTF">2010-02-28T13:58:32Z</dcterms:modified>
  <cp:revision>5</cp:revision>
  <dc:subject/>
  <dc:title>Слайд 1</dc:title>
</cp:coreProperties>
</file>