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F3E3-CE48-41CE-9F24-42E1325E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C63-7D5C-43D0-B5CC-A30E1BBA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631-BF8D-4F10-AAB4-F56BA8B7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982-D332-48D7-8198-6D9D843D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496-75D1-4CD9-B651-98A128E7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4D0-EEC9-40F7-9C88-091E84F2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B2C-A3C1-46B6-BE2E-F36230A7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780-6EB7-4249-957E-3E495A40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53E-C9D2-47BA-A518-3CA741BC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17E-098F-4E8C-9E5F-0C054422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B5C-25DC-4578-B859-7235C008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258-E813-4416-A224-B1D95E32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ACFA-998C-47EB-97D4-959C96992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256;-1.ppt" TargetMode="External"/><Relationship Id="rId2" Type="http://schemas.openxmlformats.org/officeDocument/2006/relationships/hyperlink" Target="file:///&#1256;-2.ppt" TargetMode="External"/><Relationship Id="rId3" Type="http://schemas.openxmlformats.org/officeDocument/2006/relationships/hyperlink" Target="file:///&#1256;-3.ppt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7120" y="260280"/>
            <a:ext cx="44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0000"/>
                </a:solidFill>
                <a:latin typeface="Arial"/>
              </a:rPr>
              <a:t>Наурыздың екіс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19700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cc"/>
                </a:solidFill>
                <a:latin typeface="Arial"/>
              </a:rPr>
              <a:t>Біржан сал Қожағұлұлы    әлеуметтік өмір жыршы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492280"/>
            <a:ext cx="691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«Біржан – бұрын –соңғы қазақтың сал-сері ақындарының ағасы, ұстазы, жанашыр өнерпазы. Өнер дамыған сайын Біржан мұрасы мәңгі бірге жасамақ»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kk-KZ" sz="2800" spc="-1" strike="noStrike">
                <a:solidFill>
                  <a:srgbClr val="333399"/>
                </a:solidFill>
                <a:latin typeface="Arial"/>
              </a:rPr>
              <a:t>Есмағамбет Ысм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3457440" cy="439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479736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Баласы Қожағұлдың Біржан салмы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Адамға зияным жоқ жүрген жанм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Қасыңа мені сендер неге алмайсың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Өзім сұңқар,өзім сал, кімге зарм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072080"/>
            <a:ext cx="80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  тапсы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 топ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Біржан сал Қожағұлұлының өмірі мен өскен орта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І топ.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“Біржан деп атым шықты алты алашқ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ІІ топ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Біржанның айтыскерліг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81160" y="187920"/>
            <a:ext cx="32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Times New Roman"/>
                <a:ea typeface="바탕"/>
              </a:rPr>
              <a:t>Кестемен жұмы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773360"/>
          <a:ext cx="8351640" cy="1858680"/>
        </p:xfrm>
        <a:graphic>
          <a:graphicData uri="http://schemas.openxmlformats.org/drawingml/2006/table">
            <a:tbl>
              <a:tblPr/>
              <a:tblGrid>
                <a:gridCol w="2881080"/>
                <a:gridCol w="1871640"/>
                <a:gridCol w="2160720"/>
                <a:gridCol w="1438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тақыры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өлеңнің 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Шығу тарих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Идея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Қоғамдық, әлеуметтік мәс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 Ақынның жан дүниесі,сезім лирикал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900000" y="4830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1125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І т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933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Arial"/>
              </a:rPr>
              <a:t>ІІ  -   ІІІ     т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4508640"/>
          <a:ext cx="8229600" cy="1306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바탕"/>
                        </a:rPr>
                        <a:t>Өте қатты әсер еткен шума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바탕"/>
                        </a:rPr>
                        <a:t>өз пікірі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1126080"/>
            <a:ext cx="770580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Өлеңдерінің шығу себептеріне  тоқт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Жан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2. Ләйлім шыр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3. Ақтент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4. Жайма-шу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5. Теміртас,Асыл,Ақық балдан тәт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1428120"/>
            <a:ext cx="770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Arial"/>
              </a:rPr>
              <a:t>У  тапсыр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Өлең құрылысына талдау жас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Эссе «Біржан сал –қазақ ән жырыны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шамшырағ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3.  Біржан өлеңін әнімен орынд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/>
          </p:cNvPr>
          <p:cNvSpPr/>
          <p:nvPr/>
        </p:nvSpPr>
        <p:spPr>
          <a:xfrm>
            <a:off x="468360" y="2421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869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/>
          </p:cNvPr>
          <p:cNvSpPr/>
          <p:nvPr/>
        </p:nvSpPr>
        <p:spPr>
          <a:xfrm>
            <a:off x="4067280" y="22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3573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3573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3"/>
          </p:cNvPr>
          <p:cNvSpPr/>
          <p:nvPr/>
        </p:nvSpPr>
        <p:spPr>
          <a:xfrm>
            <a:off x="7164360" y="23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39840" y="711360"/>
            <a:ext cx="70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іржан шығармашылығына байланыс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псырма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23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2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36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35002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00000" y="1989000"/>
            <a:ext cx="76327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Үй тапсырмасы:</a:t>
            </a: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Arial"/>
              </a:rPr>
              <a:t>   “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Теміртас” өлеңіндегі шындыққа қатысты оқиғаларға психологиялы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талдау жасау</a:t>
            </a:r>
            <a:r>
              <a:rPr b="0" lang="kk-KZ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3:40:57Z</dcterms:created>
  <dc:creator>Лена</dc:creator>
  <dc:description/>
  <dc:language>en-US</dc:language>
  <cp:lastModifiedBy>Лена</cp:lastModifiedBy>
  <dcterms:modified xsi:type="dcterms:W3CDTF">2010-02-28T13:58:32Z</dcterms:modified>
  <cp:revision>5</cp:revision>
  <dc:subject/>
  <dc:title>Слайд 1</dc:title>
</cp:coreProperties>
</file>