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2811-2DB3-4D60-AAED-6782C263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8A2-97DF-456E-9DC4-51BBAE33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4365-56FA-4E31-B409-D8504A4D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6B8D-C398-42CB-8427-5EA79E59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F8D5-87A8-4A84-80AC-F606C49C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9A9B-A7A0-4C78-B6ED-5C6E58F6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5456-3DEE-4476-968F-674B12E1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9BD1-80F3-4362-B0CA-3F8D4916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CC7E-52C2-447B-9019-063B521E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2350-B7BA-4612-81D2-A63A60DE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E710-5482-45BD-B307-EF5DA665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3C2-1D5B-46F1-B553-D4557B88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AAA9-56E6-4D77-83F9-CA51CA80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4E7E-9A58-4924-8916-9D8B4CA4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59A8-1981-4863-A739-1163513B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A809-9A2B-4D56-8F51-BEE67146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171E-F3D9-4B0A-8B78-0267015C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E9A-60FC-4338-9689-1F1A31B2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8083-8771-4952-A3DC-967F1732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21E-889A-4626-A696-555AEE09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6BB-57EE-4F44-8144-0CE0A863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22B-ADE0-4440-8B16-C05684F0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C999-CC40-4FEE-A167-889AE7B1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724-8E31-4C7C-AC45-9693CCD8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7120-EE2A-453D-9F6C-9BEAAFA1706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E416-F3DF-4397-A7EC-CB2A3C930F8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87280" y="260280"/>
            <a:ext cx="6551640" cy="547236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рихи орынд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24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cc0099"/>
                </a:solidFill>
                <a:latin typeface="Arial"/>
              </a:rPr>
              <a:t>Берілген сөздерді топтап жаз. </a:t>
            </a:r>
            <a:br>
              <a:rPr sz="2800"/>
            </a:b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Ел, көше, ауа райы, ескі, мен, ұста, тас, олар, жаға, ат, жүз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Қата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Ұя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Үнді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Сөйлемдердегі жіңішке айтылатын сөздердің астын бір сызықпен, жуан сөздердің астын екі сызықпен сыз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713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анды сүйе білген адам бақытт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Туған еліңнің даңқын арттыр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0099"/>
                </a:solidFill>
                <a:latin typeface="Arial"/>
              </a:rPr>
              <a:t>Дұрыс па, бұрыс п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үркістан қаласы еліміздің солтүстік аймағында орналасқ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Отырарда Арыстан баб кесенесі бар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сиетті Түркістанды “Екінші Мекке” деп ата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зір Түркістан тарихи және туристік қал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аразда Әбу Насыр әл-Фараби ту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ерілген сөздерге көптік жалғауын жалғап жазыңдар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557360"/>
          <a:ext cx="9144000" cy="5300640"/>
        </p:xfrm>
        <a:graphic>
          <a:graphicData uri="http://schemas.openxmlformats.org/drawingml/2006/table">
            <a:tbl>
              <a:tblPr/>
              <a:tblGrid>
                <a:gridCol w="2340000"/>
                <a:gridCol w="1152360"/>
                <a:gridCol w="1150920"/>
                <a:gridCol w="1081080"/>
                <a:gridCol w="1079640"/>
                <a:gridCol w="1008000"/>
                <a:gridCol w="13320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үрі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имара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өз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ұстахан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әулетші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алы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қазақ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еру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мемлеке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cc0099"/>
                </a:solidFill>
                <a:latin typeface="Arial"/>
              </a:rPr>
              <a:t>Ортақ белгілері мен ерекшеліктерін атаңдар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81080" y="1770120"/>
            <a:ext cx="6981120" cy="3880800"/>
            <a:chOff x="1081080" y="1770120"/>
            <a:chExt cx="6981120" cy="3880800"/>
          </a:xfrm>
        </p:grpSpPr>
        <p:sp>
          <p:nvSpPr>
            <p:cNvPr id="147" name="_s71693"/>
            <p:cNvSpPr/>
            <p:nvPr/>
          </p:nvSpPr>
          <p:spPr>
            <a:xfrm>
              <a:off x="3628080" y="2459160"/>
              <a:ext cx="1888920" cy="1972800"/>
            </a:xfrm>
            <a:prstGeom prst="ellipse">
              <a:avLst/>
            </a:prstGeom>
            <a:solidFill>
              <a:srgbClr val="aa8456">
                <a:alpha val="50000"/>
              </a:srgbClr>
            </a:solidFill>
            <a:ln w="4680">
              <a:solidFill>
                <a:srgbClr val="aa8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_s71694"/>
            <p:cNvSpPr/>
            <p:nvPr/>
          </p:nvSpPr>
          <p:spPr>
            <a:xfrm>
              <a:off x="3628080" y="1770120"/>
              <a:ext cx="18889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500" spc="-1" strike="noStrike">
                  <a:solidFill>
                    <a:srgbClr val="ffff00"/>
                  </a:solidFill>
                  <a:latin typeface="Verdana"/>
                </a:rPr>
                <a:t>Тараз</a:t>
              </a:r>
              <a:endParaRPr b="0" lang="en-US" sz="3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_s71691"/>
            <p:cNvSpPr/>
            <p:nvPr/>
          </p:nvSpPr>
          <p:spPr>
            <a:xfrm>
              <a:off x="4249080" y="3582720"/>
              <a:ext cx="1888920" cy="1972800"/>
            </a:xfrm>
            <a:prstGeom prst="ellipse">
              <a:avLst/>
            </a:prstGeom>
            <a:solidFill>
              <a:srgbClr val="eec85e">
                <a:alpha val="50000"/>
              </a:srgbClr>
            </a:solidFill>
            <a:ln w="468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_s71692"/>
            <p:cNvSpPr/>
            <p:nvPr/>
          </p:nvSpPr>
          <p:spPr>
            <a:xfrm>
              <a:off x="61732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Отырар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" name="_s71689"/>
            <p:cNvSpPr/>
            <p:nvPr/>
          </p:nvSpPr>
          <p:spPr>
            <a:xfrm>
              <a:off x="3007440" y="3582720"/>
              <a:ext cx="1888560" cy="1972800"/>
            </a:xfrm>
            <a:prstGeom prst="ellipse">
              <a:avLst/>
            </a:prstGeom>
            <a:solidFill>
              <a:srgbClr val="5e855b">
                <a:alpha val="50000"/>
              </a:srgbClr>
            </a:solidFill>
            <a:ln w="468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" name="_s71690"/>
            <p:cNvSpPr/>
            <p:nvPr/>
          </p:nvSpPr>
          <p:spPr>
            <a:xfrm>
              <a:off x="10810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Түркістан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Сәйкестігін табыңдар.</a:t>
            </a:r>
            <a:br>
              <a:rPr sz="3200"/>
            </a:b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Бұл қалалар әр елде несіменен даңқты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421000"/>
            <a:ext cx="9144000" cy="3960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Париж                          Кремлімен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Мәскеу             Қожа Ахмет кесенес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Санкт-Петербург   Эйфель мұнарас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Түркістан                     Бәйтерег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лматы                        Эрмитаж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стана                         Медеу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836640"/>
            <a:ext cx="36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Суреттер   бойынш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әңгімеле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5110200" cy="3068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1058" r="0" b="0"/>
          <a:stretch/>
        </p:blipFill>
        <p:spPr>
          <a:xfrm>
            <a:off x="3995640" y="260280"/>
            <a:ext cx="5148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277920"/>
            <a:ext cx="79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00"/>
                </a:solidFill>
                <a:latin typeface="Arial"/>
              </a:rPr>
              <a:t>Бұл ескерткіш қай қалада, қала</a:t>
            </a:r>
            <a:r>
              <a:rPr b="0" i="1" lang="kk-KZ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Arial"/>
              </a:rPr>
              <a:t>ТУРАЛЫ ӘҢГІМЕЛЕ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6299" t="8399" r="0" b="8399"/>
          <a:stretch/>
        </p:blipFill>
        <p:spPr>
          <a:xfrm>
            <a:off x="539640" y="3429000"/>
            <a:ext cx="4103640" cy="2951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176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000" spc="-1" strike="noStrike">
                <a:solidFill>
                  <a:srgbClr val="ffff00"/>
                </a:solidFill>
                <a:latin typeface="Arial"/>
              </a:rPr>
              <a:t>Көне Отырар туралы әңгімелеңдер</a:t>
            </a:r>
            <a:r>
              <a:rPr b="0" i="1" lang="kk-KZ" sz="40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ұл есімдер қай қаламен байланысты?</a:t>
            </a: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бу Насыр                 Қожа                 Жамбыл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л-Фараби            Ахмет Йасауи          Жабае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2808360" cy="331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590920" cy="3311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76720" y="2781360"/>
            <a:ext cx="280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Сөздік жұмы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мавзолей –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древний, старый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земля тюрков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священная земля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архитектурное искусство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узоры, орнамент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кузниц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памятники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Сөздерді буынға бөліп, буын түрлерін анықтаңдар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285228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Оңтүстік, безендірілген, Отырар, қасиетті, ғажайып, ғұлама, ежелгі, орналасқан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Жалқы есімдерді атаңдар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569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ырардың ежелгі атауы – Фараб.Түркістанның көне аттары –Шабғар, Йасы.Тараз қаласы бұрын Талас, Әулиеата, Жамбыл деп аталған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5:38:45Z</dcterms:created>
  <dc:creator>Customer</dc:creator>
  <dc:description/>
  <dc:language>en-US</dc:language>
  <cp:lastModifiedBy>Customer</cp:lastModifiedBy>
  <dcterms:modified xsi:type="dcterms:W3CDTF">2011-11-23T18:58:07Z</dcterms:modified>
  <cp:revision>9</cp:revision>
  <dc:subject/>
  <dc:title>Слайд 1</dc:title>
</cp:coreProperties>
</file>