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193E-108A-425F-81DA-FE962CC9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E07-D546-42F2-BF1D-4DF51171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560F-8B63-487B-B18E-0A01F3C4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719B-FA8B-47BD-8706-1D07121E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D0BB-58CB-4D77-91E0-2D051FB7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6B52-9D1D-4682-A3F8-74F943CE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ECAD-8A6B-4496-A77E-500273F2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D31E-7A75-40FB-A1FB-FB589F78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5844-3763-4D15-89E7-5AADE123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D5DD-54FA-4B0E-BBE3-E398EBF5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9B88-039D-404E-A094-181E5DAD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D5B0-9420-4811-BBDF-81B00A5E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D6DF-2DAB-45FC-B319-E73167B6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F3B8-0CBC-4C97-9805-B93A26D7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2C65-FBC6-4460-A698-48DA5DE9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2510-5D7B-42F0-891F-F1D9D46F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5A10-C6D2-4887-887F-43C69E6F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C12-90FB-45C3-BECB-F92A2567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298F-11BD-4774-AFF1-346D188E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2D70-43C3-4286-BBA2-119E78D9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9C8B-55F7-48E9-BC3E-B885FEAA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9432-13A0-4620-9C8A-FF0DE8F3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7D9B-3812-4D9C-88DA-F439B72D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188-70C4-46E2-9878-8CE32A5C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ECFE-0D88-4E40-B864-ADEB83BE894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EE4D-4BA2-4B2F-B35B-862ADE207F2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187280" y="260280"/>
            <a:ext cx="6551640" cy="547236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рихи орынд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424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cc0099"/>
                </a:solidFill>
                <a:latin typeface="Arial"/>
              </a:rPr>
              <a:t>Берілген сөздерді топтап жаз. </a:t>
            </a:r>
            <a:br>
              <a:rPr sz="2800"/>
            </a:br>
            <a:r>
              <a:rPr b="0" lang="kk-KZ" sz="3200" spc="-1" strike="noStrike">
                <a:solidFill>
                  <a:srgbClr val="ffff00"/>
                </a:solidFill>
                <a:latin typeface="Arial"/>
              </a:rPr>
              <a:t>Ел, көше, ауа райы, ескі, мен, ұста, тас, олар, жаға, ат, жүз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Қатаң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Ұяң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Үнді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Сөйлемдердегі жіңішке айтылатын сөздердің астын бір сызықпен, жуан сөздердің астын екі сызықпен сыз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7138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Отанды сүйе білген адам бақытт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     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Туған еліңнің даңқын арттыр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c0099"/>
                </a:solidFill>
                <a:latin typeface="Arial"/>
              </a:rPr>
              <a:t>Дұрыс па, бұрыс п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Түркістан қаласы еліміздің солтүстік аймағында орналасқ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Отырарда Арыстан баб кесенесі бар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Қасиетті Түркістанды “Екінші Мекке” деп атағ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Қазір Түркістан тарихи және туристік қал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Таразда Әбу Насыр әл-Фараби туғ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Берілген сөздерге көптік жалғауын жалғап жазыңдар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557360"/>
          <a:ext cx="9144000" cy="5300640"/>
        </p:xfrm>
        <a:graphic>
          <a:graphicData uri="http://schemas.openxmlformats.org/drawingml/2006/table">
            <a:tbl>
              <a:tblPr/>
              <a:tblGrid>
                <a:gridCol w="2340000"/>
                <a:gridCol w="1152360"/>
                <a:gridCol w="1150920"/>
                <a:gridCol w="1081080"/>
                <a:gridCol w="1079640"/>
                <a:gridCol w="1008000"/>
                <a:gridCol w="13320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л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л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д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д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т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т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түрі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ғимара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өзе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ұстахан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әулетші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ғалы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қазақ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еруе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мемлеке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cc0099"/>
                </a:solidFill>
                <a:latin typeface="Arial"/>
              </a:rPr>
              <a:t>Ортақ белгілері мен ерекшеліктерін атаңдар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81080" y="1770120"/>
            <a:ext cx="6981120" cy="3880800"/>
            <a:chOff x="1081080" y="1770120"/>
            <a:chExt cx="6981120" cy="3880800"/>
          </a:xfrm>
        </p:grpSpPr>
        <p:sp>
          <p:nvSpPr>
            <p:cNvPr id="147" name="_s71693"/>
            <p:cNvSpPr/>
            <p:nvPr/>
          </p:nvSpPr>
          <p:spPr>
            <a:xfrm>
              <a:off x="3628080" y="2459160"/>
              <a:ext cx="1888920" cy="1972800"/>
            </a:xfrm>
            <a:prstGeom prst="ellipse">
              <a:avLst/>
            </a:prstGeom>
            <a:solidFill>
              <a:srgbClr val="aa8456">
                <a:alpha val="50000"/>
              </a:srgbClr>
            </a:solidFill>
            <a:ln w="4680">
              <a:solidFill>
                <a:srgbClr val="aa8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" name="_s71694"/>
            <p:cNvSpPr/>
            <p:nvPr/>
          </p:nvSpPr>
          <p:spPr>
            <a:xfrm>
              <a:off x="3628080" y="1770120"/>
              <a:ext cx="18889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500" spc="-1" strike="noStrike">
                  <a:solidFill>
                    <a:srgbClr val="ffff00"/>
                  </a:solidFill>
                  <a:latin typeface="Verdana"/>
                </a:rPr>
                <a:t>Тараз</a:t>
              </a:r>
              <a:endParaRPr b="0" lang="en-US" sz="3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_s71691"/>
            <p:cNvSpPr/>
            <p:nvPr/>
          </p:nvSpPr>
          <p:spPr>
            <a:xfrm>
              <a:off x="4249080" y="3582720"/>
              <a:ext cx="1888920" cy="1972800"/>
            </a:xfrm>
            <a:prstGeom prst="ellipse">
              <a:avLst/>
            </a:prstGeom>
            <a:solidFill>
              <a:srgbClr val="eec85e">
                <a:alpha val="50000"/>
              </a:srgbClr>
            </a:solidFill>
            <a:ln w="468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" name="_s71692"/>
            <p:cNvSpPr/>
            <p:nvPr/>
          </p:nvSpPr>
          <p:spPr>
            <a:xfrm>
              <a:off x="6173280" y="5159160"/>
              <a:ext cx="188892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3000" spc="-1" strike="noStrike">
                  <a:solidFill>
                    <a:srgbClr val="ffff00"/>
                  </a:solidFill>
                  <a:latin typeface="Verdana"/>
                </a:rPr>
                <a:t>Отырар</a:t>
              </a:r>
              <a:endParaRPr b="0" lang="en-US" sz="3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" name="_s71689"/>
            <p:cNvSpPr/>
            <p:nvPr/>
          </p:nvSpPr>
          <p:spPr>
            <a:xfrm>
              <a:off x="3007440" y="3582720"/>
              <a:ext cx="1888560" cy="1972800"/>
            </a:xfrm>
            <a:prstGeom prst="ellipse">
              <a:avLst/>
            </a:prstGeom>
            <a:solidFill>
              <a:srgbClr val="5e855b">
                <a:alpha val="50000"/>
              </a:srgbClr>
            </a:solidFill>
            <a:ln w="468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" name="_s71690"/>
            <p:cNvSpPr/>
            <p:nvPr/>
          </p:nvSpPr>
          <p:spPr>
            <a:xfrm>
              <a:off x="1081080" y="5159160"/>
              <a:ext cx="188892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3000" spc="-1" strike="noStrike">
                  <a:solidFill>
                    <a:srgbClr val="ffff00"/>
                  </a:solidFill>
                  <a:latin typeface="Verdana"/>
                </a:rPr>
                <a:t>Түркістан</a:t>
              </a:r>
              <a:endParaRPr b="0" lang="en-US" sz="3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c0099"/>
                </a:solidFill>
                <a:latin typeface="Arial"/>
              </a:rPr>
              <a:t>Сәйкестігін табыңдар.</a:t>
            </a:r>
            <a:br>
              <a:rPr sz="3200"/>
            </a:br>
            <a:r>
              <a:rPr b="0" i="1" lang="kk-KZ" sz="3200" spc="-1" strike="noStrike">
                <a:solidFill>
                  <a:srgbClr val="cc0099"/>
                </a:solidFill>
                <a:latin typeface="Arial"/>
              </a:rPr>
              <a:t>Бұл қалалар әр елде несіменен даңқты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421000"/>
            <a:ext cx="9144000" cy="3960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Париж                          Кремлімен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Мәскеу             Қожа Ахмет кесенес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Санкт-Петербург   Эйфель мұнарасы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Түркістан                     Бәйтерег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Алматы                        Эрмитажы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Астана                         Медеу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836640"/>
            <a:ext cx="36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Verdana"/>
              </a:rPr>
              <a:t>Суреттер   бойынш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Verdana"/>
              </a:rPr>
              <a:t>әңгімеле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789360"/>
            <a:ext cx="5110200" cy="3068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1058" r="0" b="0"/>
          <a:stretch/>
        </p:blipFill>
        <p:spPr>
          <a:xfrm>
            <a:off x="3995640" y="260280"/>
            <a:ext cx="5148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277920"/>
            <a:ext cx="79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00"/>
                </a:solidFill>
                <a:latin typeface="Arial"/>
              </a:rPr>
              <a:t>Бұл ескерткіш қай қалада, қала</a:t>
            </a:r>
            <a:r>
              <a:rPr b="0" i="1" lang="kk-KZ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kk-KZ" sz="2800" spc="-1" strike="noStrike">
                <a:solidFill>
                  <a:srgbClr val="ffff00"/>
                </a:solidFill>
                <a:latin typeface="Arial"/>
              </a:rPr>
              <a:t>ТУРАЛЫ ӘҢГІМЕЛЕ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6299" t="8399" r="0" b="8399"/>
          <a:stretch/>
        </p:blipFill>
        <p:spPr>
          <a:xfrm>
            <a:off x="539640" y="3429000"/>
            <a:ext cx="4103640" cy="2951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176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4000" spc="-1" strike="noStrike">
                <a:solidFill>
                  <a:srgbClr val="ffff00"/>
                </a:solidFill>
                <a:latin typeface="Arial"/>
              </a:rPr>
              <a:t>Көне Отырар туралы әңгімелеңдер</a:t>
            </a:r>
            <a:r>
              <a:rPr b="0" i="1" lang="kk-KZ" sz="40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Бұл есімдер қай қаламен байланысты?</a:t>
            </a:r>
            <a:r>
              <a:rPr b="0" lang="kk-KZ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Әбу Насыр                 Қожа                 Жамбыл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әл-Фараби            Ахмет Йасауи          Жабае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2808360" cy="3311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84720" y="2781360"/>
            <a:ext cx="2590920" cy="3311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276720" y="2781360"/>
            <a:ext cx="2808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cc0099"/>
                </a:solidFill>
                <a:latin typeface="Arial"/>
              </a:rPr>
              <a:t>Сөздік жұмы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мавзолей –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древний, старый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земля тюрков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священная земля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архитектурное искусство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узоры, орнаменты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кузницы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памятники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Сөздерді буынға бөліп, буын түрлерін анықтаңдар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2852280"/>
            <a:ext cx="8642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kk-KZ" sz="4000" spc="-1" strike="noStrike">
                <a:solidFill>
                  <a:srgbClr val="ffff00"/>
                </a:solidFill>
                <a:latin typeface="Verdana"/>
              </a:rPr>
              <a:t>Оңтүстік, безендірілген, Отырар, қасиетті, ғажайып, ғұлама, ежелгі, орналасқан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cc0099"/>
                </a:solidFill>
                <a:latin typeface="Arial"/>
              </a:rPr>
              <a:t>Жалқы есімдерді атаңдар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569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Отырардың ежелгі атауы – Фараб.Түркістанның көне аттары –Шабғар, Йасы.Тараз қаласы бұрын Талас, Әулиеата, Жамбыл деп аталған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5:38:45Z</dcterms:created>
  <dc:creator>Customer</dc:creator>
  <dc:description/>
  <dc:language>en-US</dc:language>
  <cp:lastModifiedBy>Customer</cp:lastModifiedBy>
  <dcterms:modified xsi:type="dcterms:W3CDTF">2011-11-23T18:58:07Z</dcterms:modified>
  <cp:revision>9</cp:revision>
  <dc:subject/>
  <dc:title>Слайд 1</dc:title>
</cp:coreProperties>
</file>