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4618-7097-4F08-962A-013F8CA24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898E-A07E-40A4-8543-DFD88AAEA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4101-F934-4BF7-956F-8F36EC98F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7BF4-13A3-4064-ADEF-15C39AAE9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858B6-4444-4C23-90EF-5133F4F11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28FC7-DC8C-4611-8F9C-86315896F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104E4-293D-40F6-A3E7-B85C51EEB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A0310-2533-4279-9665-EF61D23C6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53981-15E4-42E1-B1BB-57D09F619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578AA-1FB4-4B45-A06F-B6350BFAF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72809-2E29-48D3-B660-8A8A819F4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CABC-E4BD-4C64-923E-DEFC537B3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B42D5-4C0B-41AF-A715-A23EAC6B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CFF0F-8810-4C22-B1A9-4B8DB2500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2A47E-05AD-44A0-8FB6-515AEA0C8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B31F7-57DA-433D-87DC-D18135318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B0A46-C564-4649-9DC8-90E02F107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7CF7-3424-47C2-8145-C6087ABBF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736F-48E3-4CCF-81E6-94083201A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DD14-492E-43BF-A3DF-734317F83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F044-2541-45D7-9142-CB898A1BB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1A9D-49F3-4016-B334-4C7C0B99E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CC35-3872-4A8B-9905-1ACD58BDF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2901-6B41-41A2-9395-DB2825394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26620-5BD2-448C-81CE-BADBC9D60734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2FA32-14CA-488D-8E2D-E8D9FDEEFD37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187280" y="260280"/>
            <a:ext cx="6551640" cy="5472360"/>
          </a:xfrm>
          <a:prstGeom prst="rect">
            <a:avLst/>
          </a:prstGeom>
        </p:spPr>
        <p:txBody>
          <a:bodyPr wrap="none" lIns="90000" rIns="90000" tIns="46800" bIns="46800" anchor="t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арихи орындар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4000" y="907920"/>
            <a:ext cx="8424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cc0099"/>
                </a:solidFill>
                <a:latin typeface="Arial"/>
              </a:rPr>
              <a:t>Берілген сөздерді топтап жаз. </a:t>
            </a:r>
            <a:br>
              <a:rPr sz="2800"/>
            </a:br>
            <a:r>
              <a:rPr b="0" lang="kk-KZ" sz="3200" spc="-1" strike="noStrike">
                <a:solidFill>
                  <a:srgbClr val="ffff00"/>
                </a:solidFill>
                <a:latin typeface="Arial"/>
              </a:rPr>
              <a:t>Ел, көше, ауа райы, ескі, мен, ұста, тас, олар, жаға, ат, жүз.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eaeaea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Қатаң дауыссызы бар сөздер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Ұяң дауыссызы бар сөздер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Үнді дауыссызы бар сөздер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cc0099"/>
                </a:solidFill>
                <a:latin typeface="Arial"/>
              </a:rPr>
              <a:t>Сөйлемдердегі жіңішке айтылатын сөздердің астын бір сызықпен, жуан сөздердің астын екі сызықпен сыз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8920" y="2133720"/>
            <a:ext cx="87138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Отанды сүйе білген адам бақытты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     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       </a:t>
            </a: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Туған еліңнің даңқын арттыр!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cc0099"/>
                </a:solidFill>
                <a:latin typeface="Arial"/>
              </a:rPr>
              <a:t>Дұрыс па, бұрыс па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ffff00"/>
                </a:solidFill>
                <a:latin typeface="Verdana"/>
              </a:rPr>
              <a:t>Түркістан қаласы еліміздің солтүстік аймағында орналасқан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i="1" lang="kk-KZ" sz="2800" spc="-1" strike="noStrike">
                <a:solidFill>
                  <a:srgbClr val="ffff00"/>
                </a:solidFill>
                <a:latin typeface="Verdana"/>
              </a:rPr>
              <a:t>Отырарда Арыстан баб кесенесі бар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ffff00"/>
                </a:solidFill>
                <a:latin typeface="Verdana"/>
              </a:rPr>
              <a:t>Қасиетті Түркістанды “Екінші Мекке” деп атаған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ffff00"/>
                </a:solidFill>
                <a:latin typeface="Verdana"/>
              </a:rPr>
              <a:t>Қазір Түркістан тарихи және туристік қала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ffff00"/>
                </a:solidFill>
                <a:latin typeface="Verdana"/>
              </a:rPr>
              <a:t>Таразда Әбу Насыр әл-Фараби туған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cc0099"/>
                </a:solidFill>
                <a:latin typeface="Arial"/>
              </a:rPr>
              <a:t>Берілген сөздерге көптік жалғауын жалғап жазыңдар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0" y="1557360"/>
          <a:ext cx="9144000" cy="5300640"/>
        </p:xfrm>
        <a:graphic>
          <a:graphicData uri="http://schemas.openxmlformats.org/drawingml/2006/table">
            <a:tbl>
              <a:tblPr/>
              <a:tblGrid>
                <a:gridCol w="2340000"/>
                <a:gridCol w="1152360"/>
                <a:gridCol w="1150920"/>
                <a:gridCol w="1081080"/>
                <a:gridCol w="1079640"/>
                <a:gridCol w="1008000"/>
                <a:gridCol w="1332000"/>
              </a:tblGrid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ла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ле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да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де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та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те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     </a:t>
                      </a: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түрік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   </a:t>
                      </a: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ғимарат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     </a:t>
                      </a: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өзен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  </a:t>
                      </a: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ұстахан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  </a:t>
                      </a: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сәулетші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    </a:t>
                      </a: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ғалым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    </a:t>
                      </a: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қазақ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   </a:t>
                      </a: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керуен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  </a:t>
                      </a: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мемлекет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cc0099"/>
                </a:solidFill>
                <a:latin typeface="Arial"/>
              </a:rPr>
              <a:t>Ортақ белгілері мен ерекшеліктерін атаңдар.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81080" y="1770120"/>
            <a:ext cx="6981120" cy="3880800"/>
            <a:chOff x="1081080" y="1770120"/>
            <a:chExt cx="6981120" cy="3880800"/>
          </a:xfrm>
        </p:grpSpPr>
        <p:sp>
          <p:nvSpPr>
            <p:cNvPr id="147" name="_s71693"/>
            <p:cNvSpPr/>
            <p:nvPr/>
          </p:nvSpPr>
          <p:spPr>
            <a:xfrm>
              <a:off x="3628080" y="2459160"/>
              <a:ext cx="1888920" cy="1972800"/>
            </a:xfrm>
            <a:prstGeom prst="ellipse">
              <a:avLst/>
            </a:prstGeom>
            <a:solidFill>
              <a:srgbClr val="aa8456">
                <a:alpha val="50000"/>
              </a:srgbClr>
            </a:solidFill>
            <a:ln w="4680">
              <a:solidFill>
                <a:srgbClr val="aa84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8" name="_s71694"/>
            <p:cNvSpPr/>
            <p:nvPr/>
          </p:nvSpPr>
          <p:spPr>
            <a:xfrm>
              <a:off x="3628080" y="1770120"/>
              <a:ext cx="1888920" cy="49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500" spc="-1" strike="noStrike">
                  <a:solidFill>
                    <a:srgbClr val="ffff00"/>
                  </a:solidFill>
                  <a:latin typeface="Verdana"/>
                </a:rPr>
                <a:t>Тараз</a:t>
              </a:r>
              <a:endParaRPr b="0" lang="en-US" sz="35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9" name="_s71691"/>
            <p:cNvSpPr/>
            <p:nvPr/>
          </p:nvSpPr>
          <p:spPr>
            <a:xfrm>
              <a:off x="4249080" y="3582720"/>
              <a:ext cx="1888920" cy="1972800"/>
            </a:xfrm>
            <a:prstGeom prst="ellipse">
              <a:avLst/>
            </a:prstGeom>
            <a:solidFill>
              <a:srgbClr val="eec85e">
                <a:alpha val="50000"/>
              </a:srgbClr>
            </a:solidFill>
            <a:ln w="4680">
              <a:solidFill>
                <a:srgbClr val="eec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0" name="_s71692"/>
            <p:cNvSpPr/>
            <p:nvPr/>
          </p:nvSpPr>
          <p:spPr>
            <a:xfrm>
              <a:off x="6173280" y="5159160"/>
              <a:ext cx="1888920" cy="49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3000" spc="-1" strike="noStrike">
                  <a:solidFill>
                    <a:srgbClr val="ffff00"/>
                  </a:solidFill>
                  <a:latin typeface="Verdana"/>
                </a:rPr>
                <a:t>Отырар</a:t>
              </a:r>
              <a:endParaRPr b="0" lang="en-US" sz="3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1" name="_s71689"/>
            <p:cNvSpPr/>
            <p:nvPr/>
          </p:nvSpPr>
          <p:spPr>
            <a:xfrm>
              <a:off x="3007440" y="3582720"/>
              <a:ext cx="1888560" cy="1972800"/>
            </a:xfrm>
            <a:prstGeom prst="ellipse">
              <a:avLst/>
            </a:prstGeom>
            <a:solidFill>
              <a:srgbClr val="5e855b">
                <a:alpha val="50000"/>
              </a:srgbClr>
            </a:solidFill>
            <a:ln w="4680">
              <a:solidFill>
                <a:srgbClr val="5e85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2" name="_s71690"/>
            <p:cNvSpPr/>
            <p:nvPr/>
          </p:nvSpPr>
          <p:spPr>
            <a:xfrm>
              <a:off x="1081080" y="5159160"/>
              <a:ext cx="1888920" cy="49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3000" spc="-1" strike="noStrike">
                  <a:solidFill>
                    <a:srgbClr val="ffff00"/>
                  </a:solidFill>
                  <a:latin typeface="Verdana"/>
                </a:rPr>
                <a:t>Түркістан</a:t>
              </a:r>
              <a:endParaRPr b="0" lang="en-US" sz="3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cc0099"/>
                </a:solidFill>
                <a:latin typeface="Arial"/>
              </a:rPr>
              <a:t>Сәйкестігін табыңдар.</a:t>
            </a:r>
            <a:br>
              <a:rPr sz="3200"/>
            </a:br>
            <a:r>
              <a:rPr b="0" i="1" lang="kk-KZ" sz="3200" spc="-1" strike="noStrike">
                <a:solidFill>
                  <a:srgbClr val="cc0099"/>
                </a:solidFill>
                <a:latin typeface="Arial"/>
              </a:rPr>
              <a:t>Бұл қалалар әр елде несіменен даңқты?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2421000"/>
            <a:ext cx="9144000" cy="3960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ffff00"/>
                </a:solidFill>
                <a:latin typeface="Verdana"/>
              </a:rPr>
              <a:t>Париж                          Кремлімен          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ffff00"/>
                </a:solidFill>
                <a:latin typeface="Verdana"/>
              </a:rPr>
              <a:t>Мәскеу             Қожа Ахмет кесенесімен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ffff00"/>
                </a:solidFill>
                <a:latin typeface="Verdana"/>
              </a:rPr>
              <a:t>Санкт-Петербург   Эйфель мұнарасымен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ffff00"/>
                </a:solidFill>
                <a:latin typeface="Verdana"/>
              </a:rPr>
              <a:t>Түркістан                     Бәйтерегімен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ffff00"/>
                </a:solidFill>
                <a:latin typeface="Verdana"/>
              </a:rPr>
              <a:t>Алматы                        Эрмитажымен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ffff00"/>
                </a:solidFill>
                <a:latin typeface="Verdana"/>
              </a:rPr>
              <a:t>Астана                         Медеуімен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95280" y="836640"/>
            <a:ext cx="3672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ffff00"/>
                </a:solidFill>
                <a:latin typeface="Verdana"/>
              </a:rPr>
              <a:t>Суреттер   бойынша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ffff00"/>
                </a:solidFill>
                <a:latin typeface="Verdana"/>
              </a:rPr>
              <a:t>әңгімеле.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3789360"/>
            <a:ext cx="5110200" cy="3068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rcRect l="0" t="1058" r="0" b="0"/>
          <a:stretch/>
        </p:blipFill>
        <p:spPr>
          <a:xfrm>
            <a:off x="3995640" y="260280"/>
            <a:ext cx="5148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10920" y="277920"/>
            <a:ext cx="7993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ffff00"/>
                </a:solidFill>
                <a:latin typeface="Arial"/>
              </a:rPr>
              <a:t>Бұл ескерткіш қай қалада, қала</a:t>
            </a:r>
            <a:r>
              <a:rPr b="0" i="1" lang="kk-KZ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kk-KZ" sz="2800" spc="-1" strike="noStrike">
                <a:solidFill>
                  <a:srgbClr val="ffff00"/>
                </a:solidFill>
                <a:latin typeface="Arial"/>
              </a:rPr>
              <a:t>ТУРАЛЫ ӘҢГІМЕЛЕ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6299" t="8399" r="0" b="8399"/>
          <a:stretch/>
        </p:blipFill>
        <p:spPr>
          <a:xfrm>
            <a:off x="539640" y="3429000"/>
            <a:ext cx="4103640" cy="29512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643280" y="2060640"/>
            <a:ext cx="417672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4000" spc="-1" strike="noStrike">
                <a:solidFill>
                  <a:srgbClr val="ffff00"/>
                </a:solidFill>
                <a:latin typeface="Arial"/>
              </a:rPr>
              <a:t>Көне Отырар туралы әңгімелеңдер</a:t>
            </a:r>
            <a:r>
              <a:rPr b="0" i="1" lang="kk-KZ" sz="4000" spc="-1" strike="noStrike">
                <a:solidFill>
                  <a:srgbClr val="cc0099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cc0099"/>
                </a:solidFill>
                <a:latin typeface="Arial"/>
              </a:rPr>
              <a:t>Бұл есімдер қай қаламен байланысты?</a:t>
            </a:r>
            <a:r>
              <a:rPr b="0" lang="kk-KZ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kk-KZ" sz="2400" spc="-1" strike="noStrike">
                <a:solidFill>
                  <a:srgbClr val="ffff00"/>
                </a:solidFill>
                <a:latin typeface="Verdana"/>
              </a:rPr>
              <a:t>Әбу Насыр                 Қожа                 Жамбыл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kk-KZ" sz="2400" spc="-1" strike="noStrike">
                <a:solidFill>
                  <a:srgbClr val="ffff00"/>
                </a:solidFill>
                <a:latin typeface="Verdana"/>
              </a:rPr>
              <a:t>әл-Фараби            Ахмет Йасауи          Жабаев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39640" y="2781360"/>
            <a:ext cx="2808360" cy="33116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084720" y="2781360"/>
            <a:ext cx="2590920" cy="33116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3276720" y="2781360"/>
            <a:ext cx="280800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cc0099"/>
                </a:solidFill>
                <a:latin typeface="Arial"/>
              </a:rPr>
              <a:t>Сөздік жұмыс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мавзолей –</a:t>
            </a:r>
            <a:r>
              <a:rPr b="0" lang="kk-KZ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древний, старый –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земля тюрков –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священная земля –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архитектурное искусство –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узоры, орнаменты –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кузницы –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памятники</a:t>
            </a:r>
            <a:r>
              <a:rPr b="0" lang="kk-KZ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-</a:t>
            </a:r>
            <a:r>
              <a:rPr b="0" lang="kk-KZ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cc0099"/>
                </a:solidFill>
                <a:latin typeface="Arial"/>
              </a:rPr>
              <a:t>Сөздерді буынға бөліп, буын түрлерін анықтаңдар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920" y="2852280"/>
            <a:ext cx="864216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0" lang="kk-KZ" sz="4000" spc="-1" strike="noStrike">
                <a:solidFill>
                  <a:srgbClr val="ffff00"/>
                </a:solidFill>
                <a:latin typeface="Verdana"/>
              </a:rPr>
              <a:t>Оңтүстік, безендірілген, Отырар, қасиетті, ғажайып, ғұлама, ежелгі, орналасқан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cc0099"/>
                </a:solidFill>
                <a:latin typeface="Arial"/>
              </a:rPr>
              <a:t>Жалқы есімдерді атаңдар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3640" y="2276640"/>
            <a:ext cx="856908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Отырардың ежелгі атауы – Фараб.Түркістанның көне аттары –Шабғар, Йасы.Тараз қаласы бұрын Талас, Әулиеата, Жамбыл деп аталған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0T05:38:45Z</dcterms:created>
  <dc:creator>Customer</dc:creator>
  <dc:description/>
  <dc:language>en-US</dc:language>
  <cp:lastModifiedBy>Customer</cp:lastModifiedBy>
  <dcterms:modified xsi:type="dcterms:W3CDTF">2011-11-23T18:58:07Z</dcterms:modified>
  <cp:revision>9</cp:revision>
  <dc:subject/>
  <dc:title>Слайд 1</dc:title>
</cp:coreProperties>
</file>