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D4B-54D0-434C-8389-6C2A7448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664-CDB9-4954-8C5B-F60D15A9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D039-C86C-4A8A-9117-D11B92E3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A0F-2BB5-42F0-AA13-23D7E41E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7FF2-0BAA-4399-9C7F-0314BED6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8C3A-5D63-4E3E-B5FD-79BA66F2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2537-A7CA-4C52-9DD2-3033487E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04F3-12B7-4D76-BA81-A81BDDA1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7818-D4CE-4BAD-B7DB-9693C561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9E2B-0827-4F01-BCE8-21EC465F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8BFE-7DA4-4F64-BB60-E9E4EB9F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E84-21EE-4579-AACF-A6C7BE47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9636-DB93-434A-BB4A-FBCBE4FC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5735-36E9-4EBF-A65C-1F38E78A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3AF2-725E-4BCA-BC50-661EA2FE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B205-BC48-4421-AC49-76B22D96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A863-880B-4AC8-9546-4DC75B07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866-E314-49A4-B1FE-68777DD9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0D1-7F44-49F0-8E19-06F55A4D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646D-207C-4C71-BC64-822EE5D0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7D5-730B-4811-A06A-71DF02F6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1662-DDC6-4371-8249-DD46CEC8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2E8-CC3A-4D80-8818-68BFD0FC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E68-D039-4466-BC0B-57710D74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7A4B-E09D-4C14-841C-5563199075E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59FE-F7D1-4205-B9E8-4DD9A59057C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187280" y="260280"/>
            <a:ext cx="6551640" cy="547236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рихи орынд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424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cc0099"/>
                </a:solidFill>
                <a:latin typeface="Arial"/>
              </a:rPr>
              <a:t>Берілген сөздерді топтап жаз. </a:t>
            </a:r>
            <a:br>
              <a:rPr sz="2800"/>
            </a:br>
            <a:r>
              <a:rPr b="0" lang="kk-KZ" sz="3200" spc="-1" strike="noStrike">
                <a:solidFill>
                  <a:srgbClr val="ffff00"/>
                </a:solidFill>
                <a:latin typeface="Arial"/>
              </a:rPr>
              <a:t>Ел, көше, ауа райы, ескі, мен, ұста, тас, олар, жаға, ат, жүз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Қатаң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Ұяң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Үнді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Сөйлемдердегі жіңішке айтылатын сөздердің астын бір сызықпен, жуан сөздердің астын екі сызықпен сыз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7138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Отанды сүйе білген адам бақытт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     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Туған еліңнің даңқын арттыр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0099"/>
                </a:solidFill>
                <a:latin typeface="Arial"/>
              </a:rPr>
              <a:t>Дұрыс па, бұрыс п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Түркістан қаласы еліміздің солтүстік аймағында орналасқ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Отырарда Арыстан баб кесенесі бар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Қасиетті Түркістанды “Екінші Мекке” деп атағ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Қазір Түркістан тарихи және туристік қал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Таразда Әбу Насыр әл-Фараби туғ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Берілген сөздерге көптік жалғауын жалғап жазыңдар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557360"/>
          <a:ext cx="9144000" cy="5300640"/>
        </p:xfrm>
        <a:graphic>
          <a:graphicData uri="http://schemas.openxmlformats.org/drawingml/2006/table">
            <a:tbl>
              <a:tblPr/>
              <a:tblGrid>
                <a:gridCol w="2340000"/>
                <a:gridCol w="1152360"/>
                <a:gridCol w="1150920"/>
                <a:gridCol w="1081080"/>
                <a:gridCol w="1079640"/>
                <a:gridCol w="1008000"/>
                <a:gridCol w="13320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л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л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д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д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т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т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үрі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ғимара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өзе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ұстахан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әулетші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ғалы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қазақ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еруе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мемлеке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cc0099"/>
                </a:solidFill>
                <a:latin typeface="Arial"/>
              </a:rPr>
              <a:t>Ортақ белгілері мен ерекшеліктерін атаңдар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81080" y="1770120"/>
            <a:ext cx="6981120" cy="3880800"/>
            <a:chOff x="1081080" y="1770120"/>
            <a:chExt cx="6981120" cy="3880800"/>
          </a:xfrm>
        </p:grpSpPr>
        <p:sp>
          <p:nvSpPr>
            <p:cNvPr id="147" name="_s71693"/>
            <p:cNvSpPr/>
            <p:nvPr/>
          </p:nvSpPr>
          <p:spPr>
            <a:xfrm>
              <a:off x="3628080" y="2459160"/>
              <a:ext cx="1888920" cy="1972800"/>
            </a:xfrm>
            <a:prstGeom prst="ellipse">
              <a:avLst/>
            </a:prstGeom>
            <a:solidFill>
              <a:srgbClr val="aa8456">
                <a:alpha val="50000"/>
              </a:srgbClr>
            </a:solidFill>
            <a:ln w="4680">
              <a:solidFill>
                <a:srgbClr val="aa8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_s71694"/>
            <p:cNvSpPr/>
            <p:nvPr/>
          </p:nvSpPr>
          <p:spPr>
            <a:xfrm>
              <a:off x="3628080" y="1770120"/>
              <a:ext cx="18889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500" spc="-1" strike="noStrike">
                  <a:solidFill>
                    <a:srgbClr val="ffff00"/>
                  </a:solidFill>
                  <a:latin typeface="Verdana"/>
                </a:rPr>
                <a:t>Тараз</a:t>
              </a:r>
              <a:endParaRPr b="0" lang="en-US" sz="3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_s71691"/>
            <p:cNvSpPr/>
            <p:nvPr/>
          </p:nvSpPr>
          <p:spPr>
            <a:xfrm>
              <a:off x="4249080" y="3582720"/>
              <a:ext cx="1888920" cy="1972800"/>
            </a:xfrm>
            <a:prstGeom prst="ellipse">
              <a:avLst/>
            </a:prstGeom>
            <a:solidFill>
              <a:srgbClr val="eec85e">
                <a:alpha val="50000"/>
              </a:srgbClr>
            </a:solidFill>
            <a:ln w="468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" name="_s71692"/>
            <p:cNvSpPr/>
            <p:nvPr/>
          </p:nvSpPr>
          <p:spPr>
            <a:xfrm>
              <a:off x="6173280" y="5159160"/>
              <a:ext cx="188892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3000" spc="-1" strike="noStrike">
                  <a:solidFill>
                    <a:srgbClr val="ffff00"/>
                  </a:solidFill>
                  <a:latin typeface="Verdana"/>
                </a:rPr>
                <a:t>Отырар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" name="_s71689"/>
            <p:cNvSpPr/>
            <p:nvPr/>
          </p:nvSpPr>
          <p:spPr>
            <a:xfrm>
              <a:off x="3007440" y="3582720"/>
              <a:ext cx="1888560" cy="1972800"/>
            </a:xfrm>
            <a:prstGeom prst="ellipse">
              <a:avLst/>
            </a:prstGeom>
            <a:solidFill>
              <a:srgbClr val="5e855b">
                <a:alpha val="50000"/>
              </a:srgbClr>
            </a:solidFill>
            <a:ln w="468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" name="_s71690"/>
            <p:cNvSpPr/>
            <p:nvPr/>
          </p:nvSpPr>
          <p:spPr>
            <a:xfrm>
              <a:off x="1081080" y="5159160"/>
              <a:ext cx="188892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3000" spc="-1" strike="noStrike">
                  <a:solidFill>
                    <a:srgbClr val="ffff00"/>
                  </a:solidFill>
                  <a:latin typeface="Verdana"/>
                </a:rPr>
                <a:t>Түркістан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c0099"/>
                </a:solidFill>
                <a:latin typeface="Arial"/>
              </a:rPr>
              <a:t>Сәйкестігін табыңдар.</a:t>
            </a:r>
            <a:br>
              <a:rPr sz="3200"/>
            </a:br>
            <a:r>
              <a:rPr b="0" i="1" lang="kk-KZ" sz="3200" spc="-1" strike="noStrike">
                <a:solidFill>
                  <a:srgbClr val="cc0099"/>
                </a:solidFill>
                <a:latin typeface="Arial"/>
              </a:rPr>
              <a:t>Бұл қалалар әр елде несіменен даңқты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421000"/>
            <a:ext cx="9144000" cy="3960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Париж                          Кремлімен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Мәскеу             Қожа Ахмет кесенес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Санкт-Петербург   Эйфель мұнарасы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Түркістан                     Бәйтерег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Алматы                        Эрмитажы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Астана                         Медеу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836640"/>
            <a:ext cx="36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Verdana"/>
              </a:rPr>
              <a:t>Суреттер   бойынш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Verdana"/>
              </a:rPr>
              <a:t>әңгімеле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789360"/>
            <a:ext cx="5110200" cy="3068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1058" r="0" b="0"/>
          <a:stretch/>
        </p:blipFill>
        <p:spPr>
          <a:xfrm>
            <a:off x="3995640" y="260280"/>
            <a:ext cx="5148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277920"/>
            <a:ext cx="79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00"/>
                </a:solidFill>
                <a:latin typeface="Arial"/>
              </a:rPr>
              <a:t>Бұл ескерткіш қай қалада, қала</a:t>
            </a:r>
            <a:r>
              <a:rPr b="0" i="1" lang="kk-KZ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kk-KZ" sz="2800" spc="-1" strike="noStrike">
                <a:solidFill>
                  <a:srgbClr val="ffff00"/>
                </a:solidFill>
                <a:latin typeface="Arial"/>
              </a:rPr>
              <a:t>ТУРАЛЫ ӘҢГІМЕЛЕ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6299" t="8399" r="0" b="8399"/>
          <a:stretch/>
        </p:blipFill>
        <p:spPr>
          <a:xfrm>
            <a:off x="539640" y="3429000"/>
            <a:ext cx="4103640" cy="2951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176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4000" spc="-1" strike="noStrike">
                <a:solidFill>
                  <a:srgbClr val="ffff00"/>
                </a:solidFill>
                <a:latin typeface="Arial"/>
              </a:rPr>
              <a:t>Көне Отырар туралы әңгімелеңдер</a:t>
            </a:r>
            <a:r>
              <a:rPr b="0" i="1" lang="kk-KZ" sz="40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Бұл есімдер қай қаламен байланысты?</a:t>
            </a:r>
            <a:r>
              <a:rPr b="0" lang="kk-KZ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Әбу Насыр                 Қожа                 Жамбыл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әл-Фараби            Ахмет Йасауи          Жабае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2808360" cy="331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590920" cy="3311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76720" y="2781360"/>
            <a:ext cx="2808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c0099"/>
                </a:solidFill>
                <a:latin typeface="Arial"/>
              </a:rPr>
              <a:t>Сөздік жұмы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мавзолей –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древний, старый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земля тюрков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священная земля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архитектурное искусство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узоры, орнаменты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кузницы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памятники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Сөздерді буынға бөліп, буын түрлерін анықтаңдар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285228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kk-KZ" sz="4000" spc="-1" strike="noStrike">
                <a:solidFill>
                  <a:srgbClr val="ffff00"/>
                </a:solidFill>
                <a:latin typeface="Verdana"/>
              </a:rPr>
              <a:t>Оңтүстік, безендірілген, Отырар, қасиетті, ғажайып, ғұлама, ежелгі, орналасқан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c0099"/>
                </a:solidFill>
                <a:latin typeface="Arial"/>
              </a:rPr>
              <a:t>Жалқы есімдерді атаңдар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569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Отырардың ежелгі атауы – Фараб.Түркістанның көне аттары –Шабғар, Йасы.Тараз қаласы бұрын Талас, Әулиеата, Жамбыл деп аталған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5:38:45Z</dcterms:created>
  <dc:creator>Customer</dc:creator>
  <dc:description/>
  <dc:language>en-US</dc:language>
  <cp:lastModifiedBy>Customer</cp:lastModifiedBy>
  <dcterms:modified xsi:type="dcterms:W3CDTF">2011-11-23T18:58:07Z</dcterms:modified>
  <cp:revision>9</cp:revision>
  <dc:subject/>
  <dc:title>Слайд 1</dc:title>
</cp:coreProperties>
</file>