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5E1A-82AC-4082-8B02-4A36181E1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0727-D551-4FE0-8FAB-65B77662D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BE5D-4664-49B3-AA4C-7A6491E81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AB0A-B557-487F-94B2-D44C6D8AE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98FB3-687B-46B9-AFAF-E14EA5A11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BBA91-FD05-490C-9B0D-B3AD44397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67C3B-B899-4DF3-B7D6-F8DF0FA59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7AB50-7B47-4DEC-B2F7-E71F49436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D7D50-EC3B-4FCD-9187-857E3CE9F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5373E-B579-4841-BA11-9A6DCF6AC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347E8-CE08-4C06-876E-70BF81BC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87E6-8C9D-4135-A566-DA4412B5A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762C8-1FAF-45DE-B6CC-78C0E9D1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7BA5D-7DDF-4EAC-AA57-B104713B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6EB24-89AB-464F-AC12-35B91A57B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BB816-39AF-492D-93F0-F5A44EBFA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819C4-093C-43FA-A411-57B557FB7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D2E4-1510-4829-90F2-E6F1B6237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DC5C-8ACB-4C87-9561-DFDC23289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5298-533F-4121-8741-002037721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B25F-CF09-488A-8918-1B8C7C671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4C33-029D-41DF-BC04-3099A703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7352-6918-4850-9B9E-CF459350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4607-E67C-487F-BFC4-A8790575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96F03-FA01-4546-871B-434A435A393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E201B-204C-4122-ABF0-D6FF4B757AE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187280" y="260280"/>
            <a:ext cx="6551640" cy="5472360"/>
          </a:xfrm>
          <a:prstGeom prst="rect">
            <a:avLst/>
          </a:prstGeom>
        </p:spPr>
        <p:txBody>
          <a:bodyPr wrap="none" lIns="90000" rIns="90000" tIns="46800" bIns="46800" anchor="t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арихи орындар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907920"/>
            <a:ext cx="8424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cc0099"/>
                </a:solidFill>
                <a:latin typeface="Arial"/>
              </a:rPr>
              <a:t>Берілген сөздерді топтап жаз. </a:t>
            </a:r>
            <a:br>
              <a:rPr sz="2800"/>
            </a:br>
            <a:r>
              <a:rPr b="0" lang="kk-KZ" sz="3200" spc="-1" strike="noStrike">
                <a:solidFill>
                  <a:srgbClr val="ffff00"/>
                </a:solidFill>
                <a:latin typeface="Arial"/>
              </a:rPr>
              <a:t>Ел, көше, ауа райы, ескі, мен, ұста, тас, олар, жаға, ат, жүз.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eaeaea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Қатаң дауыссызы бар сөздер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Ұяң дауыссызы бар сөздер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Үнді дауыссызы бар сөздер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cc0099"/>
                </a:solidFill>
                <a:latin typeface="Arial"/>
              </a:rPr>
              <a:t>Сөйлемдердегі жіңішке айтылатын сөздердің астын бір сызықпен, жуан сөздердің астын екі сызықпен сыз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8920" y="2133720"/>
            <a:ext cx="87138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Отанды сүйе білген адам бақытты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    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       </a:t>
            </a: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Туған еліңнің даңқын арттыр!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cc0099"/>
                </a:solidFill>
                <a:latin typeface="Arial"/>
              </a:rPr>
              <a:t>Дұрыс па, бұрыс па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ff00"/>
                </a:solidFill>
                <a:latin typeface="Verdana"/>
              </a:rPr>
              <a:t>Түркістан қаласы еліміздің солтүстік аймағында орналасқан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i="1" lang="kk-KZ" sz="2800" spc="-1" strike="noStrike">
                <a:solidFill>
                  <a:srgbClr val="ffff00"/>
                </a:solidFill>
                <a:latin typeface="Verdana"/>
              </a:rPr>
              <a:t>Отырарда Арыстан баб кесенесі бар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ff00"/>
                </a:solidFill>
                <a:latin typeface="Verdana"/>
              </a:rPr>
              <a:t>Қасиетті Түркістанды “Екінші Мекке” деп атаған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ff00"/>
                </a:solidFill>
                <a:latin typeface="Verdana"/>
              </a:rPr>
              <a:t>Қазір Түркістан тарихи және туристік қала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ff00"/>
                </a:solidFill>
                <a:latin typeface="Verdana"/>
              </a:rPr>
              <a:t>Таразда Әбу Насыр әл-Фараби туған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cc0099"/>
                </a:solidFill>
                <a:latin typeface="Arial"/>
              </a:rPr>
              <a:t>Берілген сөздерге көптік жалғауын жалғап жазыңдар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0" y="1557360"/>
          <a:ext cx="9144000" cy="5300640"/>
        </p:xfrm>
        <a:graphic>
          <a:graphicData uri="http://schemas.openxmlformats.org/drawingml/2006/table">
            <a:tbl>
              <a:tblPr/>
              <a:tblGrid>
                <a:gridCol w="2340000"/>
                <a:gridCol w="1152360"/>
                <a:gridCol w="1150920"/>
                <a:gridCol w="1081080"/>
                <a:gridCol w="1079640"/>
                <a:gridCol w="1008000"/>
                <a:gridCol w="1332000"/>
              </a:tblGrid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ла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ле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да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де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та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те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    </a:t>
                      </a: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түрік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  </a:t>
                      </a: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ғимарат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    </a:t>
                      </a: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өзен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 </a:t>
                      </a: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ұстахан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 </a:t>
                      </a: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сәулетші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   </a:t>
                      </a: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ғалым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   </a:t>
                      </a: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қазақ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  </a:t>
                      </a: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керуен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 </a:t>
                      </a: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мемлекет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cc0099"/>
                </a:solidFill>
                <a:latin typeface="Arial"/>
              </a:rPr>
              <a:t>Ортақ белгілері мен ерекшеліктерін атаңдар.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81080" y="1770120"/>
            <a:ext cx="6981120" cy="3880800"/>
            <a:chOff x="1081080" y="1770120"/>
            <a:chExt cx="6981120" cy="3880800"/>
          </a:xfrm>
        </p:grpSpPr>
        <p:sp>
          <p:nvSpPr>
            <p:cNvPr id="147" name="_s71693"/>
            <p:cNvSpPr/>
            <p:nvPr/>
          </p:nvSpPr>
          <p:spPr>
            <a:xfrm>
              <a:off x="3628080" y="2459160"/>
              <a:ext cx="1888920" cy="1972800"/>
            </a:xfrm>
            <a:prstGeom prst="ellipse">
              <a:avLst/>
            </a:prstGeom>
            <a:solidFill>
              <a:srgbClr val="aa8456">
                <a:alpha val="50000"/>
              </a:srgbClr>
            </a:solidFill>
            <a:ln w="4680">
              <a:solidFill>
                <a:srgbClr val="aa84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8" name="_s71694"/>
            <p:cNvSpPr/>
            <p:nvPr/>
          </p:nvSpPr>
          <p:spPr>
            <a:xfrm>
              <a:off x="3628080" y="1770120"/>
              <a:ext cx="188892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500" spc="-1" strike="noStrike">
                  <a:solidFill>
                    <a:srgbClr val="ffff00"/>
                  </a:solidFill>
                  <a:latin typeface="Verdana"/>
                </a:rPr>
                <a:t>Тараз</a:t>
              </a:r>
              <a:endParaRPr b="0" lang="en-US" sz="3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9" name="_s71691"/>
            <p:cNvSpPr/>
            <p:nvPr/>
          </p:nvSpPr>
          <p:spPr>
            <a:xfrm>
              <a:off x="4249080" y="3582720"/>
              <a:ext cx="1888920" cy="1972800"/>
            </a:xfrm>
            <a:prstGeom prst="ellipse">
              <a:avLst/>
            </a:prstGeom>
            <a:solidFill>
              <a:srgbClr val="eec85e">
                <a:alpha val="50000"/>
              </a:srgbClr>
            </a:solidFill>
            <a:ln w="4680">
              <a:solidFill>
                <a:srgbClr val="eec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0" name="_s71692"/>
            <p:cNvSpPr/>
            <p:nvPr/>
          </p:nvSpPr>
          <p:spPr>
            <a:xfrm>
              <a:off x="6173280" y="5159160"/>
              <a:ext cx="1888920" cy="49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3000" spc="-1" strike="noStrike">
                  <a:solidFill>
                    <a:srgbClr val="ffff00"/>
                  </a:solidFill>
                  <a:latin typeface="Verdana"/>
                </a:rPr>
                <a:t>Отырар</a:t>
              </a:r>
              <a:endParaRPr b="0" lang="en-US" sz="3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1" name="_s71689"/>
            <p:cNvSpPr/>
            <p:nvPr/>
          </p:nvSpPr>
          <p:spPr>
            <a:xfrm>
              <a:off x="3007440" y="3582720"/>
              <a:ext cx="1888560" cy="1972800"/>
            </a:xfrm>
            <a:prstGeom prst="ellipse">
              <a:avLst/>
            </a:prstGeom>
            <a:solidFill>
              <a:srgbClr val="5e855b">
                <a:alpha val="50000"/>
              </a:srgbClr>
            </a:solidFill>
            <a:ln w="4680">
              <a:solidFill>
                <a:srgbClr val="5e85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2" name="_s71690"/>
            <p:cNvSpPr/>
            <p:nvPr/>
          </p:nvSpPr>
          <p:spPr>
            <a:xfrm>
              <a:off x="1081080" y="5159160"/>
              <a:ext cx="1888920" cy="49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3000" spc="-1" strike="noStrike">
                  <a:solidFill>
                    <a:srgbClr val="ffff00"/>
                  </a:solidFill>
                  <a:latin typeface="Verdana"/>
                </a:rPr>
                <a:t>Түркістан</a:t>
              </a:r>
              <a:endParaRPr b="0" lang="en-US" sz="3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cc0099"/>
                </a:solidFill>
                <a:latin typeface="Arial"/>
              </a:rPr>
              <a:t>Сәйкестігін табыңдар.</a:t>
            </a:r>
            <a:br>
              <a:rPr sz="3200"/>
            </a:br>
            <a:r>
              <a:rPr b="0" i="1" lang="kk-KZ" sz="3200" spc="-1" strike="noStrike">
                <a:solidFill>
                  <a:srgbClr val="cc0099"/>
                </a:solidFill>
                <a:latin typeface="Arial"/>
              </a:rPr>
              <a:t>Бұл қалалар әр елде несіменен даңқты?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2421000"/>
            <a:ext cx="9144000" cy="3960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ffff00"/>
                </a:solidFill>
                <a:latin typeface="Verdana"/>
              </a:rPr>
              <a:t>Париж                          Кремлімен         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ffff00"/>
                </a:solidFill>
                <a:latin typeface="Verdana"/>
              </a:rPr>
              <a:t>Мәскеу             Қожа Ахмет кесенесімен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ffff00"/>
                </a:solidFill>
                <a:latin typeface="Verdana"/>
              </a:rPr>
              <a:t>Санкт-Петербург   Эйфель мұнарасымен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ffff00"/>
                </a:solidFill>
                <a:latin typeface="Verdana"/>
              </a:rPr>
              <a:t>Түркістан                     Бәйтерегімен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ffff00"/>
                </a:solidFill>
                <a:latin typeface="Verdana"/>
              </a:rPr>
              <a:t>Алматы                        Эрмитажымен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ffff00"/>
                </a:solidFill>
                <a:latin typeface="Verdana"/>
              </a:rPr>
              <a:t>Астана                         Медеуімен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95280" y="836640"/>
            <a:ext cx="367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ffff00"/>
                </a:solidFill>
                <a:latin typeface="Verdana"/>
              </a:rPr>
              <a:t>Суреттер   бойынша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ffff00"/>
                </a:solidFill>
                <a:latin typeface="Verdana"/>
              </a:rPr>
              <a:t>әңгімеле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3789360"/>
            <a:ext cx="5110200" cy="3068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rcRect l="0" t="1058" r="0" b="0"/>
          <a:stretch/>
        </p:blipFill>
        <p:spPr>
          <a:xfrm>
            <a:off x="3995640" y="260280"/>
            <a:ext cx="5148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0920" y="277920"/>
            <a:ext cx="7993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ff00"/>
                </a:solidFill>
                <a:latin typeface="Arial"/>
              </a:rPr>
              <a:t>Бұл ескерткіш қай қалада, қала</a:t>
            </a:r>
            <a:r>
              <a:rPr b="0" i="1" lang="kk-KZ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kk-KZ" sz="2800" spc="-1" strike="noStrike">
                <a:solidFill>
                  <a:srgbClr val="ffff00"/>
                </a:solidFill>
                <a:latin typeface="Arial"/>
              </a:rPr>
              <a:t>ТУРАЛЫ ӘҢГІМЕЛЕ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6299" t="8399" r="0" b="8399"/>
          <a:stretch/>
        </p:blipFill>
        <p:spPr>
          <a:xfrm>
            <a:off x="539640" y="3429000"/>
            <a:ext cx="4103640" cy="29512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643280" y="2060640"/>
            <a:ext cx="417672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4000" spc="-1" strike="noStrike">
                <a:solidFill>
                  <a:srgbClr val="ffff00"/>
                </a:solidFill>
                <a:latin typeface="Arial"/>
              </a:rPr>
              <a:t>Көне Отырар туралы әңгімелеңдер</a:t>
            </a:r>
            <a:r>
              <a:rPr b="0" i="1" lang="kk-KZ" sz="4000" spc="-1" strike="noStrike">
                <a:solidFill>
                  <a:srgbClr val="cc00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cc0099"/>
                </a:solidFill>
                <a:latin typeface="Arial"/>
              </a:rPr>
              <a:t>Бұл есімдер қай қаламен байланысты?</a:t>
            </a:r>
            <a:r>
              <a:rPr b="0" lang="kk-KZ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kk-KZ" sz="2400" spc="-1" strike="noStrike">
                <a:solidFill>
                  <a:srgbClr val="ffff00"/>
                </a:solidFill>
                <a:latin typeface="Verdana"/>
              </a:rPr>
              <a:t>Әбу Насыр                 Қожа                 Жамбыл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kk-KZ" sz="2400" spc="-1" strike="noStrike">
                <a:solidFill>
                  <a:srgbClr val="ffff00"/>
                </a:solidFill>
                <a:latin typeface="Verdana"/>
              </a:rPr>
              <a:t>әл-Фараби            Ахмет Йасауи          Жабаев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39640" y="2781360"/>
            <a:ext cx="2808360" cy="3311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084720" y="2781360"/>
            <a:ext cx="2590920" cy="3311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3276720" y="2781360"/>
            <a:ext cx="280800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cc0099"/>
                </a:solidFill>
                <a:latin typeface="Arial"/>
              </a:rPr>
              <a:t>Сөздік жұмыс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мавзолей –</a:t>
            </a:r>
            <a:r>
              <a:rPr b="0" lang="kk-KZ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древний, старый –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земля тюрков –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священная земля –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архитектурное искусство –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узоры, орнаменты –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кузницы –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памятники</a:t>
            </a:r>
            <a:r>
              <a:rPr b="0" lang="kk-KZ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-</a:t>
            </a:r>
            <a:r>
              <a:rPr b="0" lang="kk-KZ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cc0099"/>
                </a:solidFill>
                <a:latin typeface="Arial"/>
              </a:rPr>
              <a:t>Сөздерді буынға бөліп, буын түрлерін анықтаңдар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920" y="2852280"/>
            <a:ext cx="864216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0" lang="kk-KZ" sz="4000" spc="-1" strike="noStrike">
                <a:solidFill>
                  <a:srgbClr val="ffff00"/>
                </a:solidFill>
                <a:latin typeface="Verdana"/>
              </a:rPr>
              <a:t>Оңтүстік, безендірілген, Отырар, қасиетті, ғажайып, ғұлама, ежелгі, орналасқан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cc0099"/>
                </a:solidFill>
                <a:latin typeface="Arial"/>
              </a:rPr>
              <a:t>Жалқы есімдерді атаңдар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3640" y="2276640"/>
            <a:ext cx="856908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Отырардың ежелгі атауы – Фараб.Түркістанның көне аттары –Шабғар, Йасы.Тараз қаласы бұрын Талас, Әулиеата, Жамбыл деп аталған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0T05:38:45Z</dcterms:created>
  <dc:creator>Customer</dc:creator>
  <dc:description/>
  <dc:language>en-US</dc:language>
  <cp:lastModifiedBy>Customer</cp:lastModifiedBy>
  <dcterms:modified xsi:type="dcterms:W3CDTF">2011-11-23T18:58:07Z</dcterms:modified>
  <cp:revision>9</cp:revision>
  <dc:subject/>
  <dc:title>Слайд 1</dc:title>
</cp:coreProperties>
</file>