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0CD5-A4A7-43B6-9E77-D1CED4DDC0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EC0E8-8816-45CE-80C2-8F7CCFB3577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4E7-F000-4CBD-B307-8468DBC3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703-489E-47AC-B5DE-95101EB2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035-4C9C-4CF4-8018-DABFB04A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22F-533C-4715-869A-6E671AAF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554-23CD-42E3-A73D-A1CDDD05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69F-5C38-4291-AAAB-8770FEDC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BA5-666E-4010-BB39-8F0092B3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21D-ED30-45B3-A3A1-CD0B7A76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E41-A18E-4588-8064-20E61089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34E-EB17-4CAA-9F54-3B97B257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5B1-5D61-474D-819E-D4D06430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3BE-468C-446F-A05A-EE1D96ED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731A-A862-4DE2-9EA8-295CA060C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69228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С.Саттаров атындағы № 57 мектеп - лицейі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492280"/>
            <a:ext cx="84978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 KK EK"/>
              </a:rPr>
              <a:t>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Тақырыбы: Сөз таптары. Зат есі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Өткізген: Медиева П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                                           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рағанды – 2012 жы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836640"/>
            <a:ext cx="4949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i="1" lang="kk-KZ" sz="3500" spc="-1" strike="noStrike">
                <a:solidFill>
                  <a:srgbClr val="ff3300"/>
                </a:solidFill>
                <a:latin typeface="Times New Roman"/>
              </a:rPr>
              <a:t>Оқулықпен жұмы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2400" y="1700280"/>
            <a:ext cx="84819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118- жаттығ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Өздерің білетін жалқы есімдерді естеріңе түсіріп, дәптерлеріңе жазыңда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Кісі атт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млекет, республика, облыс, аудан, қала, ауыл атаулары: 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кеме, зауыт, фабрика, ұжым атаулары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4. Газет-журнал, кітап, ән, күй, шығарма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5. Жер, су атаул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Жылқыға, сиырға, түйеге, итке қойылатын аттар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Arial"/>
              </a:rPr>
              <a:t>Шығармашылық жұмы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здің ауыл” тақырыбына шағы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әңгіме ж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Жалқы есім мен жалпы есімдерді                            қатыстыру, астын сы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Талдау- табыс кіл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байдың ұлағатты сөзін алып, талда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дамның адамшылығы- ақыл, ғылым, жақсы ата, жақсы ана, жақсы құрбы, жақсы ұстаздан басталад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Зат есім сөздерді таб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Құрбы сөзіне сатылай- кешенді талдау жас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 топ- Құрбы сөзіне  Фонетика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І топ- Құрбы сөзіне Фонология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Фонологиялық талд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1600200"/>
            <a:ext cx="8228160" cy="4525200"/>
            <a:chOff x="457200" y="1600200"/>
            <a:chExt cx="8228160" cy="4525200"/>
          </a:xfrm>
        </p:grpSpPr>
        <p:cxnSp>
          <p:nvCxnSpPr>
            <p:cNvPr id="183" name="_s31759"/>
            <p:cNvCxnSpPr>
              <a:stCxn id="184" idx="1"/>
              <a:endCxn id="185" idx="2"/>
            </p:cNvCxnSpPr>
            <p:nvPr/>
          </p:nvCxnSpPr>
          <p:spPr>
            <a:xfrm rot="10800000">
              <a:off x="2925000" y="2245680"/>
              <a:ext cx="823320" cy="35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31756"/>
            <p:cNvCxnSpPr>
              <a:stCxn id="187" idx="1"/>
              <a:endCxn id="185" idx="2"/>
            </p:cNvCxnSpPr>
            <p:nvPr/>
          </p:nvCxnSpPr>
          <p:spPr>
            <a:xfrm rot="10800000">
              <a:off x="2925000" y="2245680"/>
              <a:ext cx="823320" cy="258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31755"/>
            <p:cNvCxnSpPr>
              <a:stCxn id="189" idx="1"/>
              <a:endCxn id="185" idx="2"/>
            </p:cNvCxnSpPr>
            <p:nvPr/>
          </p:nvCxnSpPr>
          <p:spPr>
            <a:xfrm rot="10800000">
              <a:off x="2925000" y="2245680"/>
              <a:ext cx="82332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31754"/>
            <p:cNvCxnSpPr>
              <a:stCxn id="191" idx="1"/>
              <a:endCxn id="185" idx="2"/>
            </p:cNvCxnSpPr>
            <p:nvPr/>
          </p:nvCxnSpPr>
          <p:spPr>
            <a:xfrm rot="10800000">
              <a:off x="2925000" y="2245680"/>
              <a:ext cx="82332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31750"/>
            <p:cNvSpPr/>
            <p:nvPr/>
          </p:nvSpPr>
          <p:spPr>
            <a:xfrm>
              <a:off x="457200" y="1600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л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31751"/>
            <p:cNvSpPr/>
            <p:nvPr/>
          </p:nvSpPr>
          <p:spPr>
            <a:xfrm>
              <a:off x="3748320" y="256968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5 әріп, 5 дыбыс, екі буын б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1752"/>
            <p:cNvSpPr/>
            <p:nvPr/>
          </p:nvSpPr>
          <p:spPr>
            <a:xfrm>
              <a:off x="3748320" y="353952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лым  тасымалдан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1753"/>
            <p:cNvSpPr/>
            <p:nvPr/>
          </p:nvSpPr>
          <p:spPr>
            <a:xfrm>
              <a:off x="3748320" y="450936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 ашық буын, лым- бітеу буы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1758"/>
            <p:cNvSpPr/>
            <p:nvPr/>
          </p:nvSpPr>
          <p:spPr>
            <a:xfrm>
              <a:off x="3748320" y="5479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Екпін соңғы буынға түсіп тұ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Өздерің білетін жалпы және жалқы есімдерді жазың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397160"/>
          <a:ext cx="8137440" cy="465120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пы есім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5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қы есімд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ОЙ ҚОЗҒА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Географиялық ата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үнделікті тұрмысқа байланыст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Өлең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Ән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Қоғамдық өмірге байланысты атау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ісі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505320"/>
            <a:ext cx="19814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Өнеркәсі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45720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рыжай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295280"/>
            <a:ext cx="2057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егізая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04920"/>
            <a:ext cx="20574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Отағ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5146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Заттыб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5715000"/>
            <a:ext cx="2057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Қызыло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3"/>
          <p:cNvSpPr/>
          <p:nvPr/>
        </p:nvSpPr>
        <p:spPr>
          <a:xfrm>
            <a:off x="684360" y="2205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Courier New"/>
              </a:rPr>
              <a:t>Сабақты бекі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409080" cy="5763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Семантикалық карта тол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8120" y="-880560"/>
            <a:ext cx="492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мантикалық карта толтыру /оқушылардың бәріне таратылады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9640" y="1197000"/>
          <a:ext cx="8280360" cy="5340240"/>
        </p:xfrm>
        <a:graphic>
          <a:graphicData uri="http://schemas.openxmlformats.org/drawingml/2006/table">
            <a:tbl>
              <a:tblPr/>
              <a:tblGrid>
                <a:gridCol w="484200"/>
                <a:gridCol w="1820880"/>
                <a:gridCol w="1290600"/>
                <a:gridCol w="1287720"/>
                <a:gridCol w="1823760"/>
                <a:gridCol w="15732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ысалд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п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қ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ті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сіз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ұхтар Әуез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ұл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йғ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ст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мбы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ауд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Өн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раған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ігітт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ызылорда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әріха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-шеш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рм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Шекараш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0" y="77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6840" y="114264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т есім дегеніміз не?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Заголовок 2" descr=""/>
          <p:cNvPicPr/>
          <p:nvPr/>
        </p:nvPicPr>
        <p:blipFill>
          <a:blip r:embed="rId2"/>
          <a:stretch/>
        </p:blipFill>
        <p:spPr>
          <a:xfrm>
            <a:off x="493560" y="38412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C:\Documents and Settings\5 школа\Мои документы\Прочее\перо\2008-09 (сен)\сканирование0002.jpg"/>
          <p:cNvPicPr/>
          <p:nvPr/>
        </p:nvPicPr>
        <p:blipFill>
          <a:blip r:embed="rId3"/>
          <a:stretch/>
        </p:blipFill>
        <p:spPr>
          <a:xfrm>
            <a:off x="4478400" y="2782800"/>
            <a:ext cx="36781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Жалқы және жалпы есімдерге 6 сөйлем құрастыру</a:t>
            </a:r>
            <a:r>
              <a:rPr b="0" lang="kk-KZ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2. Зат есім туралы оқ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3. «Зат есім» тақырыбына сөз жұмбақ, ребустар құрастырып әк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Blue_book"/>
          <p:cNvPicPr/>
          <p:nvPr/>
        </p:nvPicPr>
        <p:blipFill>
          <a:blip r:embed="rId3"/>
          <a:stretch/>
        </p:blipFill>
        <p:spPr>
          <a:xfrm>
            <a:off x="4356000" y="3357720"/>
            <a:ext cx="4071960" cy="32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77336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 Сөз таптары.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Зат есім.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49228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ff3300"/>
                </a:solidFill>
                <a:latin typeface="Times New Roman KK EK"/>
              </a:rPr>
              <a:t>Сабақтың мақсаты: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1. Оқушыларға сөз таптары, оның ішінде зат есім, зат есімнің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жалпы есім, жалқы есім түрлері туралы тереңірек білім бе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2. Сөз таптары бойынша меңгерген білімдеріне сүйене отырып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зат есім туралы түсініктерін дамыту, сауатты жазу, оқ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дағдыларын жетілдіру, оқушылардың белсенді ойлау қызметтерін жанданд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3. Қазақ тілінің морфологиялық заңдылықтарын түсіндіре отыры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тілдік- эстетикалық сезімдерге тәрбиелеу, адамгершілі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сиеттерді бойларына дат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62064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Times New Roman KK EK"/>
              </a:rPr>
              <a:t>Қазақ тілі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Times New Roman KK EK"/>
              <a:ea typeface="Times New Roman KK E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16000" y="234936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Оқушыларды  бағалау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17" name=""/>
          <p:cNvSpPr txBox="1"/>
          <p:nvPr/>
        </p:nvSpPr>
        <p:spPr>
          <a:xfrm rot="20766600">
            <a:off x="1476360" y="691920"/>
            <a:ext cx="208116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5"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32360" y="692280"/>
            <a:ext cx="158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4"</a:t>
            </a:r>
            <a:endParaRPr b="0" i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92360" y="4724280"/>
            <a:ext cx="16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3"</a:t>
            </a:r>
            <a:endParaRPr b="0" i="1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20431200">
            <a:off x="6300720" y="4581360"/>
            <a:ext cx="136692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2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3"/>
          <p:cNvSpPr/>
          <p:nvPr/>
        </p:nvSpPr>
        <p:spPr>
          <a:xfrm>
            <a:off x="684360" y="1916280"/>
            <a:ext cx="8208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500" spc="-1" strike="noStrike">
                <a:solidFill>
                  <a:srgbClr val="0033cc"/>
                </a:solidFill>
                <a:latin typeface="Courier New"/>
              </a:rPr>
              <a:t>Назарларыңызға рахме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өздердің білдіретін мағынасы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түрлену тұлғасына, қойыл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ұрағына, сөйлемде атқар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қызметіне қарай топталуын 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сөз таптары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 дейміз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30200" y="1149480"/>
            <a:ext cx="8209080" cy="5256720"/>
            <a:chOff x="430200" y="1149480"/>
            <a:chExt cx="8209080" cy="5256720"/>
          </a:xfrm>
        </p:grpSpPr>
        <p:cxnSp>
          <p:nvCxnSpPr>
            <p:cNvPr id="57" name="_s45098"/>
            <p:cNvCxnSpPr>
              <a:stCxn id="58" idx="0"/>
              <a:endCxn id="59" idx="2"/>
            </p:cNvCxnSpPr>
            <p:nvPr/>
          </p:nvCxnSpPr>
          <p:spPr>
            <a:xfrm flipV="1">
              <a:off x="6166080" y="5041440"/>
              <a:ext cx="7200" cy="21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45096"/>
            <p:cNvCxnSpPr>
              <a:stCxn id="61" idx="0"/>
              <a:endCxn id="59" idx="2"/>
            </p:cNvCxnSpPr>
            <p:nvPr/>
          </p:nvCxnSpPr>
          <p:spPr>
            <a:xfrm flipV="1">
              <a:off x="6166080" y="5041440"/>
              <a:ext cx="7200" cy="18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45094"/>
            <p:cNvCxnSpPr>
              <a:stCxn id="63" idx="0"/>
              <a:endCxn id="64" idx="2"/>
            </p:cNvCxnSpPr>
            <p:nvPr/>
          </p:nvCxnSpPr>
          <p:spPr>
            <a:xfrm flipV="1">
              <a:off x="6166080" y="5628960"/>
              <a:ext cx="72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45090"/>
            <p:cNvCxnSpPr>
              <a:stCxn id="66" idx="1"/>
              <a:endCxn id="67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45088"/>
            <p:cNvCxnSpPr>
              <a:stCxn id="67" idx="1"/>
              <a:endCxn id="69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45086"/>
            <p:cNvCxnSpPr>
              <a:stCxn id="69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5084"/>
            <p:cNvCxnSpPr>
              <a:stCxn id="73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5082"/>
            <p:cNvCxnSpPr>
              <a:stCxn id="71" idx="1"/>
              <a:endCxn id="75" idx="2"/>
            </p:cNvCxnSpPr>
            <p:nvPr/>
          </p:nvCxnSpPr>
          <p:spPr>
            <a:xfrm flipH="1" flipV="1" rot="10800000">
              <a:off x="3692520" y="6018840"/>
              <a:ext cx="2473920" cy="186840"/>
            </a:xfrm>
            <a:prstGeom prst="bentConnector4">
              <a:avLst>
                <a:gd name="adj1" fmla="val -4628"/>
                <a:gd name="adj2" fmla="val 2077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45080"/>
            <p:cNvCxnSpPr>
              <a:stCxn id="75" idx="0"/>
              <a:endCxn id="64" idx="2"/>
            </p:cNvCxnSpPr>
            <p:nvPr/>
          </p:nvCxnSpPr>
          <p:spPr>
            <a:xfrm flipV="1">
              <a:off x="6166080" y="5628600"/>
              <a:ext cx="7200" cy="18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45060"/>
            <p:cNvCxnSpPr/>
            <p:nvPr/>
          </p:nvCxnSpPr>
          <p:spPr>
            <a:xfrm rot="10800000">
              <a:off x="3468960" y="1536480"/>
              <a:ext cx="207000" cy="450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45061"/>
            <p:cNvCxnSpPr>
              <a:stCxn id="64" idx="1"/>
              <a:endCxn id="79" idx="2"/>
            </p:cNvCxnSpPr>
            <p:nvPr/>
          </p:nvCxnSpPr>
          <p:spPr>
            <a:xfrm rot="10800000">
              <a:off x="3520800" y="1541160"/>
              <a:ext cx="172080" cy="389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45062"/>
            <p:cNvCxnSpPr>
              <a:stCxn id="59" idx="1"/>
              <a:endCxn id="79" idx="2"/>
            </p:cNvCxnSpPr>
            <p:nvPr/>
          </p:nvCxnSpPr>
          <p:spPr>
            <a:xfrm rot="10800000">
              <a:off x="3520800" y="1540440"/>
              <a:ext cx="172080" cy="33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5063"/>
            <p:cNvCxnSpPr>
              <a:stCxn id="82" idx="1"/>
              <a:endCxn id="79" idx="2"/>
            </p:cNvCxnSpPr>
            <p:nvPr/>
          </p:nvCxnSpPr>
          <p:spPr>
            <a:xfrm rot="10800000">
              <a:off x="3520800" y="1540440"/>
              <a:ext cx="172080" cy="271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5064"/>
            <p:cNvCxnSpPr/>
            <p:nvPr/>
          </p:nvCxnSpPr>
          <p:spPr>
            <a:xfrm rot="10800000">
              <a:off x="3468960" y="1536480"/>
              <a:ext cx="207000" cy="215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45065"/>
            <p:cNvCxnSpPr>
              <a:stCxn id="85" idx="1"/>
              <a:endCxn id="79" idx="2"/>
            </p:cNvCxnSpPr>
            <p:nvPr/>
          </p:nvCxnSpPr>
          <p:spPr>
            <a:xfrm rot="10800000">
              <a:off x="3520800" y="1540440"/>
              <a:ext cx="172080" cy="154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45066"/>
            <p:cNvCxnSpPr/>
            <p:nvPr/>
          </p:nvCxnSpPr>
          <p:spPr>
            <a:xfrm rot="10800000">
              <a:off x="3468960" y="1536480"/>
              <a:ext cx="207000" cy="97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5067"/>
            <p:cNvCxnSpPr>
              <a:stCxn id="88" idx="1"/>
              <a:endCxn id="79" idx="2"/>
            </p:cNvCxnSpPr>
            <p:nvPr/>
          </p:nvCxnSpPr>
          <p:spPr>
            <a:xfrm rot="10800000">
              <a:off x="3520800" y="1541160"/>
              <a:ext cx="172080" cy="36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45068"/>
            <p:cNvSpPr/>
            <p:nvPr/>
          </p:nvSpPr>
          <p:spPr>
            <a:xfrm>
              <a:off x="430200" y="1149480"/>
              <a:ext cx="618264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Зат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5069"/>
            <p:cNvSpPr/>
            <p:nvPr/>
          </p:nvSpPr>
          <p:spPr>
            <a:xfrm>
              <a:off x="3692880" y="17125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ы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5070"/>
            <p:cNvSpPr/>
            <p:nvPr/>
          </p:nvSpPr>
          <p:spPr>
            <a:xfrm>
              <a:off x="3692880" y="23000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а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5071"/>
            <p:cNvSpPr/>
            <p:nvPr/>
          </p:nvSpPr>
          <p:spPr>
            <a:xfrm>
              <a:off x="3692880" y="288756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сімд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5072"/>
            <p:cNvSpPr/>
            <p:nvPr/>
          </p:nvSpPr>
          <p:spPr>
            <a:xfrm>
              <a:off x="3692880" y="347508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тіст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5073"/>
            <p:cNvSpPr/>
            <p:nvPr/>
          </p:nvSpPr>
          <p:spPr>
            <a:xfrm>
              <a:off x="3692880" y="406260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Үс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5074"/>
            <p:cNvSpPr/>
            <p:nvPr/>
          </p:nvSpPr>
          <p:spPr>
            <a:xfrm>
              <a:off x="3692880" y="46501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 сөздер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5075"/>
            <p:cNvSpPr/>
            <p:nvPr/>
          </p:nvSpPr>
          <p:spPr>
            <a:xfrm>
              <a:off x="3692880" y="52376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5076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5079"/>
            <p:cNvSpPr/>
            <p:nvPr/>
          </p:nvSpPr>
          <p:spPr>
            <a:xfrm>
              <a:off x="3692880" y="581580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45081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45083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45085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5087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5089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000000"/>
                  </a:solidFill>
                  <a:latin typeface="Arial"/>
                </a:rPr>
                <a:t>тьть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5093"/>
            <p:cNvSpPr/>
            <p:nvPr/>
          </p:nvSpPr>
          <p:spPr>
            <a:xfrm>
              <a:off x="3692880" y="5847120"/>
              <a:ext cx="49464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Одаға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5095"/>
            <p:cNvSpPr/>
            <p:nvPr/>
          </p:nvSpPr>
          <p:spPr>
            <a:xfrm>
              <a:off x="3692880" y="52268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5097"/>
            <p:cNvSpPr/>
            <p:nvPr/>
          </p:nvSpPr>
          <p:spPr>
            <a:xfrm>
              <a:off x="3692880" y="5255280"/>
              <a:ext cx="4946400" cy="393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Сөз тапт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125360"/>
            <a:ext cx="8228880" cy="5000040"/>
            <a:chOff x="457200" y="1125360"/>
            <a:chExt cx="8228880" cy="5000040"/>
          </a:xfrm>
        </p:grpSpPr>
        <p:cxnSp>
          <p:nvCxnSpPr>
            <p:cNvPr id="95" name="_s23580"/>
            <p:cNvCxnSpPr>
              <a:stCxn id="96" idx="1"/>
              <a:endCxn id="97" idx="2"/>
            </p:cNvCxnSpPr>
            <p:nvPr/>
          </p:nvCxnSpPr>
          <p:spPr>
            <a:xfrm rot="10800000">
              <a:off x="18277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3578"/>
            <p:cNvCxnSpPr>
              <a:stCxn id="99" idx="1"/>
              <a:endCxn id="100" idx="2"/>
            </p:cNvCxnSpPr>
            <p:nvPr/>
          </p:nvCxnSpPr>
          <p:spPr>
            <a:xfrm rot="10800000">
              <a:off x="54853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3569"/>
            <p:cNvCxnSpPr>
              <a:stCxn id="100" idx="0"/>
              <a:endCxn id="102" idx="2"/>
            </p:cNvCxnSpPr>
            <p:nvPr/>
          </p:nvCxnSpPr>
          <p:spPr>
            <a:xfrm flipV="1">
              <a:off x="54856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3567"/>
            <p:cNvCxnSpPr>
              <a:stCxn id="97" idx="0"/>
              <a:endCxn id="104" idx="2"/>
            </p:cNvCxnSpPr>
            <p:nvPr/>
          </p:nvCxnSpPr>
          <p:spPr>
            <a:xfrm flipV="1">
              <a:off x="18280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3563"/>
            <p:cNvCxnSpPr>
              <a:stCxn id="102" idx="0"/>
              <a:endCxn id="106" idx="2"/>
            </p:cNvCxnSpPr>
            <p:nvPr/>
          </p:nvCxnSpPr>
          <p:spPr>
            <a:xfrm flipV="1" rot="16200000">
              <a:off x="43437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3562"/>
            <p:cNvCxnSpPr>
              <a:stCxn id="104" idx="0"/>
              <a:endCxn id="106" idx="2"/>
            </p:cNvCxnSpPr>
            <p:nvPr/>
          </p:nvCxnSpPr>
          <p:spPr>
            <a:xfrm flipH="1" flipV="1" rot="5400000">
              <a:off x="25149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23558"/>
            <p:cNvSpPr/>
            <p:nvPr/>
          </p:nvSpPr>
          <p:spPr>
            <a:xfrm>
              <a:off x="2285640" y="112536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ұрамына қар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3559"/>
            <p:cNvSpPr/>
            <p:nvPr/>
          </p:nvSpPr>
          <p:spPr>
            <a:xfrm>
              <a:off x="45720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Дара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3560"/>
            <p:cNvSpPr/>
            <p:nvPr/>
          </p:nvSpPr>
          <p:spPr>
            <a:xfrm>
              <a:off x="411444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үрделі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3566"/>
            <p:cNvSpPr/>
            <p:nvPr/>
          </p:nvSpPr>
          <p:spPr>
            <a:xfrm>
              <a:off x="45720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Бір ғана түбірде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ұр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3568"/>
            <p:cNvSpPr/>
            <p:nvPr/>
          </p:nvSpPr>
          <p:spPr>
            <a:xfrm>
              <a:off x="411444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Кемінде екі сөзд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іркесу арқылы жасал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3577"/>
            <p:cNvSpPr/>
            <p:nvPr/>
          </p:nvSpPr>
          <p:spPr>
            <a:xfrm>
              <a:off x="59432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Мәдениет үйі, ата- а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3579"/>
            <p:cNvSpPr/>
            <p:nvPr/>
          </p:nvSpPr>
          <p:spPr>
            <a:xfrm>
              <a:off x="22856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т, ара, қант, оқуш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413000"/>
            <a:ext cx="8228520" cy="4712040"/>
            <a:chOff x="457200" y="1413000"/>
            <a:chExt cx="8228520" cy="4712040"/>
          </a:xfrm>
        </p:grpSpPr>
        <p:cxnSp>
          <p:nvCxnSpPr>
            <p:cNvPr id="110" name="_s25618"/>
            <p:cNvCxnSpPr>
              <a:stCxn id="111" idx="0"/>
              <a:endCxn id="112" idx="2"/>
            </p:cNvCxnSpPr>
            <p:nvPr/>
          </p:nvCxnSpPr>
          <p:spPr>
            <a:xfrm flipV="1">
              <a:off x="678672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25616"/>
            <p:cNvCxnSpPr>
              <a:stCxn id="114" idx="0"/>
              <a:endCxn id="115" idx="2"/>
            </p:cNvCxnSpPr>
            <p:nvPr/>
          </p:nvCxnSpPr>
          <p:spPr>
            <a:xfrm flipV="1">
              <a:off x="235548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5611"/>
            <p:cNvCxnSpPr>
              <a:stCxn id="112" idx="0"/>
              <a:endCxn id="117" idx="2"/>
            </p:cNvCxnSpPr>
            <p:nvPr/>
          </p:nvCxnSpPr>
          <p:spPr>
            <a:xfrm flipV="1" rot="16200000">
              <a:off x="5383800" y="1776960"/>
              <a:ext cx="589680" cy="221616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5610"/>
            <p:cNvCxnSpPr>
              <a:stCxn id="115" idx="0"/>
              <a:endCxn id="117" idx="2"/>
            </p:cNvCxnSpPr>
            <p:nvPr/>
          </p:nvCxnSpPr>
          <p:spPr>
            <a:xfrm flipH="1" flipV="1" rot="5400000">
              <a:off x="3168360" y="1777680"/>
              <a:ext cx="589680" cy="221544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25606"/>
            <p:cNvSpPr/>
            <p:nvPr/>
          </p:nvSpPr>
          <p:spPr>
            <a:xfrm>
              <a:off x="2671920" y="141300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алпылай немес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екелей аталуы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қар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07"/>
            <p:cNvSpPr/>
            <p:nvPr/>
          </p:nvSpPr>
          <p:spPr>
            <a:xfrm>
              <a:off x="45720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п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5608"/>
            <p:cNvSpPr/>
            <p:nvPr/>
          </p:nvSpPr>
          <p:spPr>
            <a:xfrm>
              <a:off x="488808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қ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5615"/>
            <p:cNvSpPr/>
            <p:nvPr/>
          </p:nvSpPr>
          <p:spPr>
            <a:xfrm>
              <a:off x="45720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қала, өзен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тау, кітап, кісі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5617"/>
            <p:cNvSpPr/>
            <p:nvPr/>
          </p:nvSpPr>
          <p:spPr>
            <a:xfrm>
              <a:off x="488808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Алматы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Ертіс, Алатау, Абыл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21" name="_s27665"/>
            <p:cNvCxnSpPr>
              <a:stCxn id="122" idx="0"/>
              <a:endCxn id="123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7663"/>
            <p:cNvCxnSpPr>
              <a:stCxn id="125" idx="0"/>
              <a:endCxn id="126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7659"/>
            <p:cNvCxnSpPr>
              <a:stCxn id="123" idx="0"/>
              <a:endCxn id="128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7658"/>
            <p:cNvCxnSpPr>
              <a:stCxn id="126" idx="0"/>
              <a:endCxn id="128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27654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Мағын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7655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ті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7656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сіз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766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Көзбен көріп, қолмен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ұстауғ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болатын заттардың атау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7664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өзбен көріп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олмен ұстауға келмейтін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тек оймен, ақыл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ана сезіп білетін ұғымның атау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32" name="_s51205"/>
            <p:cNvCxnSpPr>
              <a:stCxn id="133" idx="0"/>
              <a:endCxn id="134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51206"/>
            <p:cNvCxnSpPr>
              <a:stCxn id="136" idx="0"/>
              <a:endCxn id="137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1207"/>
            <p:cNvCxnSpPr>
              <a:stCxn id="134" idx="0"/>
              <a:endCxn id="139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1208"/>
            <p:cNvCxnSpPr>
              <a:stCxn id="137" idx="0"/>
              <a:endCxn id="139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51209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ұлғ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51210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Негізгі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1211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уынд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1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Жер, су, қала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213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қушы, айтыс, білі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71640" y="836640"/>
            <a:ext cx="3600720" cy="574560"/>
          </a:xfrm>
          <a:custGeom>
            <a:avLst/>
            <a:gdLst>
              <a:gd name="textAreaLeft" fmla="*/ 900000 w 3600720"/>
              <a:gd name="textAreaRight" fmla="*/ 2700720 w 3600720"/>
              <a:gd name="textAreaTop" fmla="*/ 7164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640" y="9828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imes New Roman"/>
              </a:rPr>
              <a:t>Зат ес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637000"/>
            <a:ext cx="865080" cy="720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4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12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076720" y="270828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3213000"/>
            <a:ext cx="172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357720"/>
            <a:ext cx="79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92360" y="3357720"/>
            <a:ext cx="719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141720"/>
            <a:ext cx="1511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8000" y="2852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55640" y="10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341280" cy="301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56000" y="472428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5013360"/>
            <a:ext cx="82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357336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13372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42900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458136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3240" y="4869000"/>
            <a:ext cx="8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қ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4520" y="37162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Ғал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66520" y="2349360"/>
            <a:ext cx="9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д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кім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3960" y="3789360"/>
            <a:ext cx="94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сі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сы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20500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7160" y="789120"/>
            <a:ext cx="175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Заттың атауы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білдіре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0680" y="249228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09308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45164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956720" y="3865680"/>
            <a:ext cx="360360" cy="15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8172360" y="4076640"/>
            <a:ext cx="328680" cy="13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0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84960" y="722160"/>
            <a:ext cx="124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Сұра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Кім? Кімд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Не?</a:t>
            </a: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Нел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4:08:25Z</dcterms:created>
  <dc:creator>Асель</dc:creator>
  <dc:description/>
  <dc:language>en-US</dc:language>
  <cp:lastModifiedBy>User</cp:lastModifiedBy>
  <dcterms:modified xsi:type="dcterms:W3CDTF">2013-02-06T18:16:24Z</dcterms:modified>
  <cp:revision>53</cp:revision>
  <dc:subject/>
  <dc:title>Пєндік олимпи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50500207f7000400038000</vt:lpwstr>
  </property>
</Properties>
</file>