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wmf" ContentType="image/x-wmf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3B39-F263-4CC8-B34B-87DEAE726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84A40-E8CA-48C3-9EF5-3A48E76EB054}" type="slidenum">
              <a:rPr b="0" lang="ru-R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6C1-95F1-4CE0-AC8E-8797FFC1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B63-7AB2-4DB4-8285-E18F628E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FC4F-1914-43CC-B7BC-73051C92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54D-05A9-4AAC-85B9-398217B1D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0B24-A8FF-46B3-8702-0E3B7F0B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3E31-F01C-4818-9B3B-5D1537DD0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B81D-5B41-4B19-A1DE-C0FB6327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9FED-8844-400F-83BA-AB541C78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757A-679F-4BA8-98C9-0835EEAE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2CD2-21EA-491F-9263-487A2FBD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711-4B82-4F26-8C83-37652403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C32-B1BA-46B3-B633-C9AF4A5E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5F15-8D23-4C84-9F75-6D56CE18A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5.xml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9280" y="69228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С.Саттаров атындағы № 57 мектеп - лицейі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2492280"/>
            <a:ext cx="8497800" cy="36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 KK EK"/>
              </a:rPr>
              <a:t>Ашық саба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Тақырыбы: Сөз таптары. Зат есі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00"/>
                </a:solidFill>
                <a:latin typeface="Times New Roman KK EK"/>
              </a:rPr>
              <a:t>Өткізген: Медиева П.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                                           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рағанды – 2012 жы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836640"/>
            <a:ext cx="4949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i="1" lang="kk-KZ" sz="3500" spc="-1" strike="noStrike">
                <a:solidFill>
                  <a:srgbClr val="ff3300"/>
                </a:solidFill>
                <a:latin typeface="Times New Roman"/>
              </a:rPr>
              <a:t>Оқулықпен жұмыс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2400" y="1700280"/>
            <a:ext cx="848196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118- жаттығу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Times New Roman KK EK"/>
              </a:rPr>
              <a:t>Өздерің білетін жалқы есімдерді естеріңе түсіріп, дәптерлеріңе жазыңдар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Кісі атт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млекет, республика, облыс, аудан, қала, ауыл атаулары: 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Мекеме, зауыт, фабрика, ұжым атаулары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4. Газет-журнал, кітап, ән, күй, шығарма: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5. Жер, су атаулары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000000"/>
                </a:solidFill>
                <a:latin typeface="Arial"/>
              </a:rPr>
              <a:t>Жылқыға, сиырға, түйеге, итке қойылатын аттар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000" spc="-1" strike="noStrike">
                <a:solidFill>
                  <a:srgbClr val="000000"/>
                </a:solidFill>
                <a:latin typeface="Arial"/>
              </a:rPr>
              <a:t>Шығармашылық жұмы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Біздің ауыл” тақырыбына шағы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әңгіме ж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kk-KZ" sz="3200" spc="-1" strike="noStrike">
                <a:solidFill>
                  <a:srgbClr val="000000"/>
                </a:solidFill>
                <a:latin typeface="Arial"/>
              </a:rPr>
              <a:t>Жалқы есім мен жалпы есімдерді                            қатыстыру, астын сы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Талдау- табыс кілт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байдың ұлағатты сөзін алып, талдау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Адамның адамшылығы- ақыл, ғылым, жақсы ата, жақсы ана, жақсы құрбы, жақсы ұстаздан басталады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Зат есім сөздерді таб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Құрбы сөзіне сатылай- кешенді талдау жас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 топ- Құрбы сөзіне  Фонетика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700" spc="-1" strike="noStrike">
                <a:solidFill>
                  <a:srgbClr val="000000"/>
                </a:solidFill>
                <a:latin typeface="Arial"/>
              </a:rPr>
              <a:t>ІІ топ- Құрбы сөзіне Фонологиялық талда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Arial"/>
              </a:rPr>
              <a:t>Фонологиялық талда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1600200"/>
            <a:ext cx="8228160" cy="4525200"/>
            <a:chOff x="457200" y="1600200"/>
            <a:chExt cx="8228160" cy="4525200"/>
          </a:xfrm>
        </p:grpSpPr>
        <p:cxnSp>
          <p:nvCxnSpPr>
            <p:cNvPr id="183" name="_s31759"/>
            <p:cNvCxnSpPr>
              <a:stCxn id="184" idx="1"/>
              <a:endCxn id="185" idx="2"/>
            </p:cNvCxnSpPr>
            <p:nvPr/>
          </p:nvCxnSpPr>
          <p:spPr>
            <a:xfrm rot="10800000">
              <a:off x="2925000" y="2245680"/>
              <a:ext cx="823320" cy="35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31756"/>
            <p:cNvCxnSpPr>
              <a:stCxn id="187" idx="1"/>
              <a:endCxn id="185" idx="2"/>
            </p:cNvCxnSpPr>
            <p:nvPr/>
          </p:nvCxnSpPr>
          <p:spPr>
            <a:xfrm rot="10800000">
              <a:off x="2925000" y="2245680"/>
              <a:ext cx="823320" cy="2586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31755"/>
            <p:cNvCxnSpPr>
              <a:stCxn id="189" idx="1"/>
              <a:endCxn id="185" idx="2"/>
            </p:cNvCxnSpPr>
            <p:nvPr/>
          </p:nvCxnSpPr>
          <p:spPr>
            <a:xfrm rot="10800000">
              <a:off x="2925000" y="2245680"/>
              <a:ext cx="823320" cy="161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0" name="_s31754"/>
            <p:cNvCxnSpPr>
              <a:stCxn id="191" idx="1"/>
              <a:endCxn id="185" idx="2"/>
            </p:cNvCxnSpPr>
            <p:nvPr/>
          </p:nvCxnSpPr>
          <p:spPr>
            <a:xfrm rot="10800000">
              <a:off x="2925000" y="2245680"/>
              <a:ext cx="823320" cy="6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5" name="_s31750"/>
            <p:cNvSpPr/>
            <p:nvPr/>
          </p:nvSpPr>
          <p:spPr>
            <a:xfrm>
              <a:off x="457200" y="1600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лы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31751"/>
            <p:cNvSpPr/>
            <p:nvPr/>
          </p:nvSpPr>
          <p:spPr>
            <a:xfrm>
              <a:off x="3748320" y="256968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5 әріп, 5 дыбыс, екі буын ба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31752"/>
            <p:cNvSpPr/>
            <p:nvPr/>
          </p:nvSpPr>
          <p:spPr>
            <a:xfrm>
              <a:off x="3748320" y="353952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лым  тасымалдан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31753"/>
            <p:cNvSpPr/>
            <p:nvPr/>
          </p:nvSpPr>
          <p:spPr>
            <a:xfrm>
              <a:off x="3748320" y="450936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ы- ашық буын, лым- бітеу буы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31758"/>
            <p:cNvSpPr/>
            <p:nvPr/>
          </p:nvSpPr>
          <p:spPr>
            <a:xfrm>
              <a:off x="3748320" y="5479200"/>
              <a:ext cx="4937040" cy="646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Екпін соңғы буынға түсіп тұ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70632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Өздерің білетін жалпы және жалқы есімдерді жазыңд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95280" y="1397160"/>
          <a:ext cx="8137440" cy="4651200"/>
        </p:xfrm>
        <a:graphic>
          <a:graphicData uri="http://schemas.openxmlformats.org/drawingml/2006/table">
            <a:tbl>
              <a:tblPr/>
              <a:tblGrid>
                <a:gridCol w="4068720"/>
                <a:gridCol w="4068720"/>
              </a:tblGrid>
              <a:tr h="48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пы есімд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500" spc="-1" strike="noStrike">
                          <a:solidFill>
                            <a:srgbClr val="000000"/>
                          </a:solidFill>
                          <a:latin typeface="Microsoft Sans Serif"/>
                        </a:rPr>
                        <a:t>Жалқы есімде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7057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Arial"/>
              </a:rPr>
              <a:t>ОЙ ҚОЗҒАУ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Географиялық атау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үнделікті тұрмысқа байланыст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Өлең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Ән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Қоғамдық өмірге байланысты атау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Кісі атауы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505320"/>
            <a:ext cx="198144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Өнеркәсі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33720" y="54100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0" y="45720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арыжайла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1295280"/>
            <a:ext cx="2057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Сегізая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04920"/>
            <a:ext cx="2057400" cy="761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Отағ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514600"/>
            <a:ext cx="205740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Заттыб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5715000"/>
            <a:ext cx="2057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Times New Roman"/>
              </a:rPr>
              <a:t>Қызылор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2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2000"/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2000"/>
                                        <p:tgtEl>
                                          <p:spTgt spid="1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2000"/>
                                        <p:tgtEl>
                                          <p:spTgt spid="19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13"/>
          <p:cNvSpPr/>
          <p:nvPr/>
        </p:nvSpPr>
        <p:spPr>
          <a:xfrm>
            <a:off x="684360" y="2205000"/>
            <a:ext cx="82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Courier New"/>
              </a:rPr>
              <a:t>Сабақты бекіт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409080" cy="576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Семантикалық карта толты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8120" y="-880560"/>
            <a:ext cx="492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바탕"/>
              </a:rPr>
              <a:t>Семантикалық карта толтыру /оқушылардың бәріне таратылады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39640" y="1197000"/>
          <a:ext cx="8280360" cy="5340240"/>
        </p:xfrm>
        <a:graphic>
          <a:graphicData uri="http://schemas.openxmlformats.org/drawingml/2006/table">
            <a:tbl>
              <a:tblPr/>
              <a:tblGrid>
                <a:gridCol w="484200"/>
                <a:gridCol w="1820880"/>
                <a:gridCol w="1290600"/>
                <a:gridCol w="1287720"/>
                <a:gridCol w="1823760"/>
                <a:gridCol w="1573200"/>
              </a:tblGrid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ысалда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п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алқы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ті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ерексіз зат есі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Мұхтар Әуез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ұл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4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йғ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5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ст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омбыр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7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Саудаг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8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Өн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9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араған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Жігітте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Қызылордалық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Дәріхан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Әке-шеш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Арма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Шекараш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kk-KZ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0" y="77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6840" y="114264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14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kk-KZ" sz="5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т есім дегеніміз не?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Заголовок 2" descr=""/>
          <p:cNvPicPr/>
          <p:nvPr/>
        </p:nvPicPr>
        <p:blipFill>
          <a:blip r:embed="rId2"/>
          <a:stretch/>
        </p:blipFill>
        <p:spPr>
          <a:xfrm>
            <a:off x="493560" y="384120"/>
            <a:ext cx="8242560" cy="134784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" descr="C:\Documents and Settings\5 школа\Мои документы\Прочее\перо\2008-09 (сен)\сканирование0002.jpg"/>
          <p:cNvPicPr/>
          <p:nvPr/>
        </p:nvPicPr>
        <p:blipFill>
          <a:blip r:embed="rId3"/>
          <a:stretch/>
        </p:blipFill>
        <p:spPr>
          <a:xfrm>
            <a:off x="4478400" y="2782800"/>
            <a:ext cx="3678120" cy="33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100000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Жалқы және жалпы есімдерге 6 сөйлем құрастыру</a:t>
            </a:r>
            <a:r>
              <a:rPr b="0" lang="kk-KZ" sz="43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. 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2. Зат есім туралы оқ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3. «Зат есім» тақырыбына сөз жұмбақ, ребустар құрастырып әк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Заголовок 2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Blue_book"/>
          <p:cNvPicPr/>
          <p:nvPr/>
        </p:nvPicPr>
        <p:blipFill>
          <a:blip r:embed="rId3"/>
          <a:stretch/>
        </p:blipFill>
        <p:spPr>
          <a:xfrm>
            <a:off x="4356000" y="3357720"/>
            <a:ext cx="4071960" cy="32907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1773360"/>
            <a:ext cx="712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500" spc="-1" strike="noStrike">
                <a:solidFill>
                  <a:srgbClr val="ff3300"/>
                </a:solidFill>
                <a:latin typeface="Times New Roman"/>
              </a:rPr>
              <a:t>Сабақтың тақырыбы: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 Сөз таптары.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kk-KZ" sz="2500" spc="-1" strike="noStrike">
                <a:solidFill>
                  <a:srgbClr val="000000"/>
                </a:solidFill>
                <a:latin typeface="Times New Roman"/>
              </a:rPr>
              <a:t>Зат есім.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492280"/>
            <a:ext cx="849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ff3300"/>
                </a:solidFill>
                <a:latin typeface="Times New Roman KK EK"/>
              </a:rPr>
              <a:t>Сабақтың мақсаты: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1. Оқушыларға сөз таптары, оның ішінде зат есім, зат есімнің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жалпы есім, жалқы есім түрлері туралы тереңірек білім бе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2. Сөз таптары бойынша меңгерген білімдеріне сүйене отырып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зат есім туралы түсініктерін дамыту, сауатты жазу, оқ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дағдыларын жетілдіру, оқушылардың белсенді ойлау қызметтерін жанданд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3. Қазақ тілінің морфологиялық заңдылықтарын түсіндіре отырып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 </a:t>
            </a: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тілдік- эстетикалық сезімдерге тәрбиелеу, адамгершілі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100" spc="-1" strike="noStrike">
                <a:solidFill>
                  <a:srgbClr val="000000"/>
                </a:solidFill>
                <a:latin typeface="Times New Roman KK EK"/>
              </a:rPr>
              <a:t>қасиеттерді бойларына датыр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1280" y="62064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latin typeface="Times New Roman KK EK"/>
              </a:rPr>
              <a:t>Қазақ тілі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3300"/>
              </a:solidFill>
              <a:latin typeface="Times New Roman KK EK"/>
              <a:ea typeface="Times New Roman KK EK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69200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116000" y="2349360"/>
            <a:ext cx="770400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ourier New"/>
              </a:rPr>
              <a:t>Оқушыларды  бағалау</a:t>
            </a:r>
            <a:endParaRPr b="1" i="1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ourier New"/>
              <a:ea typeface="Courier New"/>
            </a:endParaRPr>
          </a:p>
        </p:txBody>
      </p:sp>
      <p:sp>
        <p:nvSpPr>
          <p:cNvPr id="217" name=""/>
          <p:cNvSpPr txBox="1"/>
          <p:nvPr/>
        </p:nvSpPr>
        <p:spPr>
          <a:xfrm rot="20766600">
            <a:off x="1476360" y="691920"/>
            <a:ext cx="208116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5"</a:t>
            </a:r>
            <a:endParaRPr b="0" i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932360" y="692280"/>
            <a:ext cx="1584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cc"/>
                  </a:solidFill>
                  <a:miter/>
                </a:ln>
                <a:solidFill>
                  <a:srgbClr val="0033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4"</a:t>
            </a:r>
            <a:endParaRPr b="0" i="1" lang="en-US" sz="1800" spc="1" strike="noStrike">
              <a:ln w="9360">
                <a:solidFill>
                  <a:srgbClr val="0033cc"/>
                </a:solidFill>
                <a:miter/>
              </a:ln>
              <a:solidFill>
                <a:srgbClr val="0033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692360" y="4724280"/>
            <a:ext cx="165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3"</a:t>
            </a:r>
            <a:endParaRPr b="0" i="1" lang="en-US" sz="1800" spc="1" strike="noStrike">
              <a:ln w="9360">
                <a:solidFill>
                  <a:srgbClr val="80800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"/>
          <p:cNvSpPr txBox="1"/>
          <p:nvPr/>
        </p:nvSpPr>
        <p:spPr>
          <a:xfrm rot="20431200">
            <a:off x="6300720" y="4581360"/>
            <a:ext cx="136692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2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3"/>
          <p:cNvSpPr/>
          <p:nvPr/>
        </p:nvSpPr>
        <p:spPr>
          <a:xfrm>
            <a:off x="684360" y="1916280"/>
            <a:ext cx="8208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500" spc="-1" strike="noStrike">
                <a:solidFill>
                  <a:srgbClr val="0033cc"/>
                </a:solidFill>
                <a:latin typeface="Courier New"/>
              </a:rPr>
              <a:t>Назарларыңызға рахме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2" action="ppaction://hlinksldjump"/>
          </p:cNvPr>
          <p:cNvSpPr/>
          <p:nvPr/>
        </p:nvSpPr>
        <p:spPr>
          <a:xfrm>
            <a:off x="7885080" y="5373720"/>
            <a:ext cx="576360" cy="720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 flipH="1" rot="10735800">
            <a:off x="0" y="4005000"/>
            <a:ext cx="2633760" cy="2852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 flipH="1" rot="21562800">
            <a:off x="6509880" y="-360"/>
            <a:ext cx="26337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8435880" cy="4319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өздердің білдіретін мағынасын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түрлену тұлғасына, қойыл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сұрағына, сөйлемде атқараты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қызметіне қарай топталуын 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сөз таптары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 дейміз</a:t>
            </a: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430200" y="1149480"/>
            <a:ext cx="8209080" cy="5256720"/>
            <a:chOff x="430200" y="1149480"/>
            <a:chExt cx="8209080" cy="5256720"/>
          </a:xfrm>
        </p:grpSpPr>
        <p:cxnSp>
          <p:nvCxnSpPr>
            <p:cNvPr id="57" name="_s45098"/>
            <p:cNvCxnSpPr>
              <a:stCxn id="58" idx="0"/>
              <a:endCxn id="59" idx="2"/>
            </p:cNvCxnSpPr>
            <p:nvPr/>
          </p:nvCxnSpPr>
          <p:spPr>
            <a:xfrm flipV="1">
              <a:off x="6166080" y="5041440"/>
              <a:ext cx="7200" cy="213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45096"/>
            <p:cNvCxnSpPr>
              <a:stCxn id="61" idx="0"/>
              <a:endCxn id="59" idx="2"/>
            </p:cNvCxnSpPr>
            <p:nvPr/>
          </p:nvCxnSpPr>
          <p:spPr>
            <a:xfrm flipV="1">
              <a:off x="6166080" y="5041440"/>
              <a:ext cx="7200" cy="18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45094"/>
            <p:cNvCxnSpPr>
              <a:stCxn id="63" idx="0"/>
              <a:endCxn id="64" idx="2"/>
            </p:cNvCxnSpPr>
            <p:nvPr/>
          </p:nvCxnSpPr>
          <p:spPr>
            <a:xfrm flipV="1">
              <a:off x="6166080" y="5628960"/>
              <a:ext cx="7200" cy="21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45090"/>
            <p:cNvCxnSpPr>
              <a:stCxn id="66" idx="1"/>
              <a:endCxn id="67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5088"/>
            <p:cNvCxnSpPr>
              <a:stCxn id="67" idx="1"/>
              <a:endCxn id="69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45086"/>
            <p:cNvCxnSpPr>
              <a:stCxn id="69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45084"/>
            <p:cNvCxnSpPr>
              <a:stCxn id="73" idx="1"/>
              <a:endCxn id="71" idx="2"/>
            </p:cNvCxnSpPr>
            <p:nvPr/>
          </p:nvCxnSpPr>
          <p:spPr>
            <a:xfrm flipH="1" flipV="1" rot="10800000">
              <a:off x="3692520" y="6018840"/>
              <a:ext cx="2473920" cy="196200"/>
            </a:xfrm>
            <a:prstGeom prst="bentConnector4">
              <a:avLst>
                <a:gd name="adj1" fmla="val -4628"/>
                <a:gd name="adj2" fmla="val 1977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4" name="_s45082"/>
            <p:cNvCxnSpPr>
              <a:stCxn id="71" idx="1"/>
              <a:endCxn id="75" idx="2"/>
            </p:cNvCxnSpPr>
            <p:nvPr/>
          </p:nvCxnSpPr>
          <p:spPr>
            <a:xfrm flipH="1" flipV="1" rot="10800000">
              <a:off x="3692520" y="6018840"/>
              <a:ext cx="2473920" cy="186840"/>
            </a:xfrm>
            <a:prstGeom prst="bentConnector4">
              <a:avLst>
                <a:gd name="adj1" fmla="val -4628"/>
                <a:gd name="adj2" fmla="val 20772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45080"/>
            <p:cNvCxnSpPr>
              <a:stCxn id="75" idx="0"/>
              <a:endCxn id="64" idx="2"/>
            </p:cNvCxnSpPr>
            <p:nvPr/>
          </p:nvCxnSpPr>
          <p:spPr>
            <a:xfrm flipV="1">
              <a:off x="6166080" y="5628600"/>
              <a:ext cx="7200" cy="186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45060"/>
            <p:cNvCxnSpPr/>
            <p:nvPr/>
          </p:nvCxnSpPr>
          <p:spPr>
            <a:xfrm rot="10800000">
              <a:off x="3468960" y="1536480"/>
              <a:ext cx="207000" cy="4504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5061"/>
            <p:cNvCxnSpPr>
              <a:stCxn id="64" idx="1"/>
              <a:endCxn id="79" idx="2"/>
            </p:cNvCxnSpPr>
            <p:nvPr/>
          </p:nvCxnSpPr>
          <p:spPr>
            <a:xfrm rot="10800000">
              <a:off x="3520800" y="1541160"/>
              <a:ext cx="172080" cy="389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5062"/>
            <p:cNvCxnSpPr>
              <a:stCxn id="59" idx="1"/>
              <a:endCxn id="79" idx="2"/>
            </p:cNvCxnSpPr>
            <p:nvPr/>
          </p:nvCxnSpPr>
          <p:spPr>
            <a:xfrm rot="10800000">
              <a:off x="3520800" y="1540440"/>
              <a:ext cx="172080" cy="330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1" name="_s45063"/>
            <p:cNvCxnSpPr>
              <a:stCxn id="82" idx="1"/>
              <a:endCxn id="79" idx="2"/>
            </p:cNvCxnSpPr>
            <p:nvPr/>
          </p:nvCxnSpPr>
          <p:spPr>
            <a:xfrm rot="10800000">
              <a:off x="3520800" y="1540440"/>
              <a:ext cx="172080" cy="2719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3" name="_s45064"/>
            <p:cNvCxnSpPr/>
            <p:nvPr/>
          </p:nvCxnSpPr>
          <p:spPr>
            <a:xfrm rot="10800000">
              <a:off x="3468960" y="1536480"/>
              <a:ext cx="207000" cy="2154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4" name="_s45065"/>
            <p:cNvCxnSpPr>
              <a:stCxn id="85" idx="1"/>
              <a:endCxn id="79" idx="2"/>
            </p:cNvCxnSpPr>
            <p:nvPr/>
          </p:nvCxnSpPr>
          <p:spPr>
            <a:xfrm rot="10800000">
              <a:off x="3520800" y="1540440"/>
              <a:ext cx="172080" cy="154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45066"/>
            <p:cNvCxnSpPr/>
            <p:nvPr/>
          </p:nvCxnSpPr>
          <p:spPr>
            <a:xfrm rot="10800000">
              <a:off x="3468960" y="1536480"/>
              <a:ext cx="207000" cy="97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" name="_s45067"/>
            <p:cNvCxnSpPr>
              <a:stCxn id="88" idx="1"/>
              <a:endCxn id="79" idx="2"/>
            </p:cNvCxnSpPr>
            <p:nvPr/>
          </p:nvCxnSpPr>
          <p:spPr>
            <a:xfrm rot="10800000">
              <a:off x="3520800" y="1541160"/>
              <a:ext cx="172080" cy="367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45068"/>
            <p:cNvSpPr/>
            <p:nvPr/>
          </p:nvSpPr>
          <p:spPr>
            <a:xfrm>
              <a:off x="430200" y="1149480"/>
              <a:ext cx="618264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Зат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45069"/>
            <p:cNvSpPr/>
            <p:nvPr/>
          </p:nvSpPr>
          <p:spPr>
            <a:xfrm>
              <a:off x="3692880" y="17125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ы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45070"/>
            <p:cNvSpPr/>
            <p:nvPr/>
          </p:nvSpPr>
          <p:spPr>
            <a:xfrm>
              <a:off x="3692880" y="23000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Сан есім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_s45071"/>
            <p:cNvSpPr/>
            <p:nvPr/>
          </p:nvSpPr>
          <p:spPr>
            <a:xfrm>
              <a:off x="3692880" y="288756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сімд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45072"/>
            <p:cNvSpPr/>
            <p:nvPr/>
          </p:nvSpPr>
          <p:spPr>
            <a:xfrm>
              <a:off x="3692880" y="347508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тістік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_s45073"/>
            <p:cNvSpPr/>
            <p:nvPr/>
          </p:nvSpPr>
          <p:spPr>
            <a:xfrm>
              <a:off x="3692880" y="406260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Үс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45074"/>
            <p:cNvSpPr/>
            <p:nvPr/>
          </p:nvSpPr>
          <p:spPr>
            <a:xfrm>
              <a:off x="3692880" y="465012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 сөздер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45075"/>
            <p:cNvSpPr/>
            <p:nvPr/>
          </p:nvSpPr>
          <p:spPr>
            <a:xfrm>
              <a:off x="3692880" y="52376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Елікте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45076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7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45079"/>
            <p:cNvSpPr/>
            <p:nvPr/>
          </p:nvSpPr>
          <p:spPr>
            <a:xfrm>
              <a:off x="3692880" y="581580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45081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45083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45085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45087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45089"/>
            <p:cNvSpPr/>
            <p:nvPr/>
          </p:nvSpPr>
          <p:spPr>
            <a:xfrm>
              <a:off x="3692880" y="5825160"/>
              <a:ext cx="4946400" cy="390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000" spc="-1" strike="noStrike">
                  <a:solidFill>
                    <a:srgbClr val="000000"/>
                  </a:solidFill>
                  <a:latin typeface="Arial"/>
                </a:rPr>
                <a:t>тьтьть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45093"/>
            <p:cNvSpPr/>
            <p:nvPr/>
          </p:nvSpPr>
          <p:spPr>
            <a:xfrm>
              <a:off x="3692880" y="5847120"/>
              <a:ext cx="4946400" cy="3898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Одаға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45095"/>
            <p:cNvSpPr/>
            <p:nvPr/>
          </p:nvSpPr>
          <p:spPr>
            <a:xfrm>
              <a:off x="3692880" y="5226840"/>
              <a:ext cx="4946400" cy="3913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45097"/>
            <p:cNvSpPr/>
            <p:nvPr/>
          </p:nvSpPr>
          <p:spPr>
            <a:xfrm>
              <a:off x="3692880" y="5255280"/>
              <a:ext cx="4946400" cy="393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k-KZ" sz="2800" spc="-1" strike="noStrike">
                  <a:solidFill>
                    <a:srgbClr val="000000"/>
                  </a:solidFill>
                  <a:latin typeface="Arial"/>
                </a:rPr>
                <a:t>Шыла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Сөз тапта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57200" y="1125360"/>
            <a:ext cx="8228880" cy="5000040"/>
            <a:chOff x="457200" y="1125360"/>
            <a:chExt cx="8228880" cy="5000040"/>
          </a:xfrm>
        </p:grpSpPr>
        <p:cxnSp>
          <p:nvCxnSpPr>
            <p:cNvPr id="95" name="_s23580"/>
            <p:cNvCxnSpPr>
              <a:stCxn id="96" idx="1"/>
              <a:endCxn id="97" idx="2"/>
            </p:cNvCxnSpPr>
            <p:nvPr/>
          </p:nvCxnSpPr>
          <p:spPr>
            <a:xfrm rot="10800000">
              <a:off x="18277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23578"/>
            <p:cNvCxnSpPr>
              <a:stCxn id="99" idx="1"/>
              <a:endCxn id="100" idx="2"/>
            </p:cNvCxnSpPr>
            <p:nvPr/>
          </p:nvCxnSpPr>
          <p:spPr>
            <a:xfrm rot="10800000">
              <a:off x="5485320" y="4761000"/>
              <a:ext cx="457560" cy="90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23569"/>
            <p:cNvCxnSpPr>
              <a:stCxn id="100" idx="0"/>
              <a:endCxn id="102" idx="2"/>
            </p:cNvCxnSpPr>
            <p:nvPr/>
          </p:nvCxnSpPr>
          <p:spPr>
            <a:xfrm flipV="1">
              <a:off x="54856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3" name="_s23567"/>
            <p:cNvCxnSpPr>
              <a:stCxn id="97" idx="0"/>
              <a:endCxn id="104" idx="2"/>
            </p:cNvCxnSpPr>
            <p:nvPr/>
          </p:nvCxnSpPr>
          <p:spPr>
            <a:xfrm flipV="1">
              <a:off x="1828080" y="3397680"/>
              <a:ext cx="3240" cy="455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23563"/>
            <p:cNvCxnSpPr>
              <a:stCxn id="102" idx="0"/>
              <a:endCxn id="106" idx="2"/>
            </p:cNvCxnSpPr>
            <p:nvPr/>
          </p:nvCxnSpPr>
          <p:spPr>
            <a:xfrm flipV="1" rot="16200000">
              <a:off x="43437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23562"/>
            <p:cNvCxnSpPr>
              <a:stCxn id="104" idx="0"/>
              <a:endCxn id="106" idx="2"/>
            </p:cNvCxnSpPr>
            <p:nvPr/>
          </p:nvCxnSpPr>
          <p:spPr>
            <a:xfrm flipH="1" flipV="1" rot="5400000">
              <a:off x="2514960" y="1346760"/>
              <a:ext cx="455040" cy="1829160"/>
            </a:xfrm>
            <a:prstGeom prst="bentConnector3">
              <a:avLst>
                <a:gd name="adj1" fmla="val 2509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6" name="_s23558"/>
            <p:cNvSpPr/>
            <p:nvPr/>
          </p:nvSpPr>
          <p:spPr>
            <a:xfrm>
              <a:off x="2285640" y="112536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ұрамына қара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23559"/>
            <p:cNvSpPr/>
            <p:nvPr/>
          </p:nvSpPr>
          <p:spPr>
            <a:xfrm>
              <a:off x="45720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Дара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3560"/>
            <p:cNvSpPr/>
            <p:nvPr/>
          </p:nvSpPr>
          <p:spPr>
            <a:xfrm>
              <a:off x="4114440" y="248904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үрделі зат есі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3566"/>
            <p:cNvSpPr/>
            <p:nvPr/>
          </p:nvSpPr>
          <p:spPr>
            <a:xfrm>
              <a:off x="45720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Бір ғана түбірден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ұр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3568"/>
            <p:cNvSpPr/>
            <p:nvPr/>
          </p:nvSpPr>
          <p:spPr>
            <a:xfrm>
              <a:off x="4114440" y="385272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Кемінде екі сөзде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 </a:t>
              </a:r>
              <a:r>
                <a:rPr b="0" lang="kk-KZ" sz="1600" spc="-1" strike="noStrike">
                  <a:solidFill>
                    <a:srgbClr val="00ff00"/>
                  </a:solidFill>
                  <a:latin typeface="Arial"/>
                </a:rPr>
                <a:t>тіркесу арқылы жасала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3577"/>
            <p:cNvSpPr/>
            <p:nvPr/>
          </p:nvSpPr>
          <p:spPr>
            <a:xfrm>
              <a:off x="59432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Мәдениет үйі, ата- а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3579"/>
            <p:cNvSpPr/>
            <p:nvPr/>
          </p:nvSpPr>
          <p:spPr>
            <a:xfrm>
              <a:off x="2285640" y="5216400"/>
              <a:ext cx="2742840" cy="9090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т, ара, қант, оқуш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57200" y="1413000"/>
            <a:ext cx="8228520" cy="4712040"/>
            <a:chOff x="457200" y="1413000"/>
            <a:chExt cx="8228520" cy="4712040"/>
          </a:xfrm>
        </p:grpSpPr>
        <p:cxnSp>
          <p:nvCxnSpPr>
            <p:cNvPr id="110" name="_s25618"/>
            <p:cNvCxnSpPr>
              <a:stCxn id="111" idx="0"/>
              <a:endCxn id="112" idx="2"/>
            </p:cNvCxnSpPr>
            <p:nvPr/>
          </p:nvCxnSpPr>
          <p:spPr>
            <a:xfrm flipV="1">
              <a:off x="678672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25616"/>
            <p:cNvCxnSpPr>
              <a:stCxn id="114" idx="0"/>
              <a:endCxn id="115" idx="2"/>
            </p:cNvCxnSpPr>
            <p:nvPr/>
          </p:nvCxnSpPr>
          <p:spPr>
            <a:xfrm flipV="1">
              <a:off x="2355480" y="4357800"/>
              <a:ext cx="4680" cy="589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5611"/>
            <p:cNvCxnSpPr>
              <a:stCxn id="112" idx="0"/>
              <a:endCxn id="117" idx="2"/>
            </p:cNvCxnSpPr>
            <p:nvPr/>
          </p:nvCxnSpPr>
          <p:spPr>
            <a:xfrm flipV="1" rot="16200000">
              <a:off x="5383800" y="1776960"/>
              <a:ext cx="589680" cy="221616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5610"/>
            <p:cNvCxnSpPr>
              <a:stCxn id="115" idx="0"/>
              <a:endCxn id="117" idx="2"/>
            </p:cNvCxnSpPr>
            <p:nvPr/>
          </p:nvCxnSpPr>
          <p:spPr>
            <a:xfrm flipH="1" flipV="1" rot="5400000">
              <a:off x="3168360" y="1777680"/>
              <a:ext cx="589680" cy="2215440"/>
            </a:xfrm>
            <a:prstGeom prst="bentConnector3">
              <a:avLst>
                <a:gd name="adj1" fmla="val 202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7" name="_s25606"/>
            <p:cNvSpPr/>
            <p:nvPr/>
          </p:nvSpPr>
          <p:spPr>
            <a:xfrm>
              <a:off x="2671920" y="141300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алпылай немесе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жекелей аталуы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қар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5607"/>
            <p:cNvSpPr/>
            <p:nvPr/>
          </p:nvSpPr>
          <p:spPr>
            <a:xfrm>
              <a:off x="45720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п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5608"/>
            <p:cNvSpPr/>
            <p:nvPr/>
          </p:nvSpPr>
          <p:spPr>
            <a:xfrm>
              <a:off x="4888080" y="317988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000" spc="-1" strike="noStrike">
                  <a:solidFill>
                    <a:srgbClr val="000000"/>
                  </a:solidFill>
                  <a:latin typeface="Arial"/>
                </a:rPr>
                <a:t>Жалқы есім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25615"/>
            <p:cNvSpPr/>
            <p:nvPr/>
          </p:nvSpPr>
          <p:spPr>
            <a:xfrm>
              <a:off x="45720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қала, өзен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тау, кітап, кісі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25617"/>
            <p:cNvSpPr/>
            <p:nvPr/>
          </p:nvSpPr>
          <p:spPr>
            <a:xfrm>
              <a:off x="4888080" y="4947120"/>
              <a:ext cx="3797640" cy="1177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Мысалы: Алматы,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500" spc="-1" strike="noStrike">
                  <a:solidFill>
                    <a:srgbClr val="000000"/>
                  </a:solidFill>
                  <a:latin typeface="Arial"/>
                </a:rPr>
                <a:t>Ертіс, Алатау, Абыла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21" name="_s27665"/>
            <p:cNvCxnSpPr>
              <a:stCxn id="122" idx="0"/>
              <a:endCxn id="123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27663"/>
            <p:cNvCxnSpPr>
              <a:stCxn id="125" idx="0"/>
              <a:endCxn id="126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27659"/>
            <p:cNvCxnSpPr>
              <a:stCxn id="123" idx="0"/>
              <a:endCxn id="128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27658"/>
            <p:cNvCxnSpPr>
              <a:stCxn id="126" idx="0"/>
              <a:endCxn id="128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8" name="_s27654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Мағын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7655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ті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7656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Дерексіз зат есім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2766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Көзбен көріп, қолмен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ұстауғ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болатын заттардың атау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7664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Көзбен көріп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қолмен ұстауға келмейтін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тек оймен, ақыл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ғана сезіп білетін ұғымның атау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Зат есі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28520" cy="4784040"/>
            <a:chOff x="457200" y="1341360"/>
            <a:chExt cx="8228520" cy="4784040"/>
          </a:xfrm>
        </p:grpSpPr>
        <p:cxnSp>
          <p:nvCxnSpPr>
            <p:cNvPr id="132" name="_s51205"/>
            <p:cNvCxnSpPr>
              <a:stCxn id="133" idx="0"/>
              <a:endCxn id="134" idx="2"/>
            </p:cNvCxnSpPr>
            <p:nvPr/>
          </p:nvCxnSpPr>
          <p:spPr>
            <a:xfrm flipV="1">
              <a:off x="678672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51206"/>
            <p:cNvCxnSpPr>
              <a:stCxn id="136" idx="0"/>
              <a:endCxn id="137" idx="2"/>
            </p:cNvCxnSpPr>
            <p:nvPr/>
          </p:nvCxnSpPr>
          <p:spPr>
            <a:xfrm flipV="1">
              <a:off x="2355480" y="4330440"/>
              <a:ext cx="4680" cy="59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51207"/>
            <p:cNvCxnSpPr>
              <a:stCxn id="134" idx="0"/>
              <a:endCxn id="139" idx="2"/>
            </p:cNvCxnSpPr>
            <p:nvPr/>
          </p:nvCxnSpPr>
          <p:spPr>
            <a:xfrm flipV="1" rot="16200000">
              <a:off x="5379120" y="1727640"/>
              <a:ext cx="598680" cy="221616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51208"/>
            <p:cNvCxnSpPr>
              <a:stCxn id="137" idx="0"/>
              <a:endCxn id="139" idx="2"/>
            </p:cNvCxnSpPr>
            <p:nvPr/>
          </p:nvCxnSpPr>
          <p:spPr>
            <a:xfrm flipH="1" flipV="1" rot="5400000">
              <a:off x="3164040" y="1728360"/>
              <a:ext cx="598680" cy="2215440"/>
            </a:xfrm>
            <a:prstGeom prst="bentConnector3">
              <a:avLst>
                <a:gd name="adj1" fmla="val 20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51209"/>
            <p:cNvSpPr/>
            <p:nvPr/>
          </p:nvSpPr>
          <p:spPr>
            <a:xfrm>
              <a:off x="2671920" y="134136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ұлғасына қарай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51210"/>
            <p:cNvSpPr/>
            <p:nvPr/>
          </p:nvSpPr>
          <p:spPr>
            <a:xfrm>
              <a:off x="45720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Негізгі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51211"/>
            <p:cNvSpPr/>
            <p:nvPr/>
          </p:nvSpPr>
          <p:spPr>
            <a:xfrm>
              <a:off x="4888080" y="313524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3100" spc="-1" strike="noStrike">
                  <a:solidFill>
                    <a:srgbClr val="000000"/>
                  </a:solidFill>
                  <a:latin typeface="Arial"/>
                </a:rPr>
                <a:t>Туынды</a:t>
              </a: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51212"/>
            <p:cNvSpPr/>
            <p:nvPr/>
          </p:nvSpPr>
          <p:spPr>
            <a:xfrm>
              <a:off x="45720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200" spc="-1" strike="noStrike">
                  <a:solidFill>
                    <a:srgbClr val="000000"/>
                  </a:solidFill>
                  <a:latin typeface="Arial"/>
                </a:rPr>
                <a:t>Жер, су, қала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51213"/>
            <p:cNvSpPr/>
            <p:nvPr/>
          </p:nvSpPr>
          <p:spPr>
            <a:xfrm>
              <a:off x="4888080" y="4929480"/>
              <a:ext cx="3797640" cy="1195920"/>
            </a:xfrm>
            <a:prstGeom prst="roundRect">
              <a:avLst>
                <a:gd name="adj" fmla="val 16667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kk-KZ" sz="2000" spc="-1" strike="noStrike">
                  <a:solidFill>
                    <a:srgbClr val="000000"/>
                  </a:solidFill>
                  <a:latin typeface="Arial"/>
                </a:rPr>
                <a:t>оқушы, айтыс, білім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771640" y="836640"/>
            <a:ext cx="3600720" cy="574560"/>
          </a:xfrm>
          <a:custGeom>
            <a:avLst/>
            <a:gdLst>
              <a:gd name="textAreaLeft" fmla="*/ 900000 w 3600720"/>
              <a:gd name="textAreaRight" fmla="*/ 2700720 w 3600720"/>
              <a:gd name="textAreaTop" fmla="*/ 7164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gradFill rotWithShape="0">
            <a:gsLst>
              <a:gs pos="0">
                <a:srgbClr val="3366ff"/>
              </a:gs>
              <a:gs pos="100000">
                <a:srgbClr val="ff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67640" y="9828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Times New Roman"/>
              </a:rPr>
              <a:t>Зат есі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637000"/>
            <a:ext cx="865080" cy="7207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1413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112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076720" y="270828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3213000"/>
            <a:ext cx="1727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88000" y="3357720"/>
            <a:ext cx="79200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92360" y="3357720"/>
            <a:ext cx="71928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3141720"/>
            <a:ext cx="151128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348000" y="2852640"/>
            <a:ext cx="719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555640" y="1052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7020000" y="2492280"/>
            <a:ext cx="341280" cy="301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556000" y="472428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5013360"/>
            <a:ext cx="825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88000" y="357336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213372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342900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59280" y="4581360"/>
            <a:ext cx="1584360" cy="108108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23240" y="4869000"/>
            <a:ext cx="81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Жалқ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74520" y="37162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Ғал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е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66520" y="2349360"/>
            <a:ext cx="99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Адамз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кім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23960" y="3789360"/>
            <a:ext cx="94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сі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сыз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67280" y="2205000"/>
            <a:ext cx="2305080" cy="1081080"/>
          </a:xfrm>
          <a:custGeom>
            <a:avLst/>
            <a:gdLst>
              <a:gd name="textAreaLeft" fmla="*/ 525960 w 2305080"/>
              <a:gd name="textAreaRight" fmla="*/ 1779120 w 2305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7160" y="789120"/>
            <a:ext cx="175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Заттың атауы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білдіре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60680" y="2492280"/>
            <a:ext cx="92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Дерек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(нақ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09308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7451640" y="2492280"/>
            <a:ext cx="341280" cy="301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7956720" y="3865680"/>
            <a:ext cx="360360" cy="15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172360" y="4076640"/>
            <a:ext cx="328680" cy="139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6804000" y="549360"/>
            <a:ext cx="2089080" cy="1081080"/>
          </a:xfrm>
          <a:custGeom>
            <a:avLst/>
            <a:gdLst>
              <a:gd name="textAreaLeft" fmla="*/ 476640 w 2089080"/>
              <a:gd name="textAreaRight" fmla="*/ 1612440 w 2089080"/>
              <a:gd name="textAreaTop" fmla="*/ 246600 h 1081080"/>
              <a:gd name="textAreaBottom" fmla="*/ 8344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284960" y="722160"/>
            <a:ext cx="1247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Сұрақтар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Кім? Кімд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kk-KZ" sz="1600" spc="-1" strike="noStrike">
                <a:solidFill>
                  <a:srgbClr val="ffffff"/>
                </a:solidFill>
                <a:latin typeface="Times New Roman"/>
              </a:rPr>
              <a:t>Не?</a:t>
            </a:r>
            <a:r>
              <a:rPr b="1" i="1" lang="kk-KZ" sz="1400" spc="-1" strike="noStrike">
                <a:solidFill>
                  <a:srgbClr val="ffffff"/>
                </a:solidFill>
                <a:latin typeface="Times New Roman"/>
              </a:rPr>
              <a:t> Нелер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4:08:25Z</dcterms:created>
  <dc:creator>Асель</dc:creator>
  <dc:description/>
  <dc:language>en-US</dc:language>
  <cp:lastModifiedBy>User</cp:lastModifiedBy>
  <dcterms:modified xsi:type="dcterms:W3CDTF">2013-02-06T18:16:24Z</dcterms:modified>
  <cp:revision>53</cp:revision>
  <dc:subject/>
  <dc:title>Пєндік олимпиа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60000000000010250500207f7000400038000</vt:lpwstr>
  </property>
</Properties>
</file>