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BFE-F4E4-4A87-BD88-93D30A82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8EA-9BAE-4810-AA9F-EA81C741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677-4520-4C48-A401-932ECE3E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9D6-0028-4FA3-9342-7291AA72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07260-B12C-411B-822F-21AE2F72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62A25-CCB4-4117-A1C1-302D701F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59A58-4ADB-40AF-BB5B-A665B64E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78A9A-6263-47C0-9A98-98A2AC3B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82469-1826-47C5-A832-BA52C51F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9E6E4-42C5-45D4-A224-683ED48D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40191-1D47-4A46-A96E-2698B61D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4D4-9BE0-49D3-8D89-DB791E2B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06077-44FE-4C7F-AB9F-39647E2A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A61CF-91E9-4716-B25D-3E2402AF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BEB06-3031-496E-90D3-6AC0C28D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60C32-7E0A-4AFD-B94B-0BF3F492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56499-1920-44BA-AB82-E62C066D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399-F911-4FB3-A8FC-FF678EF8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90C-3E53-4972-B379-B2CEF743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54B7-9BEB-455E-BE67-9BF2BFF8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F24-29FD-4CC6-8BDA-204B30E5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D0A-C8F2-4BD3-9520-A2D6DA66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DAF-7A0B-4057-9A4C-3A72F6DF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845-21CA-4959-9FB9-2F5E79CA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B2F3-6089-48FE-A343-4CBDD471D8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64EB-0CE2-46EB-BE74-CB0F3BB5A3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32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e3e3ff"/>
                </a:solidFill>
                <a:latin typeface="Arial"/>
              </a:rPr>
              <a:t>Сабақтың жоспа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. Ұйымдастыру кезеңі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Сабаққа кіріспе (Оқушыларды сабақтың жоспарымен, мақсатым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танысты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. Үй тапсырмасын сұрау – (15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Тақырып мазмұнын сұрап шығу (дайындалып келген оқушылардан сұр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Суретпен жұмыс (құстың зәр шығару жүйесінің құрылысын ат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“Біліміңді тексер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в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І. Жаңа сабақ – (20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Кіріспе сө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Жаңа сабақты түсінді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Ү. Жаңа сабақты пысықтау – (7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“Кім жылдам ойынын” өткі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. Оқушы білімін бағалау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І. Үй тапсырмасы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3e3ff"/>
                </a:solidFill>
                <a:latin typeface="Monotype Corsiva"/>
              </a:rPr>
              <a:t>Олар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084640"/>
            <a:ext cx="374508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Эритр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084640"/>
            <a:ext cx="403236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Лейк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Monotype Corsiva"/>
              </a:rPr>
              <a:t>IV</a:t>
            </a:r>
            <a:r>
              <a:rPr b="1" lang="kk-KZ" sz="4400" spc="-1" strike="noStrike">
                <a:solidFill>
                  <a:srgbClr val="e3e3ff"/>
                </a:solidFill>
                <a:latin typeface="Monotype Corsiva"/>
              </a:rPr>
              <a:t>. Жаңа сабақты пысықта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А) “Кім жылдым” ойыны (Оқушыларға жаңа сабақтан сұрақтар қойылад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1. Қанның құрамына қандай заттар кір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Эритр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3. Эритроциттердің организм үшін маңызы қанда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4. Лейк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5. Эритроциттер қандай мүшелерде түзіл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6. Қан газ алмасудан басқа тағы қандай қызмет атқар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7. Лейкоциттердің эритроциттерден қандай айырмашылығы ба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8. Эритроциттерді қанның қызыл түйіршігі деп неліктен атай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9.Антидене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0. Табиғи иммунитет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1. Жасанды иммунитет қалай пайда бол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Оқушы білімін бағала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I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Үй тапсырмасы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7200" spc="-1" strike="noStrike">
                <a:solidFill>
                  <a:srgbClr val="ffffff"/>
                </a:solidFill>
                <a:latin typeface="Bookman Old Style"/>
              </a:rPr>
              <a:t> 39 оқ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Үй тапсырмасын сұра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 Тақырып мазмұнын сұрап шығ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Ә) Суретпен жұмыс (оқушыларға құстың зәр шығару жүйесінің құрылысын айтқыз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Б) “Біліміңді тексер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Ә) Суретпен жұмыс (құстың зәр шығару жүйесінің құрылысын ат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Б) “Біліміңді тексер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Көпжасушалы жануарлар организмінде түзілетін сыртқа шығарылуы тиіс заттарға нелер жатады? Ол заттарды тізімнен тері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Оттегі                                              - несе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өмірқышқыл газы                         -  ваку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 материалдары                  - нәжі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нның қызыл түйірш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Сол жақта көпжасушалы жануарлардың зәршығару мүшелері, оң жақта жануарлардың тізімі берілген. Зәршығару мүшелерінің қайсысы қандай жануарға тән екенін анықта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А. Бүйрек                           1. ша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Ә. Жасыл без                    2. ги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В. Несепағар                     3.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Г. Жабынды қабықша       4. паразит аме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Ғ. Вакуоль                          5. кірпікшелі кебіс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3e3ff"/>
                </a:solidFill>
                <a:latin typeface="Monotype Corsiva"/>
              </a:rPr>
              <a:t>Жаңа сабақ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Тақыры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Monotype Corsiva"/>
              </a:rPr>
              <a:t>Көпжасушалы жануарлардағы қан, лимфа және қанайналы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3e3ff"/>
                </a:solidFill>
                <a:latin typeface="Tahoma"/>
              </a:rPr>
              <a:t>Сабақтың мақс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Білімді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Көпжасушалы жануарлардағы қан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лимфа және қанайналым жүйесімен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ын оқушыларға таныстыру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Дамытушылық: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з бетінше қорытынды жасауғ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ағдыландыру, танымдық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білеттерін  дамытып, ізденіске бау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Тәрбие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Оқушылардың  жануарларға дег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үйіспеншілігін оята  отырып, тәрбиел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Monotype Corsiva"/>
              </a:rPr>
              <a:t>Жаңа сабақ жоспа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А) Кіріспе сө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 Қанның организмде атқаратын қызме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 Қанның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В) Эритроциттер, Лейкоцит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Организмнің қанайналым жүйес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Қорытын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3e3ff"/>
                </a:solidFill>
                <a:latin typeface="Monotype Corsiva"/>
              </a:rPr>
              <a:t>Қанның құрам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00360" cy="550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716360" y="3716280"/>
          <a:ext cx="3742920" cy="2160360"/>
        </p:xfrm>
        <a:graphic>
          <a:graphicData uri="http://schemas.openxmlformats.org/drawingml/2006/table">
            <a:tbl>
              <a:tblPr/>
              <a:tblGrid>
                <a:gridCol w="1006560"/>
                <a:gridCol w="2736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қан плазма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қан жасушал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09:49Z</dcterms:created>
  <dc:creator>комп</dc:creator>
  <dc:description/>
  <dc:language>en-US</dc:language>
  <cp:lastModifiedBy>Admin</cp:lastModifiedBy>
  <dcterms:modified xsi:type="dcterms:W3CDTF">2010-01-19T16:39:15Z</dcterms:modified>
  <cp:revision>7</cp:revision>
  <dc:subject/>
  <dc:title>Сабақтың жоспары</dc:title>
</cp:coreProperties>
</file>