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412-CFF3-4A7D-A66C-2F572197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333-E2DC-4312-B9AA-C0235B6E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CB6-4D27-4BA0-81AD-227EF079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AA5-F776-4AA5-87F0-BF878247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0DFD-A706-4D3E-85D8-B56DADEC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3F9E-E207-4CEB-BC0A-2498B0B8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5168-9F7D-4F83-AED5-65D176B7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65A6-8401-4934-A9CC-99D69853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9F41-E9BC-4070-8F5D-19F16B0D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6FC4-6A40-4848-BE07-D0F4DFE0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2BA7-AAB6-4402-8093-5AA6E31C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DC0-D3C1-4D24-8888-96D4DF85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DF22-D867-40A1-97E7-6C1E2535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89FA-4404-4430-8841-7EB43B04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96F5-4AA0-40AA-A71C-08F694F4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8442-47E2-4851-8E84-23B9837F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4548-FB5D-474C-94DD-ED5ADAF5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A47-CBB4-42C9-89BA-FEF0632E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717-AED1-4E9B-A6DD-296FEDC7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D27-5A8E-4FC7-8B5B-9C6730D9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F74-65E4-40DA-B3E9-D900FEA1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1BB-16E9-4387-821C-F89F8336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351-3375-4FC0-9108-D42DCA36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7B2-C201-41AC-B8A0-2AD28988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81DC-B729-48B0-AADF-8FD0C8637B5E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9E66-D93E-486F-B2F4-4C7BECF1E904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547640" y="1989000"/>
            <a:ext cx="65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н 5- сыныпқа барамы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16360" y="3716280"/>
            <a:ext cx="3528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нинг сабағ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Майшам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Оқушылар менің қолымдағы сүйкімді ойыншыққа назар аударыңыздар. Қазір ол сендердің қолдарыңнан өтеді, сыныптас достарымызға өз тілектерімізді айтамыз. Мен бастаймын, Бақыт 5 сыныпқа барғанда да сабағыңды жақсы оқып, үлгілі оқушы болуыңды тілеймін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26920" y="3141720"/>
            <a:ext cx="734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арларыңызға рахме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1440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Ма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қсаты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3141720"/>
            <a:ext cx="777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ды ойын-жаттығулар арқылы 5-сыныпқа даярлау, оқушы көзқарасын қалыптастыру, қабілетін тануға көмектесу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Өту барыс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әлемдес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Шағын  пікірталас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итуациялық жағдаяттар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Көңіл-күй» ойын-жаттығ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Үміт хаты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Қош бол, кедергілер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Май шам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Қорытын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hildren_0127.gif"/>
          <p:cNvPicPr/>
          <p:nvPr/>
        </p:nvPicPr>
        <p:blipFill>
          <a:blip r:embed="rId2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Шағын пікірталас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-ші топ: 4-сыныпта не жеңіл, не қиын алдарыңыздағы плакатқа жазасыздар.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-ші топ: алдағы 5-сыныпты қалай көздеріңізге елестетесіздер?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-ші топ: 5-сыныптың  сынып жетекшісі қандай болғанын қалайсыз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одан кейін топтардан бір кісіден шығып өз ой-пікірлерін айта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0464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children_0120.gif"/>
          <p:cNvPicPr/>
          <p:nvPr/>
        </p:nvPicPr>
        <p:blipFill>
          <a:blip r:embed="rId2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ғдаяттар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2781000"/>
            <a:ext cx="70581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.Таңартең сабаққа мамаң шығарып салды, екі алма, бес алып кел деп жіберді. Сен сабақтан екі алдың, мамаңа қалай айтасың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.Есеп шығара алмадың, не істей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.Сабақтың алғашқы күндері, сабаққа дайындалмай келдің, мұғалімнен қорқып отырсың, сабақ сұрады не деп жауап бере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4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children_0170.gif"/>
          <p:cNvPicPr/>
          <p:nvPr/>
        </p:nvPicPr>
        <p:blipFill>
          <a:blip r:embed="rId2"/>
          <a:stretch/>
        </p:blipFill>
        <p:spPr>
          <a:xfrm>
            <a:off x="7386480" y="4292640"/>
            <a:ext cx="122400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Көңіл-күй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Менің алдымда билеттер жатыр, екі топқа   билет беріледі. Билеттің ішіндегі сөзді оқып, сол кейіпке еніп көрсетесіздер, қарсы топ тауып айт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Сабақта ұялып тұрған бала, екі алып жылап тұрған бала, мұғалімге ренжіп тұрған бала, «5» алып қуанып тұрған бала, мақтанып тұрған бала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Әр түрлі жануарлардың бейнесін сал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8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өңіл-күй түрлері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Venus\Desktop\Жаңа қалта (2)\67.gif"/>
          <p:cNvPicPr/>
          <p:nvPr/>
        </p:nvPicPr>
        <p:blipFill>
          <a:blip r:embed="rId2"/>
          <a:stretch/>
        </p:blipFill>
        <p:spPr>
          <a:xfrm>
            <a:off x="3059280" y="2421000"/>
            <a:ext cx="124920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Venus\Desktop\Жаңа қалта (2)\130.gif"/>
          <p:cNvPicPr/>
          <p:nvPr/>
        </p:nvPicPr>
        <p:blipFill>
          <a:blip r:embed="rId3"/>
          <a:stretch/>
        </p:blipFill>
        <p:spPr>
          <a:xfrm>
            <a:off x="4859280" y="2421000"/>
            <a:ext cx="1209600" cy="120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Venus\Desktop\Жаңа қалта (2)\115.gif"/>
          <p:cNvPicPr/>
          <p:nvPr/>
        </p:nvPicPr>
        <p:blipFill>
          <a:blip r:embed="rId4"/>
          <a:stretch/>
        </p:blipFill>
        <p:spPr>
          <a:xfrm>
            <a:off x="6372360" y="2492280"/>
            <a:ext cx="20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Venus\Desktop\Жаңа қалта (2)\124.gif"/>
          <p:cNvPicPr/>
          <p:nvPr/>
        </p:nvPicPr>
        <p:blipFill>
          <a:blip r:embed="rId5"/>
          <a:stretch/>
        </p:blipFill>
        <p:spPr>
          <a:xfrm>
            <a:off x="1116000" y="3429000"/>
            <a:ext cx="2016000" cy="197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Venus\Desktop\Жаңа қалта (2)\195.gif"/>
          <p:cNvPicPr/>
          <p:nvPr/>
        </p:nvPicPr>
        <p:blipFill>
          <a:blip r:embed="rId6"/>
          <a:stretch/>
        </p:blipFill>
        <p:spPr>
          <a:xfrm>
            <a:off x="3276720" y="3933720"/>
            <a:ext cx="1224000" cy="124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Venus\Desktop\Жаңа қалта (2)\152.gif"/>
          <p:cNvPicPr/>
          <p:nvPr/>
        </p:nvPicPr>
        <p:blipFill>
          <a:blip r:embed="rId7"/>
          <a:stretch/>
        </p:blipFill>
        <p:spPr>
          <a:xfrm>
            <a:off x="4950000" y="3933720"/>
            <a:ext cx="1552320" cy="13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:\Users\Venus\Desktop\Жаңа қалта (2)\227.gif"/>
          <p:cNvPicPr/>
          <p:nvPr/>
        </p:nvPicPr>
        <p:blipFill>
          <a:blip r:embed="rId8"/>
          <a:stretch/>
        </p:blipFill>
        <p:spPr>
          <a:xfrm>
            <a:off x="6985080" y="401328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Үміт хаты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ға аттары жазылған  парақтар үлестіріледі, осы оқушының қасиеттері туралы  жазу тапсырылады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Қош бол кедергілер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Сіздер 5- сыныпқа барасыздар, қорқыныштарың болады, сол қорқыныштарыңды ақ параққа түсіріңдер. Содан кейін салған қорқыныштарыңды умаждап себетке саламыз. Сөйтіп, қорқыныштарымыздан арыламыз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Customer</cp:lastModifiedBy>
  <dcterms:modified xsi:type="dcterms:W3CDTF">2012-04-15T19:41:36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