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D78-C3D5-4EF0-A419-9CC9A038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70D-CD6B-445E-86D9-1AEC404C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4B8-3C50-438C-8BC5-0EA91C65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B82-995D-46C6-BA04-D3464A19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5CBC-3B21-4F50-BFF7-5E51D93C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DDCB-AA78-4442-81BD-2E815FD3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5C1A-65C0-41A5-BB2B-00269C22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2A63-7E35-446B-8355-384C8C90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CA2A-2387-414C-A18F-52119C68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92FB-D23E-4EFB-ADC0-94A26184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7077-4964-4256-BA15-4EC67CFD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CDC2-0A1C-4A68-A000-D2A69A7C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9E22-A462-4C52-88A0-3DB2F94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3236-467D-4418-A55D-5A008C73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EA3C-BF72-43D5-8CBF-59373684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4602-5C15-4169-ADE7-EB66456D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6931-CD95-499E-8EDE-822B6F60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3A8-2FBA-4D99-AD78-EC5E4A55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64E-AE65-43AC-821D-34B770A9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EBE-ABE5-422B-B5A7-5BDE3A81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976-1FAD-4811-A02F-BDB2CB2B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C58-78DE-4260-B936-FC02F213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582-C9AA-4243-BECD-1DB7711E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FF7-6E1C-41E7-A0A6-976FECCA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9788-A9DA-43A8-9F16-81F84AE377D9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3393-C1C2-4D80-9688-65E07AE8EE00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1989000"/>
            <a:ext cx="655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ен 5- сыныпқа барамын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16360" y="3716280"/>
            <a:ext cx="3528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ренинг сабағ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Майшам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Оқушылар менің қолымдағы сүйкімді ойыншыққа назар аударыңыздар. Қазір ол сендердің қолдарыңнан өтеді, сыныптас достарымызға өз тілектерімізді айтамыз. Мен бастаймын, Бақыт 5 сыныпқа барғанда да сабағыңды жақсы оқып, үлгілі оқушы болуыңды тілеймін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141720"/>
            <a:ext cx="734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зарларыңызға рахме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56360" y="1773360"/>
            <a:ext cx="14400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Ма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қсаты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141720"/>
            <a:ext cx="777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ды ойын-жаттығулар арқылы 5-сыныпқа даярлау, оқушы көзқарасын қалыптастыру, қабілетін тануға көмектесу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Өту барыс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әлемдес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Шағын  пікірталас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итуациялық жағдаяттар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Көңіл-күй» ойын-жаттығ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Үміт хаты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Қош бол, кедергілер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«Май шам» жаттығу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Қорытын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6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7" descr="children_0127.gif"/>
          <p:cNvPicPr/>
          <p:nvPr/>
        </p:nvPicPr>
        <p:blipFill>
          <a:blip r:embed="rId2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Шағын пікірталас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-ші топ: 4-сыныпта не жеңіл, не қиын алдарыңыздағы плакатқа жазасыздар.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-ші топ: алдағы 5-сыныпты қалай көздеріңізге елестетесіздер?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-ші топ: 5-сыныптың  сынып жетекшісі қандай болғанын қалайсыз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Содан кейін топтардан бір кісіден шығып өз ой-пікірлерін айтады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0464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children_0120.gif"/>
          <p:cNvPicPr/>
          <p:nvPr/>
        </p:nvPicPr>
        <p:blipFill>
          <a:blip r:embed="rId2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ғдаяттар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05816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1.Таңартең сабаққа мамаң шығарып салды, екі алма, бес алып кел деп жіберді. Сен сабақтан екі алдың, мамаңа қалай айтасың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2.Есеп шығара алмадың, не істей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3.Сабақтың алғашқы күндері, сабаққа дайындалмай келдің, мұғалімнен қорқып отырсың, сабақ сұрады не деп жауап бересің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4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children_0170.gif"/>
          <p:cNvPicPr/>
          <p:nvPr/>
        </p:nvPicPr>
        <p:blipFill>
          <a:blip r:embed="rId2"/>
          <a:stretch/>
        </p:blipFill>
        <p:spPr>
          <a:xfrm>
            <a:off x="7386480" y="4292640"/>
            <a:ext cx="122400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Көңіл-күй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Менің алдымда билеттер жатыр, екі топқа   билет беріледі. Билеттің ішіндегі сөзді оқып, сол кейіпке еніп көрсетесіздер, қарсы топ тауып айт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Сабақта ұялып тұрған бала, екі алып жылап тұрған бала, мұғалімге ренжіп тұрған бала, «5» алып қуанып тұрған бала, мақтанып тұрған бала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4617b"/>
                </a:solidFill>
                <a:latin typeface="Tahoma"/>
              </a:rPr>
              <a:t>- Әр түрлі жануарлардың бейнесін салу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өңіл-күй түрлері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692280"/>
            <a:ext cx="2139840" cy="23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Venus\Desktop\Жаңа қалта (2)\67.gif"/>
          <p:cNvPicPr/>
          <p:nvPr/>
        </p:nvPicPr>
        <p:blipFill>
          <a:blip r:embed="rId2"/>
          <a:stretch/>
        </p:blipFill>
        <p:spPr>
          <a:xfrm>
            <a:off x="3059280" y="2421000"/>
            <a:ext cx="1249200" cy="12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Venus\Desktop\Жаңа қалта (2)\130.gif"/>
          <p:cNvPicPr/>
          <p:nvPr/>
        </p:nvPicPr>
        <p:blipFill>
          <a:blip r:embed="rId3"/>
          <a:stretch/>
        </p:blipFill>
        <p:spPr>
          <a:xfrm>
            <a:off x="4859280" y="2421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Venus\Desktop\Жаңа қалта (2)\115.gif"/>
          <p:cNvPicPr/>
          <p:nvPr/>
        </p:nvPicPr>
        <p:blipFill>
          <a:blip r:embed="rId4"/>
          <a:stretch/>
        </p:blipFill>
        <p:spPr>
          <a:xfrm>
            <a:off x="6372360" y="2492280"/>
            <a:ext cx="2016000" cy="111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:\Users\Venus\Desktop\Жаңа қалта (2)\124.gif"/>
          <p:cNvPicPr/>
          <p:nvPr/>
        </p:nvPicPr>
        <p:blipFill>
          <a:blip r:embed="rId5"/>
          <a:stretch/>
        </p:blipFill>
        <p:spPr>
          <a:xfrm>
            <a:off x="1116000" y="3429000"/>
            <a:ext cx="2016000" cy="19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enus\Desktop\Жаңа қалта (2)\195.gif"/>
          <p:cNvPicPr/>
          <p:nvPr/>
        </p:nvPicPr>
        <p:blipFill>
          <a:blip r:embed="rId6"/>
          <a:stretch/>
        </p:blipFill>
        <p:spPr>
          <a:xfrm>
            <a:off x="3276720" y="3933720"/>
            <a:ext cx="1224000" cy="1246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:\Users\Venus\Desktop\Жаңа қалта (2)\152.gif"/>
          <p:cNvPicPr/>
          <p:nvPr/>
        </p:nvPicPr>
        <p:blipFill>
          <a:blip r:embed="rId7"/>
          <a:stretch/>
        </p:blipFill>
        <p:spPr>
          <a:xfrm>
            <a:off x="4950000" y="3933720"/>
            <a:ext cx="1552320" cy="133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Venus\Desktop\Жаңа қалта (2)\227.gif"/>
          <p:cNvPicPr/>
          <p:nvPr/>
        </p:nvPicPr>
        <p:blipFill>
          <a:blip r:embed="rId8"/>
          <a:stretch/>
        </p:blipFill>
        <p:spPr>
          <a:xfrm>
            <a:off x="6985080" y="4013280"/>
            <a:ext cx="118728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Үміт хаты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4617b"/>
                </a:solidFill>
                <a:latin typeface="Tahoma"/>
              </a:rPr>
              <a:t>Оқушыларға аттары жазылған  парақтар үлестіріледі, осы оқушының қасиеттері туралы  жазу тапсырылады.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0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1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1" lang="kk-KZ" sz="4000" spc="-1" strike="noStrike">
                <a:solidFill>
                  <a:srgbClr val="04617b"/>
                </a:solidFill>
                <a:latin typeface="Tahoma"/>
              </a:rPr>
              <a:t>«Қош бол кедергілер» жаттығуы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63272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4617b"/>
                </a:solidFill>
                <a:latin typeface="Tahoma"/>
              </a:rPr>
              <a:t>Сіздер 5- сыныпқа барасыздар, қорқыныштарың болады, сол қорқыныштарыңды ақ параққа түсіріңдер. Содан кейін салған қорқыныштарыңды умаждап себетке саламыз. Сөйтіп, қорқыныштарымыздан арыламыз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4" descr="59916066.gif"/>
          <p:cNvPicPr/>
          <p:nvPr/>
        </p:nvPicPr>
        <p:blipFill>
          <a:blip r:embed="rId1"/>
          <a:stretch/>
        </p:blipFill>
        <p:spPr>
          <a:xfrm>
            <a:off x="468360" y="47628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Customer</cp:lastModifiedBy>
  <dcterms:modified xsi:type="dcterms:W3CDTF">2012-04-15T19:41:36Z</dcterms:modified>
  <cp:revision>3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