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A2A-3F82-43FB-8B00-6C60BB91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1B9C-61C4-4F02-8C63-6A5C7D23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C32-5D4F-459B-BE13-10F7E497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BFE8-543A-49C1-ACBC-DFD986B1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BA8-E489-482E-B96B-663988B1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079B-14B7-4D93-AAB3-C45472A0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2871-F7E6-47CB-80C6-004B102C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118-9EBF-4761-A3EE-C97F13A2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783-47C8-48C8-AF5A-95C792D0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BAC-0C80-4741-9DCD-F9D2C1E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1A8-AF17-434B-BF40-2BBA8C1C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DF48-CF9F-4DC3-9C1E-769D294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74088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74088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7408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15052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74088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65076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606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808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05572-85B1-4D84-B55F-D3C86EBE2A4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41240" y="555480"/>
            <a:ext cx="86076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gradFill rotWithShape="0">
            <a:gsLst>
              <a:gs pos="0">
                <a:srgbClr val="eb613d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20728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20728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20728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0728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820728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0728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937720" y="747720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937720" y="733284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8937720" y="717552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937720" y="703260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937720" y="6877080"/>
            <a:ext cx="600120" cy="84240"/>
          </a:xfrm>
          <a:prstGeom prst="roundRect">
            <a:avLst>
              <a:gd name="adj" fmla="val 1921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937720" y="6732720"/>
            <a:ext cx="600120" cy="77760"/>
          </a:xfrm>
          <a:prstGeom prst="roundRect">
            <a:avLst>
              <a:gd name="adj" fmla="val 2083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615960" y="703260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960" y="1273320"/>
            <a:ext cx="8910720" cy="1440"/>
          </a:xfrm>
          <a:prstGeom prst="line">
            <a:avLst/>
          </a:prstGeom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5960" y="7148520"/>
            <a:ext cx="2576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8513640" y="7115040"/>
            <a:ext cx="10954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E732469-5DBB-4890-ACAC-E6B88DA6CCB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82560" y="46512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61840" y="28584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077840" y="574560"/>
            <a:ext cx="615960" cy="615960"/>
          </a:xfrm>
          <a:prstGeom prst="roundRect">
            <a:avLst>
              <a:gd name="adj" fmla="val 255"/>
            </a:avLst>
          </a:prstGeom>
          <a:noFill/>
          <a:ln w="36000">
            <a:solidFill>
              <a:srgbClr val="263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61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9180360" y="6659640"/>
            <a:ext cx="900360" cy="900000"/>
          </a:xfrm>
          <a:custGeom>
            <a:avLst/>
            <a:gdLst/>
            <a:ahLst/>
            <a:rect l="l" t="t" r="r" b="b"/>
            <a:pathLst>
              <a:path w="2501" h="2501">
                <a:moveTo>
                  <a:pt x="0" y="2499"/>
                </a:moveTo>
                <a:lnTo>
                  <a:pt x="2499" y="0"/>
                </a:lnTo>
                <a:lnTo>
                  <a:pt x="2500" y="2500"/>
                </a:lnTo>
                <a:lnTo>
                  <a:pt x="0" y="24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10078920" cy="711360"/>
          </a:xfrm>
          <a:prstGeom prst="roundRect">
            <a:avLst>
              <a:gd name="adj" fmla="val 22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20720" y="0"/>
            <a:ext cx="899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268200" y="1079640"/>
            <a:ext cx="9547200" cy="63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9480600" y="6985080"/>
            <a:ext cx="480960" cy="45396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179280" y="101520"/>
            <a:ext cx="457200" cy="438120"/>
          </a:xfrm>
          <a:prstGeom prst="rect">
            <a:avLst/>
          </a:prstGeom>
          <a:ln w="0">
            <a:noFill/>
          </a:ln>
        </p:spPr>
      </p:pic>
      <p:sp>
        <p:nvSpPr>
          <p:cNvPr id="770" name=""/>
          <p:cNvSpPr/>
          <p:nvPr/>
        </p:nvSpPr>
        <p:spPr>
          <a:xfrm rot="21000000">
            <a:off x="9240480" y="7076880"/>
            <a:ext cx="86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4B0BBB-34D9-4701-B553-5F799259ACA3}" type="slidenum">
              <a:rPr b="0" lang="ru-RU" sz="16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" descr=""/>
          <p:cNvPicPr/>
          <p:nvPr/>
        </p:nvPicPr>
        <p:blipFill>
          <a:blip r:embed="rId4"/>
          <a:stretch/>
        </p:blipFill>
        <p:spPr>
          <a:xfrm>
            <a:off x="0" y="4432320"/>
            <a:ext cx="2906640" cy="312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198a8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2"/>
          <a:stretch/>
        </p:blipFill>
        <p:spPr>
          <a:xfrm>
            <a:off x="7462800" y="4829040"/>
            <a:ext cx="2616120" cy="254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2049480"/>
            <a:ext cx="612720" cy="551196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960"/>
              <a:gd name="textAreaBottom" fmla="*/ 5511600 h 5511960"/>
            </a:gdLst>
            <a:ahLst/>
            <a:rect l="textAreaLeft" t="textAreaTop" r="textAreaRight" b="textAreaBottom"/>
            <a:pathLst>
              <a:path w="21600" h="194210">
                <a:moveTo>
                  <a:pt x="55" y="0"/>
                </a:moveTo>
                <a:arcTo wR="55" hR="55" stAng="16200000" swAng="-5400000"/>
                <a:lnTo>
                  <a:pt x="0" y="194155"/>
                </a:lnTo>
                <a:arcTo wR="55" hR="55" stAng="10800000" swAng="-5400000"/>
                <a:lnTo>
                  <a:pt x="21545" y="194210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58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905120"/>
            <a:ext cx="10080720" cy="195120"/>
          </a:xfrm>
          <a:prstGeom prst="roundRect">
            <a:avLst>
              <a:gd name="adj" fmla="val 819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8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0" y="179280"/>
            <a:ext cx="10078920" cy="719280"/>
            <a:chOff x="0" y="179280"/>
            <a:chExt cx="10078920" cy="719280"/>
          </a:xfrm>
        </p:grpSpPr>
        <p:sp>
          <p:nvSpPr>
            <p:cNvPr id="242" name=""/>
            <p:cNvSpPr/>
            <p:nvPr/>
          </p:nvSpPr>
          <p:spPr>
            <a:xfrm>
              <a:off x="0" y="17928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0" y="538920"/>
              <a:ext cx="10077120" cy="0"/>
              <a:chOff x="0" y="538920"/>
              <a:chExt cx="10077120" cy="0"/>
            </a:xfrm>
          </p:grpSpPr>
          <p:sp>
            <p:nvSpPr>
              <p:cNvPr id="245" name=""/>
              <p:cNvSpPr/>
              <p:nvPr/>
            </p:nvSpPr>
            <p:spPr>
              <a:xfrm>
                <a:off x="0" y="5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0" y="719280"/>
              <a:ext cx="10077120" cy="0"/>
              <a:chOff x="0" y="719280"/>
              <a:chExt cx="10077120" cy="0"/>
            </a:xfrm>
          </p:grpSpPr>
          <p:sp>
            <p:nvSpPr>
              <p:cNvPr id="248" name=""/>
              <p:cNvSpPr/>
              <p:nvPr/>
            </p:nvSpPr>
            <p:spPr>
              <a:xfrm>
                <a:off x="0" y="71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0" y="898560"/>
              <a:ext cx="10077120" cy="0"/>
              <a:chOff x="0" y="898560"/>
              <a:chExt cx="10077120" cy="0"/>
            </a:xfrm>
          </p:grpSpPr>
          <p:sp>
            <p:nvSpPr>
              <p:cNvPr id="251" name=""/>
              <p:cNvSpPr/>
              <p:nvPr/>
            </p:nvSpPr>
            <p:spPr>
              <a:xfrm>
                <a:off x="0" y="8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"/>
          <p:cNvGrpSpPr/>
          <p:nvPr/>
        </p:nvGrpSpPr>
        <p:grpSpPr>
          <a:xfrm>
            <a:off x="0" y="1079640"/>
            <a:ext cx="10078920" cy="718920"/>
            <a:chOff x="0" y="1079640"/>
            <a:chExt cx="10078920" cy="718920"/>
          </a:xfrm>
        </p:grpSpPr>
        <p:sp>
          <p:nvSpPr>
            <p:cNvPr id="254" name=""/>
            <p:cNvSpPr/>
            <p:nvPr/>
          </p:nvSpPr>
          <p:spPr>
            <a:xfrm>
              <a:off x="0" y="10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0" y="12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0" y="1438920"/>
              <a:ext cx="10077120" cy="0"/>
              <a:chOff x="0" y="1438920"/>
              <a:chExt cx="10077120" cy="0"/>
            </a:xfrm>
          </p:grpSpPr>
          <p:sp>
            <p:nvSpPr>
              <p:cNvPr id="257" name=""/>
              <p:cNvSpPr/>
              <p:nvPr/>
            </p:nvSpPr>
            <p:spPr>
              <a:xfrm>
                <a:off x="0" y="143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0" y="1617840"/>
              <a:ext cx="10077120" cy="0"/>
              <a:chOff x="0" y="1617840"/>
              <a:chExt cx="10077120" cy="0"/>
            </a:xfrm>
          </p:grpSpPr>
          <p:sp>
            <p:nvSpPr>
              <p:cNvPr id="260" name=""/>
              <p:cNvSpPr/>
              <p:nvPr/>
            </p:nvSpPr>
            <p:spPr>
              <a:xfrm>
                <a:off x="0" y="16178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0" y="1798560"/>
              <a:ext cx="10077120" cy="0"/>
              <a:chOff x="0" y="1798560"/>
              <a:chExt cx="10077120" cy="0"/>
            </a:xfrm>
          </p:grpSpPr>
          <p:sp>
            <p:nvSpPr>
              <p:cNvPr id="263" name=""/>
              <p:cNvSpPr/>
              <p:nvPr/>
            </p:nvSpPr>
            <p:spPr>
              <a:xfrm>
                <a:off x="0" y="179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0" y="1979640"/>
            <a:ext cx="10078920" cy="719280"/>
            <a:chOff x="0" y="1979640"/>
            <a:chExt cx="10078920" cy="719280"/>
          </a:xfrm>
        </p:grpSpPr>
        <p:sp>
          <p:nvSpPr>
            <p:cNvPr id="266" name=""/>
            <p:cNvSpPr/>
            <p:nvPr/>
          </p:nvSpPr>
          <p:spPr>
            <a:xfrm>
              <a:off x="0" y="19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0" y="21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0" y="2339280"/>
              <a:ext cx="10077120" cy="0"/>
              <a:chOff x="0" y="2339280"/>
              <a:chExt cx="10077120" cy="0"/>
            </a:xfrm>
          </p:grpSpPr>
          <p:sp>
            <p:nvSpPr>
              <p:cNvPr id="269" name=""/>
              <p:cNvSpPr/>
              <p:nvPr/>
            </p:nvSpPr>
            <p:spPr>
              <a:xfrm>
                <a:off x="0" y="23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0" y="2518200"/>
              <a:ext cx="10077120" cy="0"/>
              <a:chOff x="0" y="2518200"/>
              <a:chExt cx="10077120" cy="0"/>
            </a:xfrm>
          </p:grpSpPr>
          <p:sp>
            <p:nvSpPr>
              <p:cNvPr id="272" name=""/>
              <p:cNvSpPr/>
              <p:nvPr/>
            </p:nvSpPr>
            <p:spPr>
              <a:xfrm>
                <a:off x="0" y="25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2698920"/>
              <a:ext cx="10077120" cy="0"/>
              <a:chOff x="0" y="2698920"/>
              <a:chExt cx="10077120" cy="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26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0" y="2879640"/>
            <a:ext cx="10078920" cy="719280"/>
            <a:chOff x="0" y="2879640"/>
            <a:chExt cx="10078920" cy="719280"/>
          </a:xfrm>
        </p:grpSpPr>
        <p:sp>
          <p:nvSpPr>
            <p:cNvPr id="278" name=""/>
            <p:cNvSpPr/>
            <p:nvPr/>
          </p:nvSpPr>
          <p:spPr>
            <a:xfrm>
              <a:off x="0" y="287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06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0" y="3239280"/>
              <a:ext cx="10077120" cy="0"/>
              <a:chOff x="0" y="3239280"/>
              <a:chExt cx="10077120" cy="0"/>
            </a:xfrm>
          </p:grpSpPr>
          <p:sp>
            <p:nvSpPr>
              <p:cNvPr id="281" name=""/>
              <p:cNvSpPr/>
              <p:nvPr/>
            </p:nvSpPr>
            <p:spPr>
              <a:xfrm>
                <a:off x="0" y="32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0" y="3418560"/>
              <a:ext cx="10077120" cy="0"/>
              <a:chOff x="0" y="3418560"/>
              <a:chExt cx="10077120" cy="0"/>
            </a:xfrm>
          </p:grpSpPr>
          <p:sp>
            <p:nvSpPr>
              <p:cNvPr id="284" name=""/>
              <p:cNvSpPr/>
              <p:nvPr/>
            </p:nvSpPr>
            <p:spPr>
              <a:xfrm>
                <a:off x="0" y="34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0" y="3598920"/>
              <a:ext cx="10077120" cy="0"/>
              <a:chOff x="0" y="3598920"/>
              <a:chExt cx="10077120" cy="0"/>
            </a:xfrm>
          </p:grpSpPr>
          <p:sp>
            <p:nvSpPr>
              <p:cNvPr id="287" name=""/>
              <p:cNvSpPr/>
              <p:nvPr/>
            </p:nvSpPr>
            <p:spPr>
              <a:xfrm>
                <a:off x="0" y="35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"/>
          <p:cNvGrpSpPr/>
          <p:nvPr/>
        </p:nvGrpSpPr>
        <p:grpSpPr>
          <a:xfrm>
            <a:off x="0" y="3780000"/>
            <a:ext cx="10078920" cy="718920"/>
            <a:chOff x="0" y="3780000"/>
            <a:chExt cx="10078920" cy="718920"/>
          </a:xfrm>
        </p:grpSpPr>
        <p:sp>
          <p:nvSpPr>
            <p:cNvPr id="290" name=""/>
            <p:cNvSpPr/>
            <p:nvPr/>
          </p:nvSpPr>
          <p:spPr>
            <a:xfrm>
              <a:off x="0" y="37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39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0" y="4139280"/>
              <a:ext cx="10077120" cy="0"/>
              <a:chOff x="0" y="4139280"/>
              <a:chExt cx="10077120" cy="0"/>
            </a:xfrm>
          </p:grpSpPr>
          <p:sp>
            <p:nvSpPr>
              <p:cNvPr id="293" name=""/>
              <p:cNvSpPr/>
              <p:nvPr/>
            </p:nvSpPr>
            <p:spPr>
              <a:xfrm>
                <a:off x="0" y="41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0" y="4318200"/>
              <a:ext cx="10077120" cy="0"/>
              <a:chOff x="0" y="4318200"/>
              <a:chExt cx="10077120" cy="0"/>
            </a:xfrm>
          </p:grpSpPr>
          <p:sp>
            <p:nvSpPr>
              <p:cNvPr id="296" name=""/>
              <p:cNvSpPr/>
              <p:nvPr/>
            </p:nvSpPr>
            <p:spPr>
              <a:xfrm>
                <a:off x="0" y="43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0" y="4498920"/>
              <a:ext cx="10077120" cy="0"/>
              <a:chOff x="0" y="4498920"/>
              <a:chExt cx="10077120" cy="0"/>
            </a:xfrm>
          </p:grpSpPr>
          <p:sp>
            <p:nvSpPr>
              <p:cNvPr id="299" name=""/>
              <p:cNvSpPr/>
              <p:nvPr/>
            </p:nvSpPr>
            <p:spPr>
              <a:xfrm>
                <a:off x="0" y="44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0" y="4680000"/>
            <a:ext cx="10078920" cy="718920"/>
            <a:chOff x="0" y="4680000"/>
            <a:chExt cx="10078920" cy="718920"/>
          </a:xfrm>
        </p:grpSpPr>
        <p:sp>
          <p:nvSpPr>
            <p:cNvPr id="302" name=""/>
            <p:cNvSpPr/>
            <p:nvPr/>
          </p:nvSpPr>
          <p:spPr>
            <a:xfrm>
              <a:off x="0" y="46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0" y="485856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0" y="5039280"/>
              <a:ext cx="10077120" cy="0"/>
              <a:chOff x="0" y="5039280"/>
              <a:chExt cx="10077120" cy="0"/>
            </a:xfrm>
          </p:grpSpPr>
          <p:sp>
            <p:nvSpPr>
              <p:cNvPr id="305" name=""/>
              <p:cNvSpPr/>
              <p:nvPr/>
            </p:nvSpPr>
            <p:spPr>
              <a:xfrm>
                <a:off x="0" y="503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0" y="5218200"/>
              <a:ext cx="10077120" cy="0"/>
              <a:chOff x="0" y="5218200"/>
              <a:chExt cx="10077120" cy="0"/>
            </a:xfrm>
          </p:grpSpPr>
          <p:sp>
            <p:nvSpPr>
              <p:cNvPr id="308" name=""/>
              <p:cNvSpPr/>
              <p:nvPr/>
            </p:nvSpPr>
            <p:spPr>
              <a:xfrm>
                <a:off x="0" y="52182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0" y="5398920"/>
              <a:ext cx="10077120" cy="0"/>
              <a:chOff x="0" y="5398920"/>
              <a:chExt cx="10077120" cy="0"/>
            </a:xfrm>
          </p:grpSpPr>
          <p:sp>
            <p:nvSpPr>
              <p:cNvPr id="311" name=""/>
              <p:cNvSpPr/>
              <p:nvPr/>
            </p:nvSpPr>
            <p:spPr>
              <a:xfrm>
                <a:off x="0" y="539892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3" name=""/>
          <p:cNvGrpSpPr/>
          <p:nvPr/>
        </p:nvGrpSpPr>
        <p:grpSpPr>
          <a:xfrm>
            <a:off x="0" y="5580000"/>
            <a:ext cx="10078920" cy="719280"/>
            <a:chOff x="0" y="5580000"/>
            <a:chExt cx="10078920" cy="719280"/>
          </a:xfrm>
        </p:grpSpPr>
        <p:sp>
          <p:nvSpPr>
            <p:cNvPr id="314" name=""/>
            <p:cNvSpPr/>
            <p:nvPr/>
          </p:nvSpPr>
          <p:spPr>
            <a:xfrm>
              <a:off x="0" y="55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575892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0" y="5939640"/>
              <a:ext cx="10077120" cy="0"/>
              <a:chOff x="0" y="5939640"/>
              <a:chExt cx="10077120" cy="0"/>
            </a:xfrm>
          </p:grpSpPr>
          <p:sp>
            <p:nvSpPr>
              <p:cNvPr id="317" name=""/>
              <p:cNvSpPr/>
              <p:nvPr/>
            </p:nvSpPr>
            <p:spPr>
              <a:xfrm>
                <a:off x="0" y="593964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0" y="6118560"/>
              <a:ext cx="10077120" cy="0"/>
              <a:chOff x="0" y="6118560"/>
              <a:chExt cx="10077120" cy="0"/>
            </a:xfrm>
          </p:grpSpPr>
          <p:sp>
            <p:nvSpPr>
              <p:cNvPr id="320" name=""/>
              <p:cNvSpPr/>
              <p:nvPr/>
            </p:nvSpPr>
            <p:spPr>
              <a:xfrm>
                <a:off x="0" y="61185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0" y="6299280"/>
              <a:ext cx="10077120" cy="0"/>
              <a:chOff x="0" y="6299280"/>
              <a:chExt cx="10077120" cy="0"/>
            </a:xfrm>
          </p:grpSpPr>
          <p:sp>
            <p:nvSpPr>
              <p:cNvPr id="323" name=""/>
              <p:cNvSpPr/>
              <p:nvPr/>
            </p:nvSpPr>
            <p:spPr>
              <a:xfrm>
                <a:off x="0" y="62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"/>
          <p:cNvGrpSpPr/>
          <p:nvPr/>
        </p:nvGrpSpPr>
        <p:grpSpPr>
          <a:xfrm>
            <a:off x="0" y="6480000"/>
            <a:ext cx="10078920" cy="719280"/>
            <a:chOff x="0" y="6480000"/>
            <a:chExt cx="10078920" cy="719280"/>
          </a:xfrm>
        </p:grpSpPr>
        <p:sp>
          <p:nvSpPr>
            <p:cNvPr id="326" name=""/>
            <p:cNvSpPr/>
            <p:nvPr/>
          </p:nvSpPr>
          <p:spPr>
            <a:xfrm>
              <a:off x="0" y="648000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0" y="6659640"/>
              <a:ext cx="10078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0" y="6840360"/>
              <a:ext cx="10077120" cy="0"/>
              <a:chOff x="0" y="6840360"/>
              <a:chExt cx="10077120" cy="0"/>
            </a:xfrm>
          </p:grpSpPr>
          <p:sp>
            <p:nvSpPr>
              <p:cNvPr id="329" name=""/>
              <p:cNvSpPr/>
              <p:nvPr/>
            </p:nvSpPr>
            <p:spPr>
              <a:xfrm>
                <a:off x="0" y="684036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0" y="7020000"/>
              <a:ext cx="10077120" cy="0"/>
              <a:chOff x="0" y="7020000"/>
              <a:chExt cx="10077120" cy="0"/>
            </a:xfrm>
          </p:grpSpPr>
          <p:sp>
            <p:nvSpPr>
              <p:cNvPr id="332" name=""/>
              <p:cNvSpPr/>
              <p:nvPr/>
            </p:nvSpPr>
            <p:spPr>
              <a:xfrm>
                <a:off x="0" y="702000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0" y="7199280"/>
              <a:ext cx="10077120" cy="0"/>
              <a:chOff x="0" y="7199280"/>
              <a:chExt cx="10077120" cy="0"/>
            </a:xfrm>
          </p:grpSpPr>
          <p:sp>
            <p:nvSpPr>
              <p:cNvPr id="335" name=""/>
              <p:cNvSpPr/>
              <p:nvPr/>
            </p:nvSpPr>
            <p:spPr>
              <a:xfrm>
                <a:off x="0" y="7199280"/>
                <a:ext cx="100771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0" y="0"/>
                <a:ext cx="0" cy="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-15120" anchor="ctr" anchorCtr="1">
                <a:no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  <a:ea typeface="Lucida Sans Unicode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41076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>
            <a:off x="0" y="7380360"/>
            <a:ext cx="1008072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69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9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9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7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47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0177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87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57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71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97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66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36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206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374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544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147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884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054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241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394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9020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071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41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118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81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51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212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91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61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0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990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69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8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088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278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448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618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788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958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128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96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46604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6359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058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9754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14536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3152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4852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6551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82324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99316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16308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33300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502920" y="0"/>
            <a:ext cx="144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7248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84240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012320" y="0"/>
            <a:ext cx="1800" cy="7559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03280" y="5580000"/>
            <a:ext cx="301320" cy="280800"/>
            <a:chOff x="503280" y="5580000"/>
            <a:chExt cx="301320" cy="280800"/>
          </a:xfrm>
        </p:grpSpPr>
        <p:sp>
          <p:nvSpPr>
            <p:cNvPr id="398" name=""/>
            <p:cNvSpPr/>
            <p:nvPr/>
          </p:nvSpPr>
          <p:spPr>
            <a:xfrm>
              <a:off x="503280" y="5595840"/>
              <a:ext cx="284400" cy="2649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0200" y="5580000"/>
              <a:ext cx="284400" cy="2649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03280" y="1717560"/>
            <a:ext cx="301320" cy="281160"/>
            <a:chOff x="503280" y="1717560"/>
            <a:chExt cx="301320" cy="281160"/>
          </a:xfrm>
        </p:grpSpPr>
        <p:sp>
          <p:nvSpPr>
            <p:cNvPr id="401" name=""/>
            <p:cNvSpPr/>
            <p:nvPr/>
          </p:nvSpPr>
          <p:spPr>
            <a:xfrm>
              <a:off x="503280" y="1735200"/>
              <a:ext cx="284400" cy="2635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0200" y="1717560"/>
              <a:ext cx="284400" cy="26352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2960" y="128520"/>
            <a:ext cx="1800" cy="204156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7600" y="363600"/>
            <a:ext cx="204300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0280" y="157320"/>
            <a:ext cx="1440" cy="60768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8240" y="500040"/>
            <a:ext cx="608040" cy="1440"/>
          </a:xfrm>
          <a:prstGeom prst="line">
            <a:avLst/>
          </a:prstGeom>
          <a:ln w="36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397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73844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25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092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7908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8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561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35140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9768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9292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54056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9760" y="0"/>
            <a:ext cx="144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78832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9485280" y="0"/>
            <a:ext cx="1800" cy="7559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0" y="5983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2859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08116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8612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6226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32108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496872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5646600"/>
            <a:ext cx="1008072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624528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6923160"/>
            <a:ext cx="1008072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5219640" cy="1017720"/>
          </a:xfrm>
          <a:custGeom>
            <a:avLst/>
            <a:gdLst/>
            <a:ahLst/>
            <a:rect l="l" t="t" r="r" b="b"/>
            <a:pathLst>
              <a:path w="14498" h="2828">
                <a:moveTo>
                  <a:pt x="0" y="0"/>
                </a:moveTo>
                <a:lnTo>
                  <a:pt x="0" y="1236"/>
                </a:lnTo>
                <a:lnTo>
                  <a:pt x="706" y="1631"/>
                </a:lnTo>
                <a:lnTo>
                  <a:pt x="1407" y="1935"/>
                </a:lnTo>
                <a:lnTo>
                  <a:pt x="2157" y="2197"/>
                </a:lnTo>
                <a:lnTo>
                  <a:pt x="2943" y="2418"/>
                </a:lnTo>
                <a:lnTo>
                  <a:pt x="3767" y="2593"/>
                </a:lnTo>
                <a:lnTo>
                  <a:pt x="4625" y="2721"/>
                </a:lnTo>
                <a:lnTo>
                  <a:pt x="5510" y="2801"/>
                </a:lnTo>
                <a:lnTo>
                  <a:pt x="6417" y="2827"/>
                </a:lnTo>
                <a:lnTo>
                  <a:pt x="7329" y="2801"/>
                </a:lnTo>
                <a:lnTo>
                  <a:pt x="8215" y="2721"/>
                </a:lnTo>
                <a:lnTo>
                  <a:pt x="9072" y="2593"/>
                </a:lnTo>
                <a:lnTo>
                  <a:pt x="9895" y="2418"/>
                </a:lnTo>
                <a:lnTo>
                  <a:pt x="10684" y="2197"/>
                </a:lnTo>
                <a:lnTo>
                  <a:pt x="11432" y="1935"/>
                </a:lnTo>
                <a:lnTo>
                  <a:pt x="12136" y="1631"/>
                </a:lnTo>
                <a:lnTo>
                  <a:pt x="12788" y="1293"/>
                </a:lnTo>
                <a:lnTo>
                  <a:pt x="13392" y="920"/>
                </a:lnTo>
                <a:lnTo>
                  <a:pt x="13940" y="513"/>
                </a:lnTo>
                <a:lnTo>
                  <a:pt x="14429" y="78"/>
                </a:lnTo>
                <a:lnTo>
                  <a:pt x="1449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5402160"/>
            <a:ext cx="10080720" cy="2157480"/>
          </a:xfrm>
          <a:prstGeom prst="roundRect">
            <a:avLst>
              <a:gd name="adj" fmla="val 69"/>
            </a:avLst>
          </a:prstGeom>
          <a:gradFill rotWithShape="0">
            <a:gsLst>
              <a:gs pos="0">
                <a:srgbClr val="0047ff"/>
              </a:gs>
              <a:gs pos="100000">
                <a:srgbClr val="000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33480" y="6459480"/>
            <a:ext cx="5240520" cy="1101960"/>
          </a:xfrm>
          <a:custGeom>
            <a:avLst/>
            <a:gdLst/>
            <a:ahLst/>
            <a:rect l="l" t="t" r="r" b="b"/>
            <a:pathLst>
              <a:path w="14555" h="3060">
                <a:moveTo>
                  <a:pt x="93" y="3059"/>
                </a:moveTo>
                <a:lnTo>
                  <a:pt x="93" y="2102"/>
                </a:lnTo>
                <a:lnTo>
                  <a:pt x="0" y="2065"/>
                </a:lnTo>
                <a:lnTo>
                  <a:pt x="586" y="1659"/>
                </a:lnTo>
                <a:lnTo>
                  <a:pt x="1219" y="1291"/>
                </a:lnTo>
                <a:lnTo>
                  <a:pt x="1898" y="964"/>
                </a:lnTo>
                <a:lnTo>
                  <a:pt x="2620" y="680"/>
                </a:lnTo>
                <a:lnTo>
                  <a:pt x="3383" y="441"/>
                </a:lnTo>
                <a:lnTo>
                  <a:pt x="4180" y="252"/>
                </a:lnTo>
                <a:lnTo>
                  <a:pt x="5008" y="112"/>
                </a:lnTo>
                <a:lnTo>
                  <a:pt x="5864" y="29"/>
                </a:lnTo>
                <a:lnTo>
                  <a:pt x="6745" y="0"/>
                </a:lnTo>
                <a:lnTo>
                  <a:pt x="7625" y="29"/>
                </a:lnTo>
                <a:lnTo>
                  <a:pt x="8479" y="112"/>
                </a:lnTo>
                <a:lnTo>
                  <a:pt x="9308" y="252"/>
                </a:lnTo>
                <a:lnTo>
                  <a:pt x="10104" y="441"/>
                </a:lnTo>
                <a:lnTo>
                  <a:pt x="10868" y="680"/>
                </a:lnTo>
                <a:lnTo>
                  <a:pt x="11590" y="964"/>
                </a:lnTo>
                <a:lnTo>
                  <a:pt x="12269" y="1291"/>
                </a:lnTo>
                <a:lnTo>
                  <a:pt x="12902" y="1659"/>
                </a:lnTo>
                <a:lnTo>
                  <a:pt x="13487" y="2065"/>
                </a:lnTo>
                <a:lnTo>
                  <a:pt x="14018" y="2504"/>
                </a:lnTo>
                <a:lnTo>
                  <a:pt x="14489" y="2976"/>
                </a:lnTo>
                <a:lnTo>
                  <a:pt x="14554" y="3059"/>
                </a:lnTo>
                <a:lnTo>
                  <a:pt x="93" y="3059"/>
                </a:lnTo>
              </a:path>
            </a:pathLst>
          </a:custGeom>
          <a:gradFill rotWithShape="0">
            <a:gsLst>
              <a:gs pos="0">
                <a:srgbClr val="2300dc"/>
              </a:gs>
              <a:gs pos="100000">
                <a:srgbClr val="000080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74088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700" spc="-1" strike="noStrike">
                <a:solidFill>
                  <a:srgbClr val="e6e6ff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e6e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8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31680" y="287820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17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6600" spc="-1" strike="noStrike">
                <a:solidFill>
                  <a:srgbClr val="6b0094"/>
                </a:solidFill>
                <a:latin typeface="Georgia"/>
              </a:rPr>
              <a:t>Жүрек жылуы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720720" y="4680000"/>
            <a:ext cx="2521080" cy="245736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2"/>
          <a:stretch/>
        </p:blipFill>
        <p:spPr>
          <a:xfrm>
            <a:off x="6372360" y="98280"/>
            <a:ext cx="316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752400" y="305748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5c8526"/>
                </a:solidFill>
                <a:latin typeface="Tahoma"/>
              </a:rPr>
              <a:t>«Сен, мен және бәріміз» әнімен аяқта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5c8526"/>
                </a:solidFill>
                <a:latin typeface="Tahoma"/>
              </a:rPr>
              <a:t>Мақсаты</a:t>
            </a: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дың жаңа ортаға   бейімделуі,   бір-бірімен өзара қарым-қатынас жасауға көмектесу, жағымды хал-ахуал қалыптастыру. Балалардың  өзін-өзі тануды дамытуға жағдай жасау, бағалау және өз-өзіне сенімділіктерін арттыру, топты ынтымақтастыру, біріктіру  бағытында  жұмыстану. 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Жылулық сезіну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ке қатысушы оқушылар шеңбер құрып тұрады да,  жұмсақ ойыншықты жылжыту арқылы көршісіне жылы лебіз, тілек білдіру ұсынылады, нәтижесінде тыңдаушы алғысын білдіреді. Бәрі қолдарынан ұстап жылулық сыйлайды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ктеп жолдары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600" spc="-1" strike="noStrike">
                <a:solidFill>
                  <a:srgbClr val="198a8a"/>
                </a:solidFill>
                <a:latin typeface="Times New Roman"/>
              </a:rPr>
              <a:t>Тақтада  немесе шеңбердің ортасында «Мектеп жолдары» суреті жапсырылады. Оқушыларға сөйлемді аяқтау ұсынылады: «Бастауыш сыныпта менің есімде қалған...........», «Бесінші сыныпта маған.......». Барлығы шеңбер бойымен бір-біріне доп немесе жұмсақ ойыншықты кезекпен беру арқылы пікірлесіп айтады. Жүргізуші  қызықты пікірлерге мән беріп, барлық оқушылардың мектептегі тәжірибесіне көңіл аударады. Жүргізуші оқушылардан 5-ші сыныпқа ауысқанда мектеп өмірінде қандай жаңа өзгерістер кездескені жөнінде әңгімелеп беруді ұсынады.</a:t>
            </a:r>
            <a:endParaRPr b="0" lang="en-US" sz="2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41240" y="541080"/>
            <a:ext cx="8607600" cy="14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Кім нені  жақсы көреді?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Тәттіні жақсы көретіндер бір қадам алға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мысықтары барлар оң қолдарын көтереді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футболды жақсы көретіндер тізерлеп  отырады,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сурет салғанды ұнататындар шапалақ ұрады, 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- 5 сынып оқушылары солар қолдарынан ұстасады. 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    </a:t>
            </a:r>
            <a:r>
              <a:rPr b="0" lang="kk-KZ" sz="2800" spc="-1" strike="noStrike">
                <a:solidFill>
                  <a:srgbClr val="198a8a"/>
                </a:solidFill>
                <a:latin typeface="Times New Roman"/>
              </a:rPr>
              <a:t>Жүргізуші оқушыларды  біріктіретін нәрселер көп екінін айтып түсіндіреді.</a:t>
            </a:r>
            <a:endParaRPr b="0" lang="en-US" sz="28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741240" y="582120"/>
            <a:ext cx="8607600" cy="13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Менің ең жақсы қасиеттерім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741240" y="2101680"/>
            <a:ext cx="860760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2400" spc="-1" strike="noStrike">
                <a:solidFill>
                  <a:srgbClr val="198a8a"/>
                </a:solidFill>
                <a:latin typeface="Times New Roman"/>
              </a:rPr>
              <a:t>Нұсқау</a:t>
            </a: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1. Бұл бағанға өз  мінезіңіздің ең жақсы ерекшеліктерін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2. Мақтан ететін әр түрлі  қабілеттері мен таланттары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2400" spc="-1" strike="noStrike">
                <a:solidFill>
                  <a:srgbClr val="198a8a"/>
                </a:solidFill>
                <a:latin typeface="Times New Roman"/>
              </a:rPr>
              <a:t>3. Бұл бағанға өмірдің  әр саласында жеткен жетістіктері  туралы айту.</a:t>
            </a: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198a8a"/>
              </a:solidFill>
              <a:latin typeface="Times New Roman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854360" y="2378160"/>
          <a:ext cx="6384600" cy="1222200"/>
        </p:xfrm>
        <a:graphic>
          <a:graphicData uri="http://schemas.openxmlformats.org/drawingml/2006/table">
            <a:tbl>
              <a:tblPr/>
              <a:tblGrid>
                <a:gridCol w="2078640"/>
                <a:gridCol w="2152080"/>
                <a:gridCol w="2153880"/>
              </a:tblGrid>
              <a:tr h="124488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ең жақсы нышанд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қабілеттерім мен таланттар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79132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ің жетістіктері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aec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Айсберг» жаттығ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8607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өздерін мұздың үстінде тұрғандай сезінулері керек. Мұз еріген сайын бір-бірін құлатпай,  сол кішкентай мұзға барлығы сыйысып тұрулары кере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Қандай сезімде болдыңдар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   </a:t>
            </a: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імге ыңғайсыз, қолайсыз болды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da647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71520" y="360360"/>
            <a:ext cx="91692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4400" spc="-1" strike="noStrike">
                <a:solidFill>
                  <a:srgbClr val="5c8526"/>
                </a:solidFill>
                <a:latin typeface="Tahoma"/>
              </a:rPr>
              <a:t>«Біздің топ жүрегі» жаттығу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78920" y="1618920"/>
            <a:ext cx="972036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 fontScale="97000"/>
          </a:bodyPr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Оқушылар жаңа бүршік жарған ағашымызға өзіміздің жүрек жылуымызды бере отырып,  оның жайқалып, құлпырып өсуіне көмек берейік. Осы тренингте алған әсерлерімізді ортаға салып, өз жылы лебіз, тілектеріңізді жазып  ілейік.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kk-KZ" sz="3600" spc="-1" strike="noStrike">
                <a:solidFill>
                  <a:srgbClr val="198a8a"/>
                </a:solidFill>
                <a:latin typeface="Times New Roman"/>
              </a:rPr>
              <a:t>Талдау: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Тренинг кезінде алған әсеріңіз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Мектепке, сыныпқа деген 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  <a:p>
            <a:pPr marL="332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kk-KZ" sz="3600" spc="-1" strike="noStrike">
                <a:solidFill>
                  <a:srgbClr val="198a8a"/>
                </a:solidFill>
                <a:latin typeface="Times New Roman"/>
              </a:rPr>
              <a:t>көзқарасыңыз қандай?</a:t>
            </a:r>
            <a:endParaRPr b="0" lang="en-US" sz="3600" spc="-1" strike="noStrike">
              <a:solidFill>
                <a:srgbClr val="198a8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08:27:06Z</dcterms:created>
  <dc:creator/>
  <dc:description/>
  <dc:language>en-US</dc:language>
  <cp:lastModifiedBy>Customer</cp:lastModifiedBy>
  <dcterms:modified xsi:type="dcterms:W3CDTF">2012-09-07T10:37:23Z</dcterms:modified>
  <cp:revision>2</cp:revision>
  <dc:subject/>
  <dc:title>Жүрек жылуы</dc:title>
</cp:coreProperties>
</file>