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4DF-A1EB-46D2-A76F-87EDF75C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276-0BF1-48B1-88E2-7E8EC2A5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1BD5-D4CF-40ED-A42F-34302549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12E-8A7F-4559-83D3-7C5C06015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749F-3255-49E9-AF82-B78A5644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D4EB-89C2-401A-881C-A4E231C9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1136-B93E-4ADA-A90B-24823A8D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BC50-0DC7-43CA-ACB5-40475951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89E08-66DA-4CD4-AA95-1F670C27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26FB-3242-46CE-AECA-A53C27C2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F5CC-37AB-437A-BF56-A971839D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B071-2365-42DB-A9BD-A8651D07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8488-C3FB-4D2F-88A3-BD09CB01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D0E0-C335-4CD4-A5C1-B3EE16B7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40BD1-410B-4A34-9186-455EFAA6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EBF4-3AB1-4357-95DF-7459EABF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35C4-BCFF-4D10-9ADB-FC624FB5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8374-4B96-42F4-820E-866A489C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B8FE-128A-4C3A-8211-A2E275FE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C25-F102-42F3-A2F5-036C8EC2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189F-4DA1-494E-AB13-63A222D1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A8D3-67ED-4A86-BD09-41C0E43C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4D39-8B90-4985-8193-76B33597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B21-0218-4506-83E6-7F5641E0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DB41-8F16-4301-9CC9-AA42BAB9583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751C-2F9D-4C6F-AA8B-FF8ABB18254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3366"/>
                </a:solidFill>
                <a:latin typeface="Arial"/>
              </a:rPr>
              <a:t>Қызықты саяхат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Интеллектуальдық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kk-KZ" sz="2800" spc="-1" strike="noStrike">
                <a:solidFill>
                  <a:srgbClr val="006666"/>
                </a:solidFill>
                <a:latin typeface="Arial"/>
              </a:rPr>
              <a:t>ой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TN01164_"/>
          <p:cNvPicPr/>
          <p:nvPr/>
        </p:nvPicPr>
        <p:blipFill>
          <a:blip r:embed="rId1"/>
          <a:stretch/>
        </p:blipFill>
        <p:spPr>
          <a:xfrm>
            <a:off x="5292720" y="2411280"/>
            <a:ext cx="2374920" cy="1195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WB01330_"/>
          <p:cNvPicPr/>
          <p:nvPr/>
        </p:nvPicPr>
        <p:blipFill>
          <a:blip r:embed="rId2"/>
          <a:stretch/>
        </p:blipFill>
        <p:spPr>
          <a:xfrm>
            <a:off x="395280" y="3284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WB01330_"/>
          <p:cNvPicPr/>
          <p:nvPr/>
        </p:nvPicPr>
        <p:blipFill>
          <a:blip r:embed="rId3"/>
          <a:stretch/>
        </p:blipFill>
        <p:spPr>
          <a:xfrm>
            <a:off x="1835280" y="4221000"/>
            <a:ext cx="1511280" cy="151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N00011_"/>
          <p:cNvPicPr/>
          <p:nvPr/>
        </p:nvPicPr>
        <p:blipFill>
          <a:blip r:embed="rId4"/>
          <a:stretch/>
        </p:blipFill>
        <p:spPr>
          <a:xfrm>
            <a:off x="5364000" y="5229360"/>
            <a:ext cx="19116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Зеректер ел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Жердің су қабығ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Хан батыры атағын алған батыр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үркі тайпаларының басшыс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Өсімдік және жануар жасушасында кездесетін органои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былайдың лақап ат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Тірі ағзаларға қажетті газ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Қазақстандағы ең биік тау шыңы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Дүние жүзіндегі ең ұзын өзен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Алғашқы көмекке пайдаланылатын бейметалл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10" descr="TR00232_"/>
          <p:cNvPicPr/>
          <p:nvPr/>
        </p:nvPicPr>
        <p:blipFill>
          <a:blip r:embed="rId1"/>
          <a:stretch/>
        </p:blipFill>
        <p:spPr>
          <a:xfrm>
            <a:off x="6300720" y="136440"/>
            <a:ext cx="2087640" cy="1028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1331640" y="5875920"/>
            <a:ext cx="473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3366"/>
                </a:solidFill>
                <a:latin typeface="Arial"/>
              </a:rPr>
              <a:t>Көлемі жағынан ең үлкен мұхи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5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5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5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Тіл өнері”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аман елді былғайды, ---- жаман төрді былғайды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Құлагер шешең сұңқар,әкең тұлпар,Соғып ең дөненіңде ---- арқар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Кестенің сыры түрінде,--- сыры түгінде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узы жесе –--- ұяла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Ел аш болса,тоқпын дегенің -----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SL00256_"/>
          <p:cNvPicPr/>
          <p:nvPr/>
        </p:nvPicPr>
        <p:blipFill>
          <a:blip r:embed="rId1"/>
          <a:stretch/>
        </p:blipFill>
        <p:spPr>
          <a:xfrm>
            <a:off x="6659640" y="333360"/>
            <a:ext cx="216036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6666"/>
                </a:solidFill>
                <a:latin typeface="Arial"/>
              </a:rPr>
              <a:t>Аялдама “Жаратылыс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шимпанзе ә)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горил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52640" y="2781000"/>
            <a:ext cx="407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зебра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 керік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атлас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шартты 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363920" y="4149360"/>
            <a:ext cx="356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құрбақ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кесірт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148280" y="5299920"/>
            <a:ext cx="44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өмірқышқыл газы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ә) с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866120" y="47235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А)ізбес  </a:t>
            </a: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ә)құ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083560" y="5804640"/>
            <a:ext cx="30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темір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 алты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979560" y="371556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 u="sng">
                <a:solidFill>
                  <a:srgbClr val="003366"/>
                </a:solidFill>
                <a:uFillTx/>
                <a:latin typeface="Arial"/>
              </a:rPr>
              <a:t>А)карта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ә)белг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10" descr="NA01069_"/>
          <p:cNvPicPr/>
          <p:nvPr/>
        </p:nvPicPr>
        <p:blipFill>
          <a:blip r:embed="rId1"/>
          <a:stretch/>
        </p:blipFill>
        <p:spPr>
          <a:xfrm>
            <a:off x="6156360" y="2565360"/>
            <a:ext cx="1871640" cy="13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NA01069_"/>
          <p:cNvPicPr/>
          <p:nvPr/>
        </p:nvPicPr>
        <p:blipFill>
          <a:blip r:embed="rId2"/>
          <a:stretch/>
        </p:blipFill>
        <p:spPr>
          <a:xfrm>
            <a:off x="1258920" y="4508640"/>
            <a:ext cx="2232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ff0066"/>
                </a:solidFill>
                <a:latin typeface="Arial"/>
              </a:rPr>
              <a:t>Аялдама “Суретшілер”ел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берілген суретке тиісті затты тауып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kk-KZ" sz="2800" spc="-1" strike="noStrike">
                <a:solidFill>
                  <a:srgbClr val="003366"/>
                </a:solidFill>
                <a:latin typeface="Arial"/>
              </a:rPr>
              <a:t>суретін сал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7" descr="WB01219_"/>
          <p:cNvPicPr/>
          <p:nvPr/>
        </p:nvPicPr>
        <p:blipFill>
          <a:blip r:embed="rId1"/>
          <a:stretch/>
        </p:blipFill>
        <p:spPr>
          <a:xfrm>
            <a:off x="1258920" y="3429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WB01299_"/>
          <p:cNvPicPr/>
          <p:nvPr/>
        </p:nvPicPr>
        <p:blipFill>
          <a:blip r:embed="rId2"/>
          <a:stretch/>
        </p:blipFill>
        <p:spPr>
          <a:xfrm>
            <a:off x="4859280" y="3357720"/>
            <a:ext cx="1224000" cy="1223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FD00775_"/>
          <p:cNvPicPr/>
          <p:nvPr/>
        </p:nvPicPr>
        <p:blipFill>
          <a:blip r:embed="rId3"/>
          <a:stretch/>
        </p:blipFill>
        <p:spPr>
          <a:xfrm>
            <a:off x="7164360" y="342900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J0295069"/>
          <p:cNvPicPr/>
          <p:nvPr/>
        </p:nvPicPr>
        <p:blipFill>
          <a:blip r:embed="rId4"/>
          <a:stretch/>
        </p:blipFill>
        <p:spPr>
          <a:xfrm>
            <a:off x="4643280" y="260280"/>
            <a:ext cx="1182960" cy="85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NA01356_"/>
          <p:cNvPicPr/>
          <p:nvPr/>
        </p:nvPicPr>
        <p:blipFill>
          <a:blip r:embed="rId5"/>
          <a:stretch/>
        </p:blipFill>
        <p:spPr>
          <a:xfrm>
            <a:off x="3348000" y="4149720"/>
            <a:ext cx="1000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7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6" name="Picture 4" descr="WB01219_"/>
          <p:cNvPicPr/>
          <p:nvPr/>
        </p:nvPicPr>
        <p:blipFill>
          <a:blip r:embed="rId1"/>
          <a:stretch/>
        </p:blipFill>
        <p:spPr>
          <a:xfrm>
            <a:off x="3059280" y="2997360"/>
            <a:ext cx="1439640" cy="143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SY00170_"/>
          <p:cNvPicPr/>
          <p:nvPr/>
        </p:nvPicPr>
        <p:blipFill>
          <a:blip r:embed="rId2"/>
          <a:stretch/>
        </p:blipFill>
        <p:spPr>
          <a:xfrm>
            <a:off x="5508720" y="493560"/>
            <a:ext cx="194292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6" descr="J0295069"/>
          <p:cNvPicPr/>
          <p:nvPr/>
        </p:nvPicPr>
        <p:blipFill>
          <a:blip r:embed="rId1"/>
          <a:stretch/>
        </p:blipFill>
        <p:spPr>
          <a:xfrm>
            <a:off x="4067280" y="692280"/>
            <a:ext cx="1492200" cy="1073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NA01356_"/>
          <p:cNvPicPr/>
          <p:nvPr/>
        </p:nvPicPr>
        <p:blipFill>
          <a:blip r:embed="rId2"/>
          <a:stretch/>
        </p:blipFill>
        <p:spPr>
          <a:xfrm>
            <a:off x="5435640" y="3213000"/>
            <a:ext cx="1333440" cy="1727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Y00170_"/>
          <p:cNvPicPr/>
          <p:nvPr/>
        </p:nvPicPr>
        <p:blipFill>
          <a:blip r:embed="rId3"/>
          <a:stretch/>
        </p:blipFill>
        <p:spPr>
          <a:xfrm>
            <a:off x="4051440" y="3106800"/>
            <a:ext cx="103968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3" name="Picture 5" descr="WB01299_"/>
          <p:cNvPicPr/>
          <p:nvPr/>
        </p:nvPicPr>
        <p:blipFill>
          <a:blip r:embed="rId1"/>
          <a:stretch/>
        </p:blipFill>
        <p:spPr>
          <a:xfrm>
            <a:off x="5580000" y="321300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SY00170_"/>
          <p:cNvPicPr/>
          <p:nvPr/>
        </p:nvPicPr>
        <p:blipFill>
          <a:blip r:embed="rId2"/>
          <a:stretch/>
        </p:blipFill>
        <p:spPr>
          <a:xfrm>
            <a:off x="5003640" y="187200"/>
            <a:ext cx="2089440" cy="12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6666"/>
                </a:solidFill>
                <a:latin typeface="Arial"/>
              </a:rPr>
              <a:t>суретшілер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6" name="Picture 4" descr="FD00775_"/>
          <p:cNvPicPr/>
          <p:nvPr/>
        </p:nvPicPr>
        <p:blipFill>
          <a:blip r:embed="rId1"/>
          <a:stretch/>
        </p:blipFill>
        <p:spPr>
          <a:xfrm>
            <a:off x="1835280" y="2781360"/>
            <a:ext cx="1666800" cy="208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J0295069"/>
          <p:cNvPicPr/>
          <p:nvPr/>
        </p:nvPicPr>
        <p:blipFill>
          <a:blip r:embed="rId2"/>
          <a:stretch/>
        </p:blipFill>
        <p:spPr>
          <a:xfrm>
            <a:off x="4356000" y="476280"/>
            <a:ext cx="1830600" cy="131616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1659240" y="5072040"/>
            <a:ext cx="503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Өміржанова Сайран Еспайқыз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Қостанай  облысы, Рудный  қалас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№</a:t>
            </a:r>
            <a:r>
              <a:rPr b="0" lang="kk-KZ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5 орта мектебінің  биология  пәнінің  мұғалім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7:37:36Z</dcterms:created>
  <dc:creator>Сайран</dc:creator>
  <dc:description/>
  <dc:language>en-US</dc:language>
  <cp:lastModifiedBy> </cp:lastModifiedBy>
  <dcterms:modified xsi:type="dcterms:W3CDTF">2012-11-12T05:15:56Z</dcterms:modified>
  <cp:revision>3</cp:revision>
  <dc:subject/>
  <dc:title>Ќызыќты саях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