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5727-C743-4062-AFF3-40AB76B42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3A16-D177-4298-A312-DF653635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890B-ED1A-4F02-8C0C-DB90D1FD9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85CE-D678-4AB6-A7C3-87600DF65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99CD-AA3C-4F43-80D6-B46BB4B32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B48C-BEF8-4757-8CA0-DE4E4C29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1733-6A24-4A55-84B4-30FA6813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5594E-B018-4561-8996-B1885305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172D-C312-4ED7-BCE5-A7C49084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E3E9-4717-42E1-96BE-CC46A18C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7FA3-A4C2-4ACE-BFA4-4323027B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B7C8-1A54-4683-8A53-1C4B983F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9D81A-D743-44DE-A4DD-2ADDF054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A584-7543-4E60-B605-0217834E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99AE-E438-49C2-AAE8-99E69D04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CE3D-110D-46A3-9DF4-5B1563F7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4B01-13A2-4CA3-A5C9-6550E6817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DF24-B761-4AD9-83B2-A04333DB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75D8-643B-4BE7-956C-475E53C8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AD5A-39A4-4C06-9F95-75C6115F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504B-B562-4797-9E4A-631CD744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8C3A-2255-49EB-8864-7DFF1AF0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A06D-F892-4081-B9D3-3066BF51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B59D-5F56-4ADA-9B23-7ADFD36D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014D-F4FC-4728-8C6B-132E2436E44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08E5-66D6-461D-94C5-ABF1EB1B64F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3366"/>
                </a:solidFill>
                <a:latin typeface="Arial"/>
              </a:rPr>
              <a:t>Қызықты саяхат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6666"/>
                </a:solidFill>
                <a:latin typeface="Arial"/>
              </a:rPr>
              <a:t>Интеллектуальдық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6666"/>
                </a:solidFill>
                <a:latin typeface="Arial"/>
              </a:rPr>
              <a:t>          </a:t>
            </a:r>
            <a:r>
              <a:rPr b="1" lang="kk-KZ" sz="2800" spc="-1" strike="noStrike">
                <a:solidFill>
                  <a:srgbClr val="006666"/>
                </a:solidFill>
                <a:latin typeface="Arial"/>
              </a:rPr>
              <a:t>ойы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4" descr="TN01164_"/>
          <p:cNvPicPr/>
          <p:nvPr/>
        </p:nvPicPr>
        <p:blipFill>
          <a:blip r:embed="rId1"/>
          <a:stretch/>
        </p:blipFill>
        <p:spPr>
          <a:xfrm>
            <a:off x="5292720" y="2411280"/>
            <a:ext cx="2374920" cy="1195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WB01330_"/>
          <p:cNvPicPr/>
          <p:nvPr/>
        </p:nvPicPr>
        <p:blipFill>
          <a:blip r:embed="rId2"/>
          <a:stretch/>
        </p:blipFill>
        <p:spPr>
          <a:xfrm>
            <a:off x="395280" y="3284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WB01330_"/>
          <p:cNvPicPr/>
          <p:nvPr/>
        </p:nvPicPr>
        <p:blipFill>
          <a:blip r:embed="rId3"/>
          <a:stretch/>
        </p:blipFill>
        <p:spPr>
          <a:xfrm>
            <a:off x="1835280" y="4221000"/>
            <a:ext cx="1511280" cy="1511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TN00011_"/>
          <p:cNvPicPr/>
          <p:nvPr/>
        </p:nvPicPr>
        <p:blipFill>
          <a:blip r:embed="rId4"/>
          <a:stretch/>
        </p:blipFill>
        <p:spPr>
          <a:xfrm>
            <a:off x="5364000" y="5229360"/>
            <a:ext cx="191160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6666"/>
                </a:solidFill>
                <a:latin typeface="Arial"/>
              </a:rPr>
              <a:t>Аялдама “Зеректер елі”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Жердің су қабығ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Хан батыры атағын алған батыр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Түркі тайпаларының басшыс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Өсімдік және жануар жасушасында кездесетін органоид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Абылайдың лақап ат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Тірі ағзаларға қажетті газ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Қазақстандағы ең биік тау шың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Дүние жүзіндегі ең ұзын өзен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Алғашқы көмекке пайдаланылатын бейметалл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10" descr="TR00232_"/>
          <p:cNvPicPr/>
          <p:nvPr/>
        </p:nvPicPr>
        <p:blipFill>
          <a:blip r:embed="rId1"/>
          <a:stretch/>
        </p:blipFill>
        <p:spPr>
          <a:xfrm>
            <a:off x="6300720" y="136440"/>
            <a:ext cx="2087640" cy="10288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1"/>
          <p:cNvSpPr/>
          <p:nvPr/>
        </p:nvSpPr>
        <p:spPr>
          <a:xfrm>
            <a:off x="1331640" y="5875920"/>
            <a:ext cx="473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Көлемі жағынан ең үлкен мұхит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" dur="5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5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5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6666"/>
                </a:solidFill>
                <a:latin typeface="Arial"/>
              </a:rPr>
              <a:t>Аялдама “Тіл өнері”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узы жаман елді былғайды, ---- жаман төрді былғайды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Құлагер шешең сұңқар,әкең тұлпар,Соғып ең дөненіңде ---- арқар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Кестенің сыры түрінде,--- сыры түгінде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узы жесе –--- ұяла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Ел аш болса,тоқпын дегенің -----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4" descr="SL00256_"/>
          <p:cNvPicPr/>
          <p:nvPr/>
        </p:nvPicPr>
        <p:blipFill>
          <a:blip r:embed="rId1"/>
          <a:stretch/>
        </p:blipFill>
        <p:spPr>
          <a:xfrm>
            <a:off x="6659640" y="333360"/>
            <a:ext cx="216036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5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6666"/>
                </a:solidFill>
                <a:latin typeface="Arial"/>
              </a:rPr>
              <a:t>Аялдама “Жаратылыс”елі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шимпанзе ә)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горилл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52640" y="2781000"/>
            <a:ext cx="407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зебра  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ә) керік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атлас 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ә)шартты белгі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4363920" y="4149360"/>
            <a:ext cx="356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құрбақа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ә)кесіртк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4148280" y="5299920"/>
            <a:ext cx="44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көмірқышқыл газы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ә) с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4866120" y="472356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ізбес  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ә)құ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5083560" y="5804640"/>
            <a:ext cx="30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темір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 ә) алты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979560" y="3715560"/>
            <a:ext cx="278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карта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 ә)белгі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Picture 10" descr="NA01069_"/>
          <p:cNvPicPr/>
          <p:nvPr/>
        </p:nvPicPr>
        <p:blipFill>
          <a:blip r:embed="rId1"/>
          <a:stretch/>
        </p:blipFill>
        <p:spPr>
          <a:xfrm>
            <a:off x="6156360" y="2565360"/>
            <a:ext cx="1871640" cy="13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NA01069_"/>
          <p:cNvPicPr/>
          <p:nvPr/>
        </p:nvPicPr>
        <p:blipFill>
          <a:blip r:embed="rId2"/>
          <a:stretch/>
        </p:blipFill>
        <p:spPr>
          <a:xfrm>
            <a:off x="1258920" y="4508640"/>
            <a:ext cx="223200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ff0066"/>
                </a:solidFill>
                <a:latin typeface="Arial"/>
              </a:rPr>
              <a:t>Аялдама “Суретшілер”елі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берілген суретке тиісті затты тауып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суретін сал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7" descr="WB01219_"/>
          <p:cNvPicPr/>
          <p:nvPr/>
        </p:nvPicPr>
        <p:blipFill>
          <a:blip r:embed="rId1"/>
          <a:stretch/>
        </p:blipFill>
        <p:spPr>
          <a:xfrm>
            <a:off x="1258920" y="342900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WB01299_"/>
          <p:cNvPicPr/>
          <p:nvPr/>
        </p:nvPicPr>
        <p:blipFill>
          <a:blip r:embed="rId2"/>
          <a:stretch/>
        </p:blipFill>
        <p:spPr>
          <a:xfrm>
            <a:off x="4859280" y="3357720"/>
            <a:ext cx="1224000" cy="1223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FD00775_"/>
          <p:cNvPicPr/>
          <p:nvPr/>
        </p:nvPicPr>
        <p:blipFill>
          <a:blip r:embed="rId3"/>
          <a:stretch/>
        </p:blipFill>
        <p:spPr>
          <a:xfrm>
            <a:off x="7164360" y="3429000"/>
            <a:ext cx="1666800" cy="2087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J0295069"/>
          <p:cNvPicPr/>
          <p:nvPr/>
        </p:nvPicPr>
        <p:blipFill>
          <a:blip r:embed="rId4"/>
          <a:stretch/>
        </p:blipFill>
        <p:spPr>
          <a:xfrm>
            <a:off x="4643280" y="260280"/>
            <a:ext cx="1182960" cy="851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NA01356_"/>
          <p:cNvPicPr/>
          <p:nvPr/>
        </p:nvPicPr>
        <p:blipFill>
          <a:blip r:embed="rId5"/>
          <a:stretch/>
        </p:blipFill>
        <p:spPr>
          <a:xfrm>
            <a:off x="3348000" y="4149720"/>
            <a:ext cx="10000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7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6666"/>
                </a:solidFill>
                <a:latin typeface="Arial"/>
              </a:rPr>
              <a:t>       </a:t>
            </a: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Picture 4" descr="WB01219_"/>
          <p:cNvPicPr/>
          <p:nvPr/>
        </p:nvPicPr>
        <p:blipFill>
          <a:blip r:embed="rId1"/>
          <a:stretch/>
        </p:blipFill>
        <p:spPr>
          <a:xfrm>
            <a:off x="3059280" y="2997360"/>
            <a:ext cx="1439640" cy="1439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SY00170_"/>
          <p:cNvPicPr/>
          <p:nvPr/>
        </p:nvPicPr>
        <p:blipFill>
          <a:blip r:embed="rId2"/>
          <a:stretch/>
        </p:blipFill>
        <p:spPr>
          <a:xfrm>
            <a:off x="5508720" y="493560"/>
            <a:ext cx="1942920" cy="12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9" name="Picture 6" descr="J0295069"/>
          <p:cNvPicPr/>
          <p:nvPr/>
        </p:nvPicPr>
        <p:blipFill>
          <a:blip r:embed="rId1"/>
          <a:stretch/>
        </p:blipFill>
        <p:spPr>
          <a:xfrm>
            <a:off x="4067280" y="692280"/>
            <a:ext cx="1492200" cy="1073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NA01356_"/>
          <p:cNvPicPr/>
          <p:nvPr/>
        </p:nvPicPr>
        <p:blipFill>
          <a:blip r:embed="rId2"/>
          <a:stretch/>
        </p:blipFill>
        <p:spPr>
          <a:xfrm>
            <a:off x="5435640" y="3213000"/>
            <a:ext cx="1333440" cy="1727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SY00170_"/>
          <p:cNvPicPr/>
          <p:nvPr/>
        </p:nvPicPr>
        <p:blipFill>
          <a:blip r:embed="rId3"/>
          <a:stretch/>
        </p:blipFill>
        <p:spPr>
          <a:xfrm>
            <a:off x="4051440" y="3106800"/>
            <a:ext cx="103968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3" name="Picture 5" descr="WB01299_"/>
          <p:cNvPicPr/>
          <p:nvPr/>
        </p:nvPicPr>
        <p:blipFill>
          <a:blip r:embed="rId1"/>
          <a:stretch/>
        </p:blipFill>
        <p:spPr>
          <a:xfrm>
            <a:off x="5580000" y="3213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SY00170_"/>
          <p:cNvPicPr/>
          <p:nvPr/>
        </p:nvPicPr>
        <p:blipFill>
          <a:blip r:embed="rId2"/>
          <a:stretch/>
        </p:blipFill>
        <p:spPr>
          <a:xfrm>
            <a:off x="5003640" y="187200"/>
            <a:ext cx="208944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Picture 4" descr="FD00775_"/>
          <p:cNvPicPr/>
          <p:nvPr/>
        </p:nvPicPr>
        <p:blipFill>
          <a:blip r:embed="rId1"/>
          <a:stretch/>
        </p:blipFill>
        <p:spPr>
          <a:xfrm>
            <a:off x="1835280" y="2781360"/>
            <a:ext cx="1666800" cy="2087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J0295069"/>
          <p:cNvPicPr/>
          <p:nvPr/>
        </p:nvPicPr>
        <p:blipFill>
          <a:blip r:embed="rId2"/>
          <a:stretch/>
        </p:blipFill>
        <p:spPr>
          <a:xfrm>
            <a:off x="4356000" y="476280"/>
            <a:ext cx="1830600" cy="13161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6"/>
          <p:cNvSpPr/>
          <p:nvPr/>
        </p:nvSpPr>
        <p:spPr>
          <a:xfrm>
            <a:off x="1659240" y="5072040"/>
            <a:ext cx="50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Өміржанова Сайран Еспайқыз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Қостанай  облысы, Рудный  қалас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№</a:t>
            </a: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5 орта мектебінің  биология  пәнінің  мұғалім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7:37:36Z</dcterms:created>
  <dc:creator>Сайран</dc:creator>
  <dc:description/>
  <dc:language>en-US</dc:language>
  <cp:lastModifiedBy> </cp:lastModifiedBy>
  <dcterms:modified xsi:type="dcterms:W3CDTF">2012-11-12T05:15:56Z</dcterms:modified>
  <cp:revision>3</cp:revision>
  <dc:subject/>
  <dc:title>Ќызыќты саяха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