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8CE9-6292-4F68-9C0D-49174D01B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7D09-8995-45A8-B4AD-58727358C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5C63-DF8D-4A55-BAB4-28FCDE02D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A239-4A91-49C3-9B33-2C7E1BE5F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D10EB-4403-4976-9B51-AC8CE8F8E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5C003-F4A0-43FA-9930-0EF8B62F5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10444-5AD8-48A6-A334-06F9539E8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0DBBF-5A98-42BB-B0FB-BEB601677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69483-F47B-4D7E-AD4A-C88218A99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D694D-73F7-474A-A414-0C617169E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CDD55-37BB-477A-9E21-7A8F97F2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F2B3-89F3-41CD-AC77-D05B24119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8A3B2-E24D-49AB-A617-4EC1F1C4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470B9-7868-4DA4-80EA-069BAACD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12CC5-19FE-49DA-AEA1-8814F6BD4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B3943-98A9-45A4-8991-64B746922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E93FB-2414-46A7-A368-BAAB06477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9350-6274-43EA-A41F-760F64945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5B8F-3C95-4822-BA2D-2B680974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E2C3-09E0-4D69-850D-61C8A92C5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357F-FA2B-4116-AA45-A0253A7F4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A979-48DC-41C1-BA6B-7F1ADA70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53B6-72C6-4ACD-B80E-11E7D91B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D9CA-50B6-4FEB-8E3A-99111838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1471D-8341-4C44-A83F-DF248FC4C9EF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07D40-8735-48E5-8501-463ED0D6A929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003366"/>
                </a:solidFill>
                <a:latin typeface="Arial"/>
              </a:rPr>
              <a:t>Қызықты саяхат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6666"/>
                </a:solidFill>
                <a:latin typeface="Arial"/>
              </a:rPr>
              <a:t>Интеллектуальдық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6666"/>
                </a:solidFill>
                <a:latin typeface="Arial"/>
              </a:rPr>
              <a:t>          </a:t>
            </a:r>
            <a:r>
              <a:rPr b="1" lang="kk-KZ" sz="2800" spc="-1" strike="noStrike">
                <a:solidFill>
                  <a:srgbClr val="006666"/>
                </a:solidFill>
                <a:latin typeface="Arial"/>
              </a:rPr>
              <a:t>ойы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Picture 4" descr="TN01164_"/>
          <p:cNvPicPr/>
          <p:nvPr/>
        </p:nvPicPr>
        <p:blipFill>
          <a:blip r:embed="rId1"/>
          <a:stretch/>
        </p:blipFill>
        <p:spPr>
          <a:xfrm>
            <a:off x="5292720" y="2411280"/>
            <a:ext cx="2374920" cy="1195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WB01330_"/>
          <p:cNvPicPr/>
          <p:nvPr/>
        </p:nvPicPr>
        <p:blipFill>
          <a:blip r:embed="rId2"/>
          <a:stretch/>
        </p:blipFill>
        <p:spPr>
          <a:xfrm>
            <a:off x="395280" y="328464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WB01330_"/>
          <p:cNvPicPr/>
          <p:nvPr/>
        </p:nvPicPr>
        <p:blipFill>
          <a:blip r:embed="rId3"/>
          <a:stretch/>
        </p:blipFill>
        <p:spPr>
          <a:xfrm>
            <a:off x="1835280" y="4221000"/>
            <a:ext cx="1511280" cy="1511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TN00011_"/>
          <p:cNvPicPr/>
          <p:nvPr/>
        </p:nvPicPr>
        <p:blipFill>
          <a:blip r:embed="rId4"/>
          <a:stretch/>
        </p:blipFill>
        <p:spPr>
          <a:xfrm>
            <a:off x="5364000" y="5229360"/>
            <a:ext cx="191160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6666"/>
                </a:solidFill>
                <a:latin typeface="Arial"/>
              </a:rPr>
              <a:t>Аялдама “Зеректер елі”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Жердің су қабығы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Хан батыры атағын алған батыр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Түркі тайпаларының басшысы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Өсімдік және жануар жасушасында кездесетін органоид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Абылайдың лақап аты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Тірі ағзаларға қажетті газ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Қазақстандағы ең биік тау шыңы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Дүние жүзіндегі ең ұзын өзен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Алғашқы көмекке пайдаланылатын бейметалл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" name="Picture 10" descr="TR00232_"/>
          <p:cNvPicPr/>
          <p:nvPr/>
        </p:nvPicPr>
        <p:blipFill>
          <a:blip r:embed="rId1"/>
          <a:stretch/>
        </p:blipFill>
        <p:spPr>
          <a:xfrm>
            <a:off x="6300720" y="136440"/>
            <a:ext cx="2087640" cy="10288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1"/>
          <p:cNvSpPr/>
          <p:nvPr/>
        </p:nvSpPr>
        <p:spPr>
          <a:xfrm>
            <a:off x="1331640" y="5875920"/>
            <a:ext cx="473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Көлемі жағынан ең үлкен мұхит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" dur="5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5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" dur="5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6666"/>
                </a:solidFill>
                <a:latin typeface="Arial"/>
              </a:rPr>
              <a:t>Аялдама “Тіл өнері”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Аузы жаман елді былғайды, ---- жаман төрді былғайды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Құлагер шешең сұңқар,әкең тұлпар,Соғып ең дөненіңде ---- арқар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Кестенің сыры түрінде,--- сыры түгінде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Аузы жесе –--- ұялар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Ел аш болса,тоқпын дегенің -----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Picture 4" descr="SL00256_"/>
          <p:cNvPicPr/>
          <p:nvPr/>
        </p:nvPicPr>
        <p:blipFill>
          <a:blip r:embed="rId1"/>
          <a:stretch/>
        </p:blipFill>
        <p:spPr>
          <a:xfrm>
            <a:off x="6659640" y="333360"/>
            <a:ext cx="216036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" dur="5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6666"/>
                </a:solidFill>
                <a:latin typeface="Arial"/>
              </a:rPr>
              <a:t>Аялдама “Жаратылыс”елі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А)шимпанзе ә)</a:t>
            </a: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горилл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52640" y="2781000"/>
            <a:ext cx="407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А)зебра  </a:t>
            </a: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ә) керік</a:t>
            </a: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А)атлас </a:t>
            </a: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ә)шартты белгі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4363920" y="4149360"/>
            <a:ext cx="356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А)құрбақа</a:t>
            </a: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 ә)кесіртк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4148280" y="5299920"/>
            <a:ext cx="44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А)көмірқышқыл газы</a:t>
            </a: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 ә) с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4866120" y="472356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А)ізбес  </a:t>
            </a: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ә)құ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5083560" y="5804640"/>
            <a:ext cx="305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А)темір</a:t>
            </a: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  ә) алты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979560" y="3715560"/>
            <a:ext cx="278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А)карта</a:t>
            </a: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  ә)белгі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Picture 10" descr="NA01069_"/>
          <p:cNvPicPr/>
          <p:nvPr/>
        </p:nvPicPr>
        <p:blipFill>
          <a:blip r:embed="rId1"/>
          <a:stretch/>
        </p:blipFill>
        <p:spPr>
          <a:xfrm>
            <a:off x="6156360" y="2565360"/>
            <a:ext cx="1871640" cy="13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NA01069_"/>
          <p:cNvPicPr/>
          <p:nvPr/>
        </p:nvPicPr>
        <p:blipFill>
          <a:blip r:embed="rId2"/>
          <a:stretch/>
        </p:blipFill>
        <p:spPr>
          <a:xfrm>
            <a:off x="1258920" y="4508640"/>
            <a:ext cx="223200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ff0066"/>
                </a:solidFill>
                <a:latin typeface="Arial"/>
              </a:rPr>
              <a:t>Аялдама “Суретшілер”елі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берілген суретке тиісті затты тауып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               </a:t>
            </a: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суретін сал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Picture 7" descr="WB01219_"/>
          <p:cNvPicPr/>
          <p:nvPr/>
        </p:nvPicPr>
        <p:blipFill>
          <a:blip r:embed="rId1"/>
          <a:stretch/>
        </p:blipFill>
        <p:spPr>
          <a:xfrm>
            <a:off x="1258920" y="342900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WB01299_"/>
          <p:cNvPicPr/>
          <p:nvPr/>
        </p:nvPicPr>
        <p:blipFill>
          <a:blip r:embed="rId2"/>
          <a:stretch/>
        </p:blipFill>
        <p:spPr>
          <a:xfrm>
            <a:off x="4859280" y="3357720"/>
            <a:ext cx="1224000" cy="1223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3" descr="FD00775_"/>
          <p:cNvPicPr/>
          <p:nvPr/>
        </p:nvPicPr>
        <p:blipFill>
          <a:blip r:embed="rId3"/>
          <a:stretch/>
        </p:blipFill>
        <p:spPr>
          <a:xfrm>
            <a:off x="7164360" y="3429000"/>
            <a:ext cx="1666800" cy="2087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J0295069"/>
          <p:cNvPicPr/>
          <p:nvPr/>
        </p:nvPicPr>
        <p:blipFill>
          <a:blip r:embed="rId4"/>
          <a:stretch/>
        </p:blipFill>
        <p:spPr>
          <a:xfrm>
            <a:off x="4643280" y="260280"/>
            <a:ext cx="1182960" cy="851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5" descr="NA01356_"/>
          <p:cNvPicPr/>
          <p:nvPr/>
        </p:nvPicPr>
        <p:blipFill>
          <a:blip r:embed="rId5"/>
          <a:stretch/>
        </p:blipFill>
        <p:spPr>
          <a:xfrm>
            <a:off x="3348000" y="4149720"/>
            <a:ext cx="10000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7" dur="5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6666"/>
                </a:solidFill>
                <a:latin typeface="Arial"/>
              </a:rPr>
              <a:t>       </a:t>
            </a:r>
            <a:r>
              <a:rPr b="1" lang="kk-KZ" sz="4000" spc="-1" strike="noStrike">
                <a:solidFill>
                  <a:srgbClr val="006666"/>
                </a:solidFill>
                <a:latin typeface="Arial"/>
              </a:rPr>
              <a:t>суретшілер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" name="Picture 4" descr="WB01219_"/>
          <p:cNvPicPr/>
          <p:nvPr/>
        </p:nvPicPr>
        <p:blipFill>
          <a:blip r:embed="rId1"/>
          <a:stretch/>
        </p:blipFill>
        <p:spPr>
          <a:xfrm>
            <a:off x="3059280" y="2997360"/>
            <a:ext cx="1439640" cy="1439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SY00170_"/>
          <p:cNvPicPr/>
          <p:nvPr/>
        </p:nvPicPr>
        <p:blipFill>
          <a:blip r:embed="rId2"/>
          <a:stretch/>
        </p:blipFill>
        <p:spPr>
          <a:xfrm>
            <a:off x="5508720" y="493560"/>
            <a:ext cx="1942920" cy="12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06666"/>
                </a:solidFill>
                <a:latin typeface="Arial"/>
              </a:rPr>
              <a:t>суретшілер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9" name="Picture 6" descr="J0295069"/>
          <p:cNvPicPr/>
          <p:nvPr/>
        </p:nvPicPr>
        <p:blipFill>
          <a:blip r:embed="rId1"/>
          <a:stretch/>
        </p:blipFill>
        <p:spPr>
          <a:xfrm>
            <a:off x="4067280" y="692280"/>
            <a:ext cx="1492200" cy="1073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NA01356_"/>
          <p:cNvPicPr/>
          <p:nvPr/>
        </p:nvPicPr>
        <p:blipFill>
          <a:blip r:embed="rId2"/>
          <a:stretch/>
        </p:blipFill>
        <p:spPr>
          <a:xfrm>
            <a:off x="5435640" y="3213000"/>
            <a:ext cx="1333440" cy="1727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SY00170_"/>
          <p:cNvPicPr/>
          <p:nvPr/>
        </p:nvPicPr>
        <p:blipFill>
          <a:blip r:embed="rId3"/>
          <a:stretch/>
        </p:blipFill>
        <p:spPr>
          <a:xfrm>
            <a:off x="4051440" y="3106800"/>
            <a:ext cx="103968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06666"/>
                </a:solidFill>
                <a:latin typeface="Arial"/>
              </a:rPr>
              <a:t>суретшілер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3" name="Picture 5" descr="WB01299_"/>
          <p:cNvPicPr/>
          <p:nvPr/>
        </p:nvPicPr>
        <p:blipFill>
          <a:blip r:embed="rId1"/>
          <a:stretch/>
        </p:blipFill>
        <p:spPr>
          <a:xfrm>
            <a:off x="5580000" y="321300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SY00170_"/>
          <p:cNvPicPr/>
          <p:nvPr/>
        </p:nvPicPr>
        <p:blipFill>
          <a:blip r:embed="rId2"/>
          <a:stretch/>
        </p:blipFill>
        <p:spPr>
          <a:xfrm>
            <a:off x="5003640" y="187200"/>
            <a:ext cx="208944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06666"/>
                </a:solidFill>
                <a:latin typeface="Arial"/>
              </a:rPr>
              <a:t>суретшілер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6" name="Picture 4" descr="FD00775_"/>
          <p:cNvPicPr/>
          <p:nvPr/>
        </p:nvPicPr>
        <p:blipFill>
          <a:blip r:embed="rId1"/>
          <a:stretch/>
        </p:blipFill>
        <p:spPr>
          <a:xfrm>
            <a:off x="1835280" y="2781360"/>
            <a:ext cx="1666800" cy="2087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J0295069"/>
          <p:cNvPicPr/>
          <p:nvPr/>
        </p:nvPicPr>
        <p:blipFill>
          <a:blip r:embed="rId2"/>
          <a:stretch/>
        </p:blipFill>
        <p:spPr>
          <a:xfrm>
            <a:off x="4356000" y="476280"/>
            <a:ext cx="1830600" cy="1316160"/>
          </a:xfrm>
          <a:prstGeom prst="rect">
            <a:avLst/>
          </a:prstGeom>
          <a:ln w="0">
            <a:noFill/>
          </a:ln>
        </p:spPr>
      </p:pic>
      <p:sp>
        <p:nvSpPr>
          <p:cNvPr id="138" name="TextBox 6"/>
          <p:cNvSpPr/>
          <p:nvPr/>
        </p:nvSpPr>
        <p:spPr>
          <a:xfrm>
            <a:off x="1659240" y="5072040"/>
            <a:ext cx="503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Өміржанова Сайран Еспайқыз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Қостанай  облысы, Рудный  қалас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№</a:t>
            </a:r>
            <a:r>
              <a:rPr b="0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5 орта мектебінің  биология  пәнінің  мұғалім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7:37:36Z</dcterms:created>
  <dc:creator>Сайран</dc:creator>
  <dc:description/>
  <dc:language>en-US</dc:language>
  <cp:lastModifiedBy> </cp:lastModifiedBy>
  <dcterms:modified xsi:type="dcterms:W3CDTF">2012-11-12T05:15:56Z</dcterms:modified>
  <cp:revision>3</cp:revision>
  <dc:subject/>
  <dc:title>Ќызыќты саяха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