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C242-F77C-49EC-AC66-E657EEB7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DDB-84C9-4053-8963-0D702B1D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7559-5835-4574-8B0A-DF2B4DE9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ABB1-745E-4DB0-96A7-9A24B758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C1C45-77D0-49BB-82CB-4F4D3DA8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E471F-9668-4211-8BD8-6C578340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DDF72-6D73-4B06-8D92-C982C3E0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64FBB-77B2-47EB-8977-8A668F95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C3E1D-805C-479B-AD0D-0A37D7FB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1002C-7EA7-4C69-88EF-A15F411F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1BFCA-E6F8-4469-925E-DEF5D25A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A97-E220-4410-882A-E40E888B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BC393-11AE-4FB7-BA82-6F8E9ED7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54A01-B893-452D-BA77-1F33E93E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9CF97-0BB1-46EE-997B-8EE0BECD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06650-AC51-4EE4-BDFE-42D0AD43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D56B6-3C30-40FD-B029-33D9CB67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231-A7F8-424B-85C8-D49E090D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6C3-FC63-4FD7-8241-25D43A4D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820A-DB48-4AF5-B133-A7BEC2E4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5E0A-46F4-4A7C-B9AB-E7F93928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A088-8ABA-44BB-B23E-4ACD0041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5712-77E5-4721-9161-943DA4B2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EEF-9479-43CF-9445-1ED16B9B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109F-E43B-4F86-B5DD-89D8AC29DF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B36F-70EF-4465-AEFC-92F3851E3A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32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e3e3ff"/>
                </a:solidFill>
                <a:latin typeface="Arial"/>
              </a:rPr>
              <a:t>Сабақтың жоспа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. Ұйымдастыру кезеңі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Сабаққа кіріспе (Оқушыларды сабақтың жоспарымен, мақсатым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таныстыр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. Үй тапсырмасын сұрау – (15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Тақырып мазмұнын сұрап шығу (дайындалып келген оқушылардан сұр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Суретпен жұмыс (құстың зәр шығару жүйесінің құрылысын ат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“Біліміңді тексер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в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І. Жаңа сабақ – (20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Кіріспе сө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Жаңа сабақты түсінді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Ү. Жаңа сабақты пысықтау – (7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“Кім жылдам ойынын” өткі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. Оқушы білімін бағалау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І. Үй тапсырмасы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e3e3ff"/>
                </a:solidFill>
                <a:latin typeface="Monotype Corsiva"/>
              </a:rPr>
              <a:t>Олар: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87640" cy="2735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103640" cy="273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5084640"/>
            <a:ext cx="374508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Эритр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5084640"/>
            <a:ext cx="403236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Лейк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Monotype Corsiva"/>
              </a:rPr>
              <a:t>IV</a:t>
            </a:r>
            <a:r>
              <a:rPr b="1" lang="kk-KZ" sz="4400" spc="-1" strike="noStrike">
                <a:solidFill>
                  <a:srgbClr val="e3e3ff"/>
                </a:solidFill>
                <a:latin typeface="Monotype Corsiva"/>
              </a:rPr>
              <a:t>. Жаңа сабақты пысықта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А) “Кім жылдым” ойыны (Оқушыларға жаңа сабақтан сұрақтар қойылады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1. Қанның құрамына қандай заттар кір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Эритр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3. Эритроциттердің организм үшін маңызы қанда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4. Лейк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5. Эритроциттер қандай мүшелерде түзіл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6. Қан газ алмасудан басқа тағы қандай қызмет атқар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7. Лейкоциттердің эритроциттерден қандай айырмашылығы бар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8. Эритроциттерді қанның қызыл түйіршігі деп неліктен атай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9.Антидене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0. Табиғи иммунитет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1. Жасанды иммунитет қалай пайда бол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Оқушы білімін бағала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I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Үй тапсырмасы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7200" spc="-1" strike="noStrike">
                <a:solidFill>
                  <a:srgbClr val="ffffff"/>
                </a:solidFill>
                <a:latin typeface="Bookman Old Style"/>
              </a:rPr>
              <a:t> 39 оқ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Үй тапсырмасын сұра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 Тақырып мазмұнын сұрап шығ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Ә) Суретпен жұмыс (оқушыларға құстың зәр шығару жүйесінің құрылысын айтқызу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Б) “Біліміңді тексер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Ә) Суретпен жұмыс (құстың зәр шығару жүйесінің құрылысын ата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Б) “Біліміңді тексер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Көпжасушалы жануарлар организмінде түзілетін сыртқа шығарылуы тиіс заттарға нелер жатады? Ол заттарды тізімнен тері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Оттегі                                              - несе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Көмірқышқыл газы                         -  ваку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 материалдары                  - нәжі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нның қызыл түйіршікте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Сол жақта көпжасушалы жануарлардың зәршығару мүшелері, оң жақта жануарлардың тізімі берілген. Зәршығару мүшелерінің қайсысы қандай жануарға тән екенін анықта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А. Бүйрек                           1. ша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Ә. Жасыл без                    2. гид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В. Несепағар                     3. 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Г. Жабынды қабықша       4. паразит аме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Ғ. Вакуоль                          5. кірпікшелі кебіс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e3e3ff"/>
                </a:solidFill>
                <a:latin typeface="Monotype Corsiva"/>
              </a:rPr>
              <a:t>Жаңа сабақ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Тақырыб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5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kk-KZ" sz="5400" spc="-1" strike="noStrike">
                <a:solidFill>
                  <a:srgbClr val="ffffff"/>
                </a:solidFill>
                <a:latin typeface="Monotype Corsiva"/>
              </a:rPr>
              <a:t>Көпжасушалы жануарлардағы қан, лимфа және қанайналым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3e3ff"/>
                </a:solidFill>
                <a:latin typeface="Tahoma"/>
              </a:rPr>
              <a:t>Сабақтың мақса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Білімді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Көпжасушалы жануарлардағы қан,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лимфа және қанайналым жүйесімен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ын оқушыларға таныстыру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Дамытушылық: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з бетінше қорытынды жасауғ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ағдыландыру, танымдық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білеттерін  дамытып, ізденіске бау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Тәрбие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Оқушылардың  жануарларға деге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үйіспеншілігін оята  отырып, тәрбиел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Monotype Corsiva"/>
              </a:rPr>
              <a:t>Жаңа сабақ жоспа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А) Кіріспе сө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 Қанның организмде атқаратын қызмет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 Қанның құра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В) Эритроциттер, Лейкоцит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Организмнің қанайналым жүйес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Қорытын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e3e3ff"/>
                </a:solidFill>
                <a:latin typeface="Monotype Corsiva"/>
              </a:rPr>
              <a:t>Қанның құрам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600360" cy="550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4716360" y="3716280"/>
          <a:ext cx="3742920" cy="2160360"/>
        </p:xfrm>
        <a:graphic>
          <a:graphicData uri="http://schemas.openxmlformats.org/drawingml/2006/table">
            <a:tbl>
              <a:tblPr/>
              <a:tblGrid>
                <a:gridCol w="1006560"/>
                <a:gridCol w="273636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қан плазма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қан жасушал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9:09:49Z</dcterms:created>
  <dc:creator>комп</dc:creator>
  <dc:description/>
  <dc:language>en-US</dc:language>
  <cp:lastModifiedBy>Admin</cp:lastModifiedBy>
  <dcterms:modified xsi:type="dcterms:W3CDTF">2010-01-19T16:39:15Z</dcterms:modified>
  <cp:revision>7</cp:revision>
  <dc:subject/>
  <dc:title>Сабақтың жоспары</dc:title>
</cp:coreProperties>
</file>