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282-7868-4901-AA0E-B2096FCE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AD7-68C2-4F15-BA49-32C2FB9C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AF8-2556-4C18-8D1D-CA4DAC51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6D0-FB0C-48FB-A2A3-D09F1D7E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D3213-4883-43A1-BD84-86DA24D8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86F24-F13B-43C5-ACFB-FC7FBF4D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D042C-4629-437D-A4FE-69677C94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30385-2674-4695-BD85-8F702524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A0979-775E-4155-A687-1C1AD762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3CFFE-E772-46F6-A748-D04F894A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86705-3AAA-4F51-AF4B-232234A9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5DB-BDC8-4699-B92A-C64C21CB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CB6CA-4513-429E-8B4C-E757CC0A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9B020-FE8D-401A-8FE4-2BECD187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B83AE-A0F2-40E7-AE9A-FA74EE5F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D2BC7-9C33-4363-ADC5-EA2C2F9A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0ECBA-26D0-49AF-976A-9AACE761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8A8-7DD4-4DE9-875A-02A8D244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A95-70E2-4925-B133-959BB1DA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C1F-9EC5-4C54-B760-BB52DCD2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558-338D-4837-A8B3-89774BF3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EFE-A025-48D3-AF5B-8C5C4483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459-3454-4617-A275-8816F02F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F265-E7A9-43AD-A356-1BAE036E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58BA-D652-40AE-BA8B-097B197B29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3F9A-8BC2-4EFE-A260-2D8CBCB964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32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e3e3ff"/>
                </a:solidFill>
                <a:latin typeface="Arial"/>
              </a:rPr>
              <a:t>Сабақтың жоспа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. Ұйымдастыру кезеңі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Сабаққа кіріспе (Оқушыларды сабақтың жоспарымен, мақсатым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таныстыр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. Үй тапсырмасын сұрау – (15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Тақырып мазмұнын сұрап шығу (дайындалып келген оқушылардан сұр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Суретпен жұмыс (құстың зәр шығару жүйесінің құрылысын ат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“Біліміңді тексер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в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І. Жаңа сабақ – (20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Кіріспе сө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Жаңа сабақты түсінді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Ү. Жаңа сабақты пысықтау – (7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“Кім жылдам ойынын” өткі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. Оқушы білімін бағалау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І. Үй тапсырмасы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e3e3ff"/>
                </a:solidFill>
                <a:latin typeface="Monotype Corsiva"/>
              </a:rPr>
              <a:t>Олар: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87640" cy="2735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103640" cy="273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5084640"/>
            <a:ext cx="374508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Эритр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5084640"/>
            <a:ext cx="403236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Лейк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Monotype Corsiva"/>
              </a:rPr>
              <a:t>IV</a:t>
            </a:r>
            <a:r>
              <a:rPr b="1" lang="kk-KZ" sz="4400" spc="-1" strike="noStrike">
                <a:solidFill>
                  <a:srgbClr val="e3e3ff"/>
                </a:solidFill>
                <a:latin typeface="Monotype Corsiva"/>
              </a:rPr>
              <a:t>. Жаңа сабақты пысықта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А) “Кім жылдым” ойыны (Оқушыларға жаңа сабақтан сұрақтар қойылады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1. Қанның құрамына қандай заттар кір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Эритр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3. Эритроциттердің организм үшін маңызы қанда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4. Лейк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5. Эритроциттер қандай мүшелерде түзіл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6. Қан газ алмасудан басқа тағы қандай қызмет атқар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7. Лейкоциттердің эритроциттерден қандай айырмашылығы бар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8. Эритроциттерді қанның қызыл түйіршігі деп неліктен атай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9.Антидене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0. Табиғи иммунитет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1. Жасанды иммунитет қалай пайда бол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Оқушы білімін бағала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I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Үй тапсырмасы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7200" spc="-1" strike="noStrike">
                <a:solidFill>
                  <a:srgbClr val="ffffff"/>
                </a:solidFill>
                <a:latin typeface="Bookman Old Style"/>
              </a:rPr>
              <a:t> 39 оқ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Үй тапсырмасын сұра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 Тақырып мазмұнын сұрап шығ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Ә) Суретпен жұмыс (оқушыларға құстың зәр шығару жүйесінің құрылысын айтқызу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Б) “Біліміңді тексер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Ә) Суретпен жұмыс (құстың зәр шығару жүйесінің құрылысын ата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Б) “Біліміңді тексер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Көпжасушалы жануарлар организмінде түзілетін сыртқа шығарылуы тиіс заттарға нелер жатады? Ол заттарды тізімнен тері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Оттегі                                              - несе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Көмірқышқыл газы                         -  ваку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 материалдары                  - нәжі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нның қызыл түйіршікте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Сол жақта көпжасушалы жануарлардың зәршығару мүшелері, оң жақта жануарлардың тізімі берілген. Зәршығару мүшелерінің қайсысы қандай жануарға тән екенін анықта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А. Бүйрек                           1. ша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Ә. Жасыл без                    2. гид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В. Несепағар                     3. 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Г. Жабынды қабықша       4. паразит аме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Ғ. Вакуоль                          5. кірпікшелі кебіс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e3e3ff"/>
                </a:solidFill>
                <a:latin typeface="Monotype Corsiva"/>
              </a:rPr>
              <a:t>Жаңа сабақ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Тақырыб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5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kk-KZ" sz="5400" spc="-1" strike="noStrike">
                <a:solidFill>
                  <a:srgbClr val="ffffff"/>
                </a:solidFill>
                <a:latin typeface="Monotype Corsiva"/>
              </a:rPr>
              <a:t>Көпжасушалы жануарлардағы қан, лимфа және қанайналым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3e3ff"/>
                </a:solidFill>
                <a:latin typeface="Tahoma"/>
              </a:rPr>
              <a:t>Сабақтың мақса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Білімді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Көпжасушалы жануарлардағы қан,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лимфа және қанайналым жүйесімен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ын оқушыларға таныстыру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Дамытушылық: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з бетінше қорытынды жасауғ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ағдыландыру, танымдық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білеттерін  дамытып, ізденіске бау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Тәрбие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Оқушылардың  жануарларға деге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үйіспеншілігін оята  отырып, тәрбиел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Monotype Corsiva"/>
              </a:rPr>
              <a:t>Жаңа сабақ жоспа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А) Кіріспе сө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 Қанның организмде атқаратын қызмет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 Қанның құра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В) Эритроциттер, Лейкоцит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Организмнің қанайналым жүйес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Қорытын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e3e3ff"/>
                </a:solidFill>
                <a:latin typeface="Monotype Corsiva"/>
              </a:rPr>
              <a:t>Қанның құрам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600360" cy="550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4716360" y="3716280"/>
          <a:ext cx="3742920" cy="2160360"/>
        </p:xfrm>
        <a:graphic>
          <a:graphicData uri="http://schemas.openxmlformats.org/drawingml/2006/table">
            <a:tbl>
              <a:tblPr/>
              <a:tblGrid>
                <a:gridCol w="1006560"/>
                <a:gridCol w="273636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қан плазма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қан жасушал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9:09:49Z</dcterms:created>
  <dc:creator>комп</dc:creator>
  <dc:description/>
  <dc:language>en-US</dc:language>
  <cp:lastModifiedBy>Admin</cp:lastModifiedBy>
  <dcterms:modified xsi:type="dcterms:W3CDTF">2010-01-19T16:39:15Z</dcterms:modified>
  <cp:revision>7</cp:revision>
  <dc:subject/>
  <dc:title>Сабақтың жоспары</dc:title>
</cp:coreProperties>
</file>