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FF67-A202-46B6-B3B8-D4158E2F5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0535-6C39-4074-9BD7-328267ED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379C-E230-43E7-886B-209C9B809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8E1C-8CDC-4B76-A3AC-AE12686C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8B40-3CEB-47E0-9B85-9CCD7950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7708-E0B5-449E-8BC2-181C60ED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2ECE-0B4E-4D35-A736-D1FA9B24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06C5-DA75-48B2-8258-9243A5E6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89F9-C2A3-4125-A8B1-5EE687D2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156A-8A5C-4184-A411-5FB2B1A2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57BC-721C-4D5E-8D23-83CBC6EB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30F4-7CD2-40F2-819A-848B975C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18F8-539C-4EC4-B245-8D3908B5D2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606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cc3300"/>
                </a:solidFill>
                <a:latin typeface="Times New Roman"/>
              </a:rPr>
              <a:t>Жасушаның зерттелу тарихы, жасуша теориясы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imagesCAJMG4N1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/>
          <p:cNvSpPr/>
          <p:nvPr/>
        </p:nvSpPr>
        <p:spPr>
          <a:xfrm>
            <a:off x="539640" y="0"/>
            <a:ext cx="5256360" cy="2205000"/>
          </a:xfrm>
          <a:prstGeom prst="cloudCallout">
            <a:avLst>
              <a:gd name="adj1" fmla="val -51629"/>
              <a:gd name="adj2" fmla="val 831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Жасушаны  зерттейтін ғылым. 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Цитология</a:t>
            </a: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 –грекше: цитос-жасуша, логос- ғыл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971640" y="2924280"/>
            <a:ext cx="2232000" cy="3603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333399"/>
                </a:solidFill>
                <a:latin typeface="Times New Roman"/>
              </a:rPr>
              <a:t>Салала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3573360"/>
            <a:ext cx="2232000" cy="1368360"/>
          </a:xfrm>
          <a:prstGeom prst="irregularSeal2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Цитолог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2771640" y="5489640"/>
            <a:ext cx="2592360" cy="1368360"/>
          </a:xfrm>
          <a:prstGeom prst="irregularSeal2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Цитохим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4643280" y="1773360"/>
            <a:ext cx="2592720" cy="1512720"/>
          </a:xfrm>
          <a:prstGeom prst="irregularSeal2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Цитогенет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6227640" y="3068640"/>
            <a:ext cx="2916360" cy="1628640"/>
          </a:xfrm>
          <a:prstGeom prst="irregularSeal2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Цитоэколог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4"/>
          <p:cNvSpPr/>
          <p:nvPr/>
        </p:nvSpPr>
        <p:spPr>
          <a:xfrm>
            <a:off x="0" y="5013360"/>
            <a:ext cx="2411280" cy="1268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Молекулалы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Биологияны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бір </a:t>
            </a: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саласы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5"/>
          <p:cNvSpPr/>
          <p:nvPr/>
        </p:nvSpPr>
        <p:spPr>
          <a:xfrm>
            <a:off x="2771640" y="3500280"/>
            <a:ext cx="3456000" cy="187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Клеткадағы нуклей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қышылын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  зерттейд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1870 ж Мишер лейко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ядросынан нукл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қышқылын тап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6"/>
          <p:cNvSpPr/>
          <p:nvPr/>
        </p:nvSpPr>
        <p:spPr>
          <a:xfrm>
            <a:off x="5867280" y="0"/>
            <a:ext cx="3276720" cy="170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Тұқым қуалаушылы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пен өзгергішті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заңдылықтарын жасу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деңгейінде  зерттеу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мүмкіндік беред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7"/>
          <p:cNvSpPr/>
          <p:nvPr/>
        </p:nvSpPr>
        <p:spPr>
          <a:xfrm>
            <a:off x="5580000" y="4869000"/>
            <a:ext cx="3564000" cy="1989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Қоршаған ортаның бұзылуы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байланысты жасуш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құрылымының өзгеруін соны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салдарынанаурудың  алдын ал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шаралары қарастырылады</a:t>
            </a: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8"/>
          <p:cNvSpPr/>
          <p:nvPr/>
        </p:nvSpPr>
        <p:spPr>
          <a:xfrm flipV="1">
            <a:off x="3203640" y="2707920"/>
            <a:ext cx="143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>
            <a:off x="3203640" y="3068640"/>
            <a:ext cx="3168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0"/>
          <p:cNvSpPr/>
          <p:nvPr/>
        </p:nvSpPr>
        <p:spPr>
          <a:xfrm flipH="1">
            <a:off x="1835280" y="3357720"/>
            <a:ext cx="288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124000" y="3357720"/>
            <a:ext cx="122400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2"/>
          <p:cNvSpPr/>
          <p:nvPr/>
        </p:nvSpPr>
        <p:spPr>
          <a:xfrm>
            <a:off x="1908000" y="45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3"/>
          <p:cNvSpPr/>
          <p:nvPr/>
        </p:nvSpPr>
        <p:spPr>
          <a:xfrm flipV="1">
            <a:off x="3924360" y="53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4"/>
          <p:cNvSpPr/>
          <p:nvPr/>
        </p:nvSpPr>
        <p:spPr>
          <a:xfrm flipH="1">
            <a:off x="8316720" y="4292640"/>
            <a:ext cx="431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6"/>
          <p:cNvSpPr/>
          <p:nvPr/>
        </p:nvSpPr>
        <p:spPr>
          <a:xfrm flipV="1">
            <a:off x="6804000" y="177336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1908000" y="0"/>
            <a:ext cx="5185080" cy="7650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99"/>
                </a:solidFill>
                <a:latin typeface="Arial"/>
              </a:rPr>
              <a:t>Жасушаның ашылу тарих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0" y="1341360"/>
            <a:ext cx="399564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1609 ж Г.Гал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микроскопты құрастырды</a:t>
            </a:r>
            <a:r>
              <a:rPr b="0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7"/>
          <p:cNvSpPr/>
          <p:nvPr/>
        </p:nvSpPr>
        <p:spPr>
          <a:xfrm>
            <a:off x="4680000" y="1268280"/>
            <a:ext cx="4464000" cy="187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1665 ж Р.Гук  микроскопп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жасушаның майда ұяшық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тұратынын көрд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Жасуша  терминін қолдан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8"/>
          <p:cNvSpPr/>
          <p:nvPr/>
        </p:nvSpPr>
        <p:spPr>
          <a:xfrm>
            <a:off x="2124000" y="3213000"/>
            <a:ext cx="4464000" cy="1441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А.Левенгук қан құрамындағ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эритроциттің бір жасуша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екенін анықт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9"/>
          <p:cNvSpPr/>
          <p:nvPr/>
        </p:nvSpPr>
        <p:spPr>
          <a:xfrm>
            <a:off x="324000" y="5373720"/>
            <a:ext cx="3528720" cy="107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1831 ж Р.Броу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өсімдік жасушасын аш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1"/>
          <p:cNvSpPr/>
          <p:nvPr/>
        </p:nvSpPr>
        <p:spPr>
          <a:xfrm>
            <a:off x="5076720" y="5300640"/>
            <a:ext cx="3745080" cy="136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1839 ж Я.Пурки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жасуша ішіндег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сұйықтық протоплазм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тап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5"/>
          <p:cNvSpPr/>
          <p:nvPr/>
        </p:nvSpPr>
        <p:spPr>
          <a:xfrm>
            <a:off x="539640" y="189000"/>
            <a:ext cx="7848720" cy="1152360"/>
          </a:xfrm>
          <a:custGeom>
            <a:avLst/>
            <a:gdLst>
              <a:gd name="textAreaLeft" fmla="*/ 0 w 7848720"/>
              <a:gd name="textAreaRight" fmla="*/ 7849080 w 7848720"/>
              <a:gd name="textAreaTop" fmla="*/ 149400 h 1152360"/>
              <a:gd name="textAreaBottom" fmla="*/ 10029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3300"/>
                </a:solidFill>
                <a:latin typeface="Arial"/>
              </a:rPr>
              <a:t>Жасуша теориясының қалыптасу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0" y="1773360"/>
            <a:ext cx="5580000" cy="2447640"/>
          </a:xfrm>
          <a:prstGeom prst="cloudCallout">
            <a:avLst>
              <a:gd name="adj1" fmla="val -39560"/>
              <a:gd name="adj2" fmla="val -680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000" spc="-1" strike="noStrike">
                <a:solidFill>
                  <a:srgbClr val="333399"/>
                </a:solidFill>
                <a:latin typeface="Arial"/>
              </a:rPr>
              <a:t>Ботаник М.Шлейден зоолог Т.Шванн  өсімдік пен жануар жасушасын салыстырып,олардың ұқсастықтарын  тапт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7"/>
          <p:cNvSpPr/>
          <p:nvPr/>
        </p:nvSpPr>
        <p:spPr>
          <a:xfrm>
            <a:off x="250920" y="4941720"/>
            <a:ext cx="4066920" cy="165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400" spc="-1" strike="noStrike">
                <a:solidFill>
                  <a:srgbClr val="333399"/>
                </a:solidFill>
                <a:latin typeface="Arial"/>
              </a:rPr>
              <a:t>Нәтижесінде жасуш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99"/>
                </a:solidFill>
                <a:latin typeface="Arial"/>
              </a:rPr>
              <a:t>теориясыны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99"/>
                </a:solidFill>
                <a:latin typeface="Arial"/>
              </a:rPr>
              <a:t>негізін қал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4500720" y="3068640"/>
            <a:ext cx="4643280" cy="2881440"/>
          </a:xfrm>
          <a:prstGeom prst="cloudCallout">
            <a:avLst>
              <a:gd name="adj1" fmla="val -55574"/>
              <a:gd name="adj2" fmla="val 57106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3300"/>
                </a:solidFill>
                <a:latin typeface="Times New Roman"/>
              </a:rPr>
              <a:t>1858 ж Р. Вирхов “әрбір жасуша өзіндей жасушаның бөлінуі арқылы пайда болады” деген қорытындығ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3300"/>
                </a:solidFill>
                <a:latin typeface="Times New Roman"/>
              </a:rPr>
              <a:t>келд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cc3300"/>
                </a:solidFill>
                <a:latin typeface="Times New Roman"/>
              </a:rPr>
              <a:t>Жасуша теориясының қағидала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1.Жасуша –барлық тірі ағзалардың ең кіші өлшем бірлігі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2.Әр түрлі ағзалардың жасушалары құрылысы ,құрылымы, химиялық құрамы зат алмасуы негізгі тіршілік  әрекеті жөнінен ұқс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3.Ағзалардың жасуша құрылыстарының  ұқсас болуы -өсімдік пен жануарлардың шығу тегінің бар екенін дәлелі болып табыл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4.Жасушалар бөліну арқылы көбейе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5. Жасушаның негізгі құрылымдық  бөлігіне цитоплазма  және жасуша мембранасы  жат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6. Көп жасушалы ағзалардың жасушаларының ең негізгі бөлігі –ядро,тұқым қуалау аппараты сақталып келесіұрпақтарға беріліп отыр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1547640" y="189000"/>
            <a:ext cx="684072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3300"/>
                </a:solidFill>
                <a:latin typeface="Arial"/>
              </a:rPr>
              <a:t>Тірі ағзалар жасушалары жетілуіне байланыс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5"/>
          <p:cNvSpPr/>
          <p:nvPr/>
        </p:nvSpPr>
        <p:spPr>
          <a:xfrm>
            <a:off x="0" y="1197000"/>
            <a:ext cx="3600360" cy="10080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Прокариотт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ядросыз жасушал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6"/>
          <p:cNvSpPr/>
          <p:nvPr/>
        </p:nvSpPr>
        <p:spPr>
          <a:xfrm>
            <a:off x="5076720" y="1197000"/>
            <a:ext cx="4067280" cy="10080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Эукариотт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ядролы жасушал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4067280" y="3213000"/>
            <a:ext cx="4608360" cy="2160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333399"/>
                </a:solidFill>
                <a:latin typeface="Arial"/>
              </a:rPr>
              <a:t>Жасушаны зерттеу әдісі. Бұл мироскоп құралы болып табыла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106-1-n_tif0"/>
          <p:cNvPicPr/>
          <p:nvPr/>
        </p:nvPicPr>
        <p:blipFill>
          <a:blip r:embed="rId1"/>
          <a:stretch/>
        </p:blipFill>
        <p:spPr>
          <a:xfrm>
            <a:off x="395280" y="2276640"/>
            <a:ext cx="3456000" cy="4581360"/>
          </a:xfrm>
          <a:prstGeom prst="rect">
            <a:avLst/>
          </a:prstGeom>
          <a:ln w="0">
            <a:noFill/>
          </a:ln>
        </p:spPr>
      </p:pic>
      <p:sp>
        <p:nvSpPr>
          <p:cNvPr id="77" name="Line 10"/>
          <p:cNvSpPr/>
          <p:nvPr/>
        </p:nvSpPr>
        <p:spPr>
          <a:xfrm flipH="1">
            <a:off x="3276360" y="907920"/>
            <a:ext cx="11509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>
            <a:off x="4427640" y="907920"/>
            <a:ext cx="8650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cc3300"/>
                </a:solidFill>
                <a:latin typeface="Arial"/>
              </a:rPr>
              <a:t>Кестені толтырыңдар</a:t>
            </a: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600200"/>
          <a:ext cx="8229600" cy="4060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ерттеуші ғалымдар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Мерзімі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Жасуша теориясын  жасаудағы еңбектер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2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0T17:04:46Z</dcterms:created>
  <dc:creator>Жанат Муратбаева</dc:creator>
  <dc:description/>
  <dc:language>en-US</dc:language>
  <cp:lastModifiedBy>Majitov Nurken</cp:lastModifiedBy>
  <dcterms:modified xsi:type="dcterms:W3CDTF">2011-11-30T10:05:28Z</dcterms:modified>
  <cp:revision>1</cp:revision>
  <dc:subject/>
  <dc:title>Жасушаның зерттелу тарихы, жасуша теориясы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020000000000010250500207f7000400038000</vt:lpwstr>
  </property>
</Properties>
</file>