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5F65-17C5-43C3-9455-FE0DB722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5BA0-011B-4555-935D-A88C683C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0823-A27F-476C-8586-42230CC1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548A-DE81-459B-BD46-1E90F759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8D8C-3894-4DEB-8CA9-206D78FE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7E0A-7293-4CF5-B56C-03717AD6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5CFD-8CFE-4C42-BABC-652E7381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A5A2-6491-414B-9B16-15AA8036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2DA2-F193-40F4-8B28-AF23F8D6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FFB2-9E73-45C6-B5D1-F12BF2C5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11BA-1F42-4A1E-AD00-4CB4AA0F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4223-A6E3-4C82-BC47-F3BBBE21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DC3C-4D74-4ED4-9C50-0F7CDA79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46A9-302B-49E8-BB12-684355ED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97DE-BF63-4DE5-8F6D-AF9A239D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6FDD-2021-45A5-A32A-3916331B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5E7F-3900-406E-9646-875604DE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4362-6B75-4EFB-8E3B-DE8E979D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71DD-FD21-4316-852C-D3A3C5D1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706A-8DF1-4059-9319-7BB77A05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730C-0C95-4AF3-AB35-69BD1391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4E74-F3AD-4072-8B44-6B5CE415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A7E-305A-4197-870B-236B8A5F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1947-CA95-475A-B21D-51FD20EB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BC70-F50C-4AFC-AA76-4E117CF7500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315C-284E-4A3C-A4B4-9AE1A2CE7B2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3366"/>
                </a:solidFill>
                <a:latin typeface="Arial"/>
              </a:rPr>
              <a:t>Қызықты саяхат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Интеллектуальдық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ой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4" descr="TN01164_"/>
          <p:cNvPicPr/>
          <p:nvPr/>
        </p:nvPicPr>
        <p:blipFill>
          <a:blip r:embed="rId1"/>
          <a:stretch/>
        </p:blipFill>
        <p:spPr>
          <a:xfrm>
            <a:off x="5292720" y="2411280"/>
            <a:ext cx="2374920" cy="1195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WB01330_"/>
          <p:cNvPicPr/>
          <p:nvPr/>
        </p:nvPicPr>
        <p:blipFill>
          <a:blip r:embed="rId2"/>
          <a:stretch/>
        </p:blipFill>
        <p:spPr>
          <a:xfrm>
            <a:off x="395280" y="3284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WB01330_"/>
          <p:cNvPicPr/>
          <p:nvPr/>
        </p:nvPicPr>
        <p:blipFill>
          <a:blip r:embed="rId3"/>
          <a:stretch/>
        </p:blipFill>
        <p:spPr>
          <a:xfrm>
            <a:off x="1835280" y="422100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TN00011_"/>
          <p:cNvPicPr/>
          <p:nvPr/>
        </p:nvPicPr>
        <p:blipFill>
          <a:blip r:embed="rId4"/>
          <a:stretch/>
        </p:blipFill>
        <p:spPr>
          <a:xfrm>
            <a:off x="5364000" y="5229360"/>
            <a:ext cx="19116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Зеректер ел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Жердің су қабығ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Хан батыры атағын алған батыр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үркі тайпаларының басшыс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Өсімдік және жануар жасушасында кездесетін органоид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былайдың лақап ат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ірі ағзаларға қажетті газ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Қазақстандағы ең биік тау шың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Дүние жүзіндегі ең ұзын өзен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лғашқы көмекке пайдаланылатын бейметал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10" descr="TR00232_"/>
          <p:cNvPicPr/>
          <p:nvPr/>
        </p:nvPicPr>
        <p:blipFill>
          <a:blip r:embed="rId1"/>
          <a:stretch/>
        </p:blipFill>
        <p:spPr>
          <a:xfrm>
            <a:off x="6300720" y="136440"/>
            <a:ext cx="2087640" cy="1028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1"/>
          <p:cNvSpPr/>
          <p:nvPr/>
        </p:nvSpPr>
        <p:spPr>
          <a:xfrm>
            <a:off x="1331640" y="587592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Көлемі жағынан ең үлкен мұхит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5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5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5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Тіл өнер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аман елді былғайды, ---- жаман төрді былғайд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Құлагер шешең сұңқар,әкең тұлпар,Соғып ең дөненіңде ---- арқар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Кестенің сыры түрінде,--- сыры түгінд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есе –--- ұяла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Ел аш болса,тоқпын дегенің -----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SL00256_"/>
          <p:cNvPicPr/>
          <p:nvPr/>
        </p:nvPicPr>
        <p:blipFill>
          <a:blip r:embed="rId1"/>
          <a:stretch/>
        </p:blipFill>
        <p:spPr>
          <a:xfrm>
            <a:off x="6659640" y="333360"/>
            <a:ext cx="21603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5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Жаратылыс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шимпанзе ә)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горил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52640" y="2781000"/>
            <a:ext cx="407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зебра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 керік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атлас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шартты 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363920" y="4149360"/>
            <a:ext cx="356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құрбақ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кесірт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148280" y="5299920"/>
            <a:ext cx="44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өмірқышқыл газы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 с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866120" y="472356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ізбес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құ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083560" y="5804640"/>
            <a:ext cx="30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темір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 алт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979560" y="371556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арт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10" descr="NA01069_"/>
          <p:cNvPicPr/>
          <p:nvPr/>
        </p:nvPicPr>
        <p:blipFill>
          <a:blip r:embed="rId1"/>
          <a:stretch/>
        </p:blipFill>
        <p:spPr>
          <a:xfrm>
            <a:off x="6156360" y="2565360"/>
            <a:ext cx="1871640" cy="13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NA01069_"/>
          <p:cNvPicPr/>
          <p:nvPr/>
        </p:nvPicPr>
        <p:blipFill>
          <a:blip r:embed="rId2"/>
          <a:stretch/>
        </p:blipFill>
        <p:spPr>
          <a:xfrm>
            <a:off x="1258920" y="4508640"/>
            <a:ext cx="22320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66"/>
                </a:solidFill>
                <a:latin typeface="Arial"/>
              </a:rPr>
              <a:t>Аялдама “Суретшілер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берілген суретке тиісті затты тауып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суретін сал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7" descr="WB01219_"/>
          <p:cNvPicPr/>
          <p:nvPr/>
        </p:nvPicPr>
        <p:blipFill>
          <a:blip r:embed="rId1"/>
          <a:stretch/>
        </p:blipFill>
        <p:spPr>
          <a:xfrm>
            <a:off x="1258920" y="3429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WB01299_"/>
          <p:cNvPicPr/>
          <p:nvPr/>
        </p:nvPicPr>
        <p:blipFill>
          <a:blip r:embed="rId2"/>
          <a:stretch/>
        </p:blipFill>
        <p:spPr>
          <a:xfrm>
            <a:off x="4859280" y="335772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FD00775_"/>
          <p:cNvPicPr/>
          <p:nvPr/>
        </p:nvPicPr>
        <p:blipFill>
          <a:blip r:embed="rId3"/>
          <a:stretch/>
        </p:blipFill>
        <p:spPr>
          <a:xfrm>
            <a:off x="7164360" y="342900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J0295069"/>
          <p:cNvPicPr/>
          <p:nvPr/>
        </p:nvPicPr>
        <p:blipFill>
          <a:blip r:embed="rId4"/>
          <a:stretch/>
        </p:blipFill>
        <p:spPr>
          <a:xfrm>
            <a:off x="4643280" y="260280"/>
            <a:ext cx="1182960" cy="851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NA01356_"/>
          <p:cNvPicPr/>
          <p:nvPr/>
        </p:nvPicPr>
        <p:blipFill>
          <a:blip r:embed="rId5"/>
          <a:stretch/>
        </p:blipFill>
        <p:spPr>
          <a:xfrm>
            <a:off x="3348000" y="4149720"/>
            <a:ext cx="1000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4" descr="WB01219_"/>
          <p:cNvPicPr/>
          <p:nvPr/>
        </p:nvPicPr>
        <p:blipFill>
          <a:blip r:embed="rId1"/>
          <a:stretch/>
        </p:blipFill>
        <p:spPr>
          <a:xfrm>
            <a:off x="3059280" y="299736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SY00170_"/>
          <p:cNvPicPr/>
          <p:nvPr/>
        </p:nvPicPr>
        <p:blipFill>
          <a:blip r:embed="rId2"/>
          <a:stretch/>
        </p:blipFill>
        <p:spPr>
          <a:xfrm>
            <a:off x="5508720" y="493560"/>
            <a:ext cx="194292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Picture 6" descr="J0295069"/>
          <p:cNvPicPr/>
          <p:nvPr/>
        </p:nvPicPr>
        <p:blipFill>
          <a:blip r:embed="rId1"/>
          <a:stretch/>
        </p:blipFill>
        <p:spPr>
          <a:xfrm>
            <a:off x="4067280" y="692280"/>
            <a:ext cx="1492200" cy="1073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NA01356_"/>
          <p:cNvPicPr/>
          <p:nvPr/>
        </p:nvPicPr>
        <p:blipFill>
          <a:blip r:embed="rId2"/>
          <a:stretch/>
        </p:blipFill>
        <p:spPr>
          <a:xfrm>
            <a:off x="5435640" y="3213000"/>
            <a:ext cx="1333440" cy="172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Y00170_"/>
          <p:cNvPicPr/>
          <p:nvPr/>
        </p:nvPicPr>
        <p:blipFill>
          <a:blip r:embed="rId3"/>
          <a:stretch/>
        </p:blipFill>
        <p:spPr>
          <a:xfrm>
            <a:off x="4051440" y="3106800"/>
            <a:ext cx="10396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5" descr="WB01299_"/>
          <p:cNvPicPr/>
          <p:nvPr/>
        </p:nvPicPr>
        <p:blipFill>
          <a:blip r:embed="rId1"/>
          <a:stretch/>
        </p:blipFill>
        <p:spPr>
          <a:xfrm>
            <a:off x="5580000" y="3213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SY00170_"/>
          <p:cNvPicPr/>
          <p:nvPr/>
        </p:nvPicPr>
        <p:blipFill>
          <a:blip r:embed="rId2"/>
          <a:stretch/>
        </p:blipFill>
        <p:spPr>
          <a:xfrm>
            <a:off x="5003640" y="187200"/>
            <a:ext cx="20894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4" descr="FD00775_"/>
          <p:cNvPicPr/>
          <p:nvPr/>
        </p:nvPicPr>
        <p:blipFill>
          <a:blip r:embed="rId1"/>
          <a:stretch/>
        </p:blipFill>
        <p:spPr>
          <a:xfrm>
            <a:off x="1835280" y="278136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J0295069"/>
          <p:cNvPicPr/>
          <p:nvPr/>
        </p:nvPicPr>
        <p:blipFill>
          <a:blip r:embed="rId2"/>
          <a:stretch/>
        </p:blipFill>
        <p:spPr>
          <a:xfrm>
            <a:off x="4356000" y="476280"/>
            <a:ext cx="1830600" cy="13161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1659240" y="5072040"/>
            <a:ext cx="50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Өміржанова Сайран Еспайқыз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останай  облысы, Рудный  қалас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№</a:t>
            </a: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5 орта мектебінің  биология  пәнінің  мұғалім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7:37:36Z</dcterms:created>
  <dc:creator>Сайран</dc:creator>
  <dc:description/>
  <dc:language>en-US</dc:language>
  <cp:lastModifiedBy> </cp:lastModifiedBy>
  <dcterms:modified xsi:type="dcterms:W3CDTF">2012-11-12T05:15:56Z</dcterms:modified>
  <cp:revision>3</cp:revision>
  <dc:subject/>
  <dc:title>Ќызыќты саяха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