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4619-F499-4BD8-B6DF-125326FB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2592-FE30-4296-AB1F-01F7CFF6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3767-B0CA-4E90-A006-BE2ED516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E12F-16E3-4EFA-A37F-698F8766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8E23-56DA-42E8-9C6E-14A4F955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BC71-82C5-4CA4-89CA-4ADD4349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91D7-24C2-43B6-91B1-B9E91E5B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BC7C-1CB4-4727-9203-69A8B685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FB4F-30A9-4C12-9E62-F6904ACD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FF3E-D275-45A9-8964-B9CB4BAC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C5B1-D4E8-4B32-B608-D4B9AECB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4003-83A7-49FA-B349-EF473037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491A-9F40-4731-8C68-82471379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AB03-9F56-42C3-AD59-5DA6B799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7BC8-DD70-42FD-9461-0057C412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17D8-88BA-4B5B-9D16-A4D74788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0C03-9EC7-4C5C-8700-F100E02A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911-24C7-48C4-8D8C-C0C5E9F9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C1A2-342A-49EA-AE35-D9AC1001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B936-5005-42C1-908D-5CD561FC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C39-1297-4292-9676-F49DB9C3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118-242E-4BA3-95BD-981DF8E1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FF7F-2AFE-4169-B7CE-B5B74754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FCF4-8DC7-4D2C-996D-96D8CE24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F52A-ED6B-462E-A063-47F5E97F961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5B37-7960-49AB-A8EF-8EA2E1F7C84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3366"/>
                </a:solidFill>
                <a:latin typeface="Arial"/>
              </a:rPr>
              <a:t>Қызықты саяхат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Интеллектуальдық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ой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TN01164_"/>
          <p:cNvPicPr/>
          <p:nvPr/>
        </p:nvPicPr>
        <p:blipFill>
          <a:blip r:embed="rId1"/>
          <a:stretch/>
        </p:blipFill>
        <p:spPr>
          <a:xfrm>
            <a:off x="5292720" y="2411280"/>
            <a:ext cx="2374920" cy="119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WB01330_"/>
          <p:cNvPicPr/>
          <p:nvPr/>
        </p:nvPicPr>
        <p:blipFill>
          <a:blip r:embed="rId2"/>
          <a:stretch/>
        </p:blipFill>
        <p:spPr>
          <a:xfrm>
            <a:off x="395280" y="3284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WB01330_"/>
          <p:cNvPicPr/>
          <p:nvPr/>
        </p:nvPicPr>
        <p:blipFill>
          <a:blip r:embed="rId3"/>
          <a:stretch/>
        </p:blipFill>
        <p:spPr>
          <a:xfrm>
            <a:off x="1835280" y="422100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TN00011_"/>
          <p:cNvPicPr/>
          <p:nvPr/>
        </p:nvPicPr>
        <p:blipFill>
          <a:blip r:embed="rId4"/>
          <a:stretch/>
        </p:blipFill>
        <p:spPr>
          <a:xfrm>
            <a:off x="5364000" y="5229360"/>
            <a:ext cx="191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Зеректер ел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Жердің су қабығ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Хан батыры атағын алған батыр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үркі тайпаларының басшыс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Өсімдік және жануар жасушасында кездесетін органоид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былайдың лақап ат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ірі ағзаларға қажетті газ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Қазақстандағы ең биік тау шың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Дүние жүзіндегі ең ұзын өзен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лғашқы көмекке пайдаланылатын бейметал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10" descr="TR00232_"/>
          <p:cNvPicPr/>
          <p:nvPr/>
        </p:nvPicPr>
        <p:blipFill>
          <a:blip r:embed="rId1"/>
          <a:stretch/>
        </p:blipFill>
        <p:spPr>
          <a:xfrm>
            <a:off x="6300720" y="136440"/>
            <a:ext cx="2087640" cy="1028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>
            <a:off x="1331640" y="587592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Көлемі жағынан ең үлкен мұхит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5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5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5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Тіл өнер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аман елді былғайды, ---- жаман төрді былғайд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Құлагер шешең сұңқар,әкең тұлпар,Соғып ең дөненіңде ---- арқар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Кестенің сыры түрінде,--- сыры түгінд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есе –--- ұяла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Ел аш болса,тоқпын дегенің -----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SL00256_"/>
          <p:cNvPicPr/>
          <p:nvPr/>
        </p:nvPicPr>
        <p:blipFill>
          <a:blip r:embed="rId1"/>
          <a:stretch/>
        </p:blipFill>
        <p:spPr>
          <a:xfrm>
            <a:off x="6659640" y="333360"/>
            <a:ext cx="2160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5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Жаратылыс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шимпанзе ә)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горил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52640" y="2781000"/>
            <a:ext cx="407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зебра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 керік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атлас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шартты 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363920" y="4149360"/>
            <a:ext cx="356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құрбақ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кесірт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148280" y="5299920"/>
            <a:ext cx="44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өмірқышқыл газы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 с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866120" y="472356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ізбес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құ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083560" y="5804640"/>
            <a:ext cx="30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темір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 алт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979560" y="37155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арт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10" descr="NA01069_"/>
          <p:cNvPicPr/>
          <p:nvPr/>
        </p:nvPicPr>
        <p:blipFill>
          <a:blip r:embed="rId1"/>
          <a:stretch/>
        </p:blipFill>
        <p:spPr>
          <a:xfrm>
            <a:off x="6156360" y="2565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NA01069_"/>
          <p:cNvPicPr/>
          <p:nvPr/>
        </p:nvPicPr>
        <p:blipFill>
          <a:blip r:embed="rId2"/>
          <a:stretch/>
        </p:blipFill>
        <p:spPr>
          <a:xfrm>
            <a:off x="1258920" y="4508640"/>
            <a:ext cx="22320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66"/>
                </a:solidFill>
                <a:latin typeface="Arial"/>
              </a:rPr>
              <a:t>Аялдама “Суретшілер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берілген суретке тиісті затты тауып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суретін сал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7" descr="WB01219_"/>
          <p:cNvPicPr/>
          <p:nvPr/>
        </p:nvPicPr>
        <p:blipFill>
          <a:blip r:embed="rId1"/>
          <a:stretch/>
        </p:blipFill>
        <p:spPr>
          <a:xfrm>
            <a:off x="1258920" y="3429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WB01299_"/>
          <p:cNvPicPr/>
          <p:nvPr/>
        </p:nvPicPr>
        <p:blipFill>
          <a:blip r:embed="rId2"/>
          <a:stretch/>
        </p:blipFill>
        <p:spPr>
          <a:xfrm>
            <a:off x="4859280" y="335772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FD00775_"/>
          <p:cNvPicPr/>
          <p:nvPr/>
        </p:nvPicPr>
        <p:blipFill>
          <a:blip r:embed="rId3"/>
          <a:stretch/>
        </p:blipFill>
        <p:spPr>
          <a:xfrm>
            <a:off x="7164360" y="342900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J0295069"/>
          <p:cNvPicPr/>
          <p:nvPr/>
        </p:nvPicPr>
        <p:blipFill>
          <a:blip r:embed="rId4"/>
          <a:stretch/>
        </p:blipFill>
        <p:spPr>
          <a:xfrm>
            <a:off x="4643280" y="260280"/>
            <a:ext cx="1182960" cy="85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NA01356_"/>
          <p:cNvPicPr/>
          <p:nvPr/>
        </p:nvPicPr>
        <p:blipFill>
          <a:blip r:embed="rId5"/>
          <a:stretch/>
        </p:blipFill>
        <p:spPr>
          <a:xfrm>
            <a:off x="3348000" y="4149720"/>
            <a:ext cx="1000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4" descr="WB01219_"/>
          <p:cNvPicPr/>
          <p:nvPr/>
        </p:nvPicPr>
        <p:blipFill>
          <a:blip r:embed="rId1"/>
          <a:stretch/>
        </p:blipFill>
        <p:spPr>
          <a:xfrm>
            <a:off x="3059280" y="299736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Y00170_"/>
          <p:cNvPicPr/>
          <p:nvPr/>
        </p:nvPicPr>
        <p:blipFill>
          <a:blip r:embed="rId2"/>
          <a:stretch/>
        </p:blipFill>
        <p:spPr>
          <a:xfrm>
            <a:off x="5508720" y="493560"/>
            <a:ext cx="194292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Picture 6" descr="J0295069"/>
          <p:cNvPicPr/>
          <p:nvPr/>
        </p:nvPicPr>
        <p:blipFill>
          <a:blip r:embed="rId1"/>
          <a:stretch/>
        </p:blipFill>
        <p:spPr>
          <a:xfrm>
            <a:off x="4067280" y="692280"/>
            <a:ext cx="1492200" cy="1073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NA01356_"/>
          <p:cNvPicPr/>
          <p:nvPr/>
        </p:nvPicPr>
        <p:blipFill>
          <a:blip r:embed="rId2"/>
          <a:stretch/>
        </p:blipFill>
        <p:spPr>
          <a:xfrm>
            <a:off x="5435640" y="3213000"/>
            <a:ext cx="1333440" cy="172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Y00170_"/>
          <p:cNvPicPr/>
          <p:nvPr/>
        </p:nvPicPr>
        <p:blipFill>
          <a:blip r:embed="rId3"/>
          <a:stretch/>
        </p:blipFill>
        <p:spPr>
          <a:xfrm>
            <a:off x="4051440" y="3106800"/>
            <a:ext cx="10396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5" descr="WB01299_"/>
          <p:cNvPicPr/>
          <p:nvPr/>
        </p:nvPicPr>
        <p:blipFill>
          <a:blip r:embed="rId1"/>
          <a:stretch/>
        </p:blipFill>
        <p:spPr>
          <a:xfrm>
            <a:off x="5580000" y="3213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SY00170_"/>
          <p:cNvPicPr/>
          <p:nvPr/>
        </p:nvPicPr>
        <p:blipFill>
          <a:blip r:embed="rId2"/>
          <a:stretch/>
        </p:blipFill>
        <p:spPr>
          <a:xfrm>
            <a:off x="5003640" y="187200"/>
            <a:ext cx="20894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4" descr="FD00775_"/>
          <p:cNvPicPr/>
          <p:nvPr/>
        </p:nvPicPr>
        <p:blipFill>
          <a:blip r:embed="rId1"/>
          <a:stretch/>
        </p:blipFill>
        <p:spPr>
          <a:xfrm>
            <a:off x="1835280" y="278136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J0295069"/>
          <p:cNvPicPr/>
          <p:nvPr/>
        </p:nvPicPr>
        <p:blipFill>
          <a:blip r:embed="rId2"/>
          <a:stretch/>
        </p:blipFill>
        <p:spPr>
          <a:xfrm>
            <a:off x="4356000" y="476280"/>
            <a:ext cx="1830600" cy="13161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1659240" y="5072040"/>
            <a:ext cx="50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Өміржанова Сайран Еспайқыз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останай  облысы, Рудный  қалас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№</a:t>
            </a: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5 орта мектебінің  биология  пәнінің  мұғалім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7:37:36Z</dcterms:created>
  <dc:creator>Сайран</dc:creator>
  <dc:description/>
  <dc:language>en-US</dc:language>
  <cp:lastModifiedBy> </cp:lastModifiedBy>
  <dcterms:modified xsi:type="dcterms:W3CDTF">2012-11-12T05:15:56Z</dcterms:modified>
  <cp:revision>3</cp:revision>
  <dc:subject/>
  <dc:title>Ќызыќты саяха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