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832-137F-4F80-8554-52097BC4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D7AE-9376-43E0-ABEC-F5E1F328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79F6-006D-42A9-8AE7-16AB8579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10D-F290-4D44-977D-2040EAB7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FBF8-A6E3-4591-BC7D-2BA3C780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1E4C-3B35-41C9-ADEF-44391F42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B9FF-E318-47E4-8F93-14625E55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3325-0D20-4AF3-B2E7-EB1D1CCE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C3B5-6934-40C3-ADD5-5E6CD4D0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FA1B-2C79-4BC7-8034-885E6430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8E72-8D29-4D0A-A6D9-35A47BED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A48A-33DF-424D-89B9-B637C391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F460-CB7C-4915-A089-D359BDFB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3E95-0952-426B-82BC-03910EE5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8D1E-33C6-4A05-BBE2-DAE47093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849F-2515-427E-AC4B-1F245DFF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E230-522F-47B0-9029-6B4806CA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10A3-E7EF-45E2-B5A6-4CB95C03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23D3-0408-4B71-B9D0-2AE5ADB0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D22A-AF07-4E2E-A3C4-1CD90928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2BDE-54BC-40A2-87DC-93EAD8C4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EE56-6B72-48B6-8B09-E2A780AA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5D62-1454-4F47-8FD6-6297D154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8E7D-855F-48A0-A676-118B9733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323E-4E3D-4862-B729-9034807EB2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48C8-6774-40BE-9F7B-3A9C80874D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21.xml"/><Relationship Id="rId4" Type="http://schemas.openxmlformats.org/officeDocument/2006/relationships/slide" Target="slide27.xml"/><Relationship Id="rId5" Type="http://schemas.openxmlformats.org/officeDocument/2006/relationships/slide" Target="slide33.xml"/><Relationship Id="rId6" Type="http://schemas.openxmlformats.org/officeDocument/2006/relationships/slide" Target="slide4.xml"/><Relationship Id="rId7" Type="http://schemas.openxmlformats.org/officeDocument/2006/relationships/slide" Target="slide34.xml"/><Relationship Id="rId8" Type="http://schemas.openxmlformats.org/officeDocument/2006/relationships/slide" Target="slide10.xml"/><Relationship Id="rId9" Type="http://schemas.openxmlformats.org/officeDocument/2006/relationships/slide" Target="slide16.xml"/><Relationship Id="rId10" Type="http://schemas.openxmlformats.org/officeDocument/2006/relationships/slide" Target="slide22.xml"/><Relationship Id="rId11" Type="http://schemas.openxmlformats.org/officeDocument/2006/relationships/slide" Target="slide28.xml"/><Relationship Id="rId12" Type="http://schemas.openxmlformats.org/officeDocument/2006/relationships/slide" Target="slide5.xml"/><Relationship Id="rId13" Type="http://schemas.openxmlformats.org/officeDocument/2006/relationships/slide" Target="slide11.xml"/><Relationship Id="rId14" Type="http://schemas.openxmlformats.org/officeDocument/2006/relationships/slide" Target="slide17.xml"/><Relationship Id="rId15" Type="http://schemas.openxmlformats.org/officeDocument/2006/relationships/slide" Target="slide23.xml"/><Relationship Id="rId16" Type="http://schemas.openxmlformats.org/officeDocument/2006/relationships/slide" Target="slide35.xml"/><Relationship Id="rId17" Type="http://schemas.openxmlformats.org/officeDocument/2006/relationships/slide" Target="slide29.xml"/><Relationship Id="rId18" Type="http://schemas.openxmlformats.org/officeDocument/2006/relationships/slide" Target="slide6.xml"/><Relationship Id="rId19" Type="http://schemas.openxmlformats.org/officeDocument/2006/relationships/slide" Target="slide18.xml"/><Relationship Id="rId20" Type="http://schemas.openxmlformats.org/officeDocument/2006/relationships/slide" Target="slide24.xml"/><Relationship Id="rId21" Type="http://schemas.openxmlformats.org/officeDocument/2006/relationships/slide" Target="slide30.xml"/><Relationship Id="rId22" Type="http://schemas.openxmlformats.org/officeDocument/2006/relationships/slide" Target="slide36.xml"/><Relationship Id="rId23" Type="http://schemas.openxmlformats.org/officeDocument/2006/relationships/slide" Target="slide36.xml"/><Relationship Id="rId24" Type="http://schemas.openxmlformats.org/officeDocument/2006/relationships/slide" Target="slide12.xml"/><Relationship Id="rId25" Type="http://schemas.openxmlformats.org/officeDocument/2006/relationships/slide" Target="slide7.xml"/><Relationship Id="rId26" Type="http://schemas.openxmlformats.org/officeDocument/2006/relationships/slide" Target="slide25.xml"/><Relationship Id="rId27" Type="http://schemas.openxmlformats.org/officeDocument/2006/relationships/slide" Target="slide31.xml"/><Relationship Id="rId28" Type="http://schemas.openxmlformats.org/officeDocument/2006/relationships/slide" Target="slide37.xml"/><Relationship Id="rId29" Type="http://schemas.openxmlformats.org/officeDocument/2006/relationships/slide" Target="slide2.xml"/><Relationship Id="rId30" Type="http://schemas.openxmlformats.org/officeDocument/2006/relationships/slide" Target="slide8.xml"/><Relationship Id="rId31" Type="http://schemas.openxmlformats.org/officeDocument/2006/relationships/slide" Target="slide14.xml"/><Relationship Id="rId32" Type="http://schemas.openxmlformats.org/officeDocument/2006/relationships/slide" Target="slide20.xml"/><Relationship Id="rId33" Type="http://schemas.openxmlformats.org/officeDocument/2006/relationships/slide" Target="slide26.xml"/><Relationship Id="rId34" Type="http://schemas.openxmlformats.org/officeDocument/2006/relationships/slide" Target="slide39.xml"/><Relationship Id="rId3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0"/>
            <a:ext cx="828180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Игра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«Биологическое поле» </a:t>
            </a:r>
            <a:br>
              <a:rPr sz="5400"/>
            </a:b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о теме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«Грибы»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2560" y="2598840"/>
            <a:ext cx="7772400" cy="3497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588000" y="2565360"/>
            <a:ext cx="2210040" cy="341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31640" y="2637000"/>
            <a:ext cx="2432160" cy="3313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40000" y="4581360"/>
            <a:ext cx="284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: учитель биологии Зенченко О.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веро-Казахстанска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6360" y="2168280"/>
            <a:ext cx="7740720" cy="2050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 помощью чего размножаются плесневые грибы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258920" y="367920"/>
            <a:ext cx="59054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 _x000b_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6920" y="4581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п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2241720"/>
            <a:ext cx="4464000" cy="33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 какой плесени делают антибиотик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584000" y="404640"/>
            <a:ext cx="561492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 _x000b_ 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522936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пеници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256360" y="2313000"/>
            <a:ext cx="31320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7640" y="2421000"/>
            <a:ext cx="7772400" cy="262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какого плесневого гриба мицелий составляет одну клетку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619280" y="404640"/>
            <a:ext cx="543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95640" y="548172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мук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10920" y="2420640"/>
            <a:ext cx="7794360" cy="253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поры мукора созревают в сумке которая называется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50920" y="225360"/>
            <a:ext cx="55800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_x000b_ 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95640" y="5265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поран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5271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01640" y="2258640"/>
            <a:ext cx="7794720" cy="253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поры пеницилла и аспергилла созревают в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539280" y="225360"/>
            <a:ext cx="7201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_x000b_ 6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95640" y="5121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онид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4360" y="2276280"/>
            <a:ext cx="7200720" cy="1873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на белая или бледная. Кто он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24000" y="297000"/>
            <a:ext cx="7850160" cy="16920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и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08000" y="5049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га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392720" y="4329000"/>
            <a:ext cx="298908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920" y="2457000"/>
            <a:ext cx="7772400" cy="2087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какие группы делят шляпочные гри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395280" y="301680"/>
            <a:ext cx="752472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ибы_x000b_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11280" y="4976640"/>
            <a:ext cx="57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ластинчатые, трубчат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4000" y="2565000"/>
            <a:ext cx="5221080" cy="230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иб боровик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 как по другому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685800" y="301680"/>
            <a:ext cx="7199280" cy="1866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и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71640" y="530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е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119640" y="2529000"/>
            <a:ext cx="24829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9640" y="2312640"/>
            <a:ext cx="7772400" cy="2521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совместная жизнь различных организмо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576360" y="259920"/>
            <a:ext cx="7704000" cy="180036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и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0" y="515772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симбио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31640" y="2312640"/>
            <a:ext cx="7772400" cy="266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симбиоз мицелия гриба с корнями деревье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Шляпочные грибы_x000b_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5445000"/>
            <a:ext cx="37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икори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1636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26828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43280" y="21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48360" y="3284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08360" y="29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72000" y="3897360"/>
            <a:ext cx="75708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35280" y="47242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5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468936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7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0000" y="12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8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08360" y="21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9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08360" y="29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0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8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1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4364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2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8720" y="12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3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72000" y="21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4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08720" y="29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5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00720" y="472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6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72000" y="38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7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872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8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35640" y="2168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9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30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0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72360" y="3860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1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64360" y="472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2" action="ppaction://hlinksldjump"/>
              </a:rPr>
              <a:t>4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3" action="ppaction://hlinksldjump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8720" y="12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4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5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01080" y="2168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72360" y="1305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30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6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6000" y="3860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7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01080" y="468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8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2920" y="225360"/>
            <a:ext cx="3565440" cy="94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33"/>
                </a:solidFill>
                <a:latin typeface="Arial"/>
              </a:rPr>
              <a:t>Общая характе-ристика гри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8000" y="1376280"/>
            <a:ext cx="3492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Плесневые гри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2920" y="2168640"/>
            <a:ext cx="34210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Шляпочн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2920" y="303372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2920" y="389736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Значение гри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2920" y="472428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38800" y="609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9" action="ppaction://hlinksldjump"/>
          </p:cNvPr>
          <p:cNvSpPr/>
          <p:nvPr/>
        </p:nvSpPr>
        <p:spPr>
          <a:xfrm>
            <a:off x="817236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33"/>
                </a:solidFill>
                <a:uFillTx/>
                <a:latin typeface="Arial"/>
              </a:rPr>
              <a:t>6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0" action="ppaction://hlinksldjump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36000" y="1305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1" action="ppaction://hlinksldjump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01080" y="2168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2" action="ppaction://hlinksldjump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101080" y="30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3" action="ppaction://hlinksldjump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01080" y="382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101080" y="4653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8000" y="551664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00360" y="55180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4000" y="5516640"/>
            <a:ext cx="79236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5516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64360" y="5553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5516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64360" y="5516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31640" y="2312640"/>
            <a:ext cx="7772400" cy="266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ие грибы ищут специально обученные свинь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Шляпочные грибы_x000b_6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92360" y="530064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трюф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3640" y="2168640"/>
            <a:ext cx="511164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ются грибы поражающие зерновые культур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403280" y="297000"/>
            <a:ext cx="644544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32360" y="5445000"/>
            <a:ext cx="37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порынья, голов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904000" y="2168640"/>
            <a:ext cx="21398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31640" y="1952640"/>
            <a:ext cx="7772400" cy="345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 называются заболевания человека, вызываемые паразитическими грибам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64785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08360" y="5624640"/>
            <a:ext cx="26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ико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600000" y="2023920"/>
            <a:ext cx="4861080" cy="450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гриб поселяющийся на стволах деревьев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 его плодовое тело похоже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копыто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533700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трут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58920" y="2023920"/>
            <a:ext cx="28717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492000" y="1808280"/>
            <a:ext cx="4573800" cy="46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роизводя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печатл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бугленных головешек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то же их так повредил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33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8920" y="5481720"/>
            <a:ext cx="28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голов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87280" y="1773360"/>
            <a:ext cx="243540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58560" y="2276280"/>
            <a:ext cx="8132760" cy="216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ибы, развивающиеся на хлебе, называют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360" y="48340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лесне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58560" y="2276640"/>
            <a:ext cx="81327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6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56000" y="4761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фитоф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6360" y="2168640"/>
            <a:ext cx="7848360" cy="2287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Назовите гриб, являющийся врагом картофеля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719280" y="2060280"/>
            <a:ext cx="7772400" cy="270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зовите грибы которые человек использует в приготовлении пищ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763280" y="225360"/>
            <a:ext cx="5977080" cy="15638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Значение грибов 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08000" y="504972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ъедобные шляпочные, дрож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76000" y="2097000"/>
            <a:ext cx="810108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ие грибы специально выращивают в теплицах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763280" y="367920"/>
            <a:ext cx="5977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начени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е грибов    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40000" y="50846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Шампиньоны, вёшен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47640" y="2097000"/>
            <a:ext cx="7772400" cy="24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гриб используют для приготовления сыра рокфор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186920" y="296640"/>
            <a:ext cx="6046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512136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пеницил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000" y="1881360"/>
            <a:ext cx="7885080" cy="270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 называется грибница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рибов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31640" y="188640"/>
            <a:ext cx="79567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   _x000b_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6000" y="501336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мицел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527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гриб вызывает заболевание легких у птиц аспергиллез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295280" y="225360"/>
            <a:ext cx="64072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2360" y="5049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Асперги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47640" y="2168280"/>
            <a:ext cx="77724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За какое открытие трое ученых были удостоены Нобелевской преми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4834080"/>
            <a:ext cx="67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За открытие пеницилл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47640" y="2168280"/>
            <a:ext cx="77724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гриб уничтожает деревья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 6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1640" y="4976640"/>
            <a:ext cx="28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трут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1280" y="2097000"/>
            <a:ext cx="7772400" cy="23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Есть грибы и не в лесу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 тесте, в пиве и квасу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079280" y="225000"/>
            <a:ext cx="6399000" cy="14922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76360" y="501336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87640" y="468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Дрож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02920" y="2276640"/>
            <a:ext cx="5437080" cy="396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Знает даже не грибник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елый – значит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511280" y="260280"/>
            <a:ext cx="597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87640" y="45450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ор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264360" y="2673360"/>
            <a:ext cx="24987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131640" y="2096640"/>
            <a:ext cx="5580360" cy="370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н в лесу стоял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икто его не брал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 красной шапке модной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икуда не годный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97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 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92360" y="584208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ухом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31640" y="2023920"/>
            <a:ext cx="24973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834920" y="1881360"/>
            <a:ext cx="6049800" cy="35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ыженький Ванёк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репкий паренёк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прятался за пень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 шапка набекрен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368360" y="188640"/>
            <a:ext cx="6081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 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0" y="558972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Рыж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900000" y="1952640"/>
            <a:ext cx="7772400" cy="3997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доль лесных дороже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Много белых ноже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 шляпках разноцветных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дали приметных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обирай, не мешкай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Это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6360" y="50497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ыроеж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900000" y="1952280"/>
            <a:ext cx="7772400" cy="3313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 пеньке живет семья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Мама, папа, брат и 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Дом один у нас, а крыш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Есть у каждого сво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6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5516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Опя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280" y="296640"/>
            <a:ext cx="6373800" cy="136836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419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Что раньше называли «мясом для бедняков» 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00360" y="479736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гриб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47640" y="2599920"/>
            <a:ext cx="7772400" cy="219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особ размножения дрожжей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934560" y="260280"/>
            <a:ext cx="7091640" cy="20527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_x000b_  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504972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чк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47640" y="225360"/>
            <a:ext cx="7416720" cy="159552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800"/>
            </a:br>
            <a:r>
              <a:rPr b="1" lang="en-US" sz="4800" spc="-1" strike="noStrike" u="sng">
                <a:solidFill>
                  <a:srgbClr val="ff0033"/>
                </a:solidFill>
                <a:uFillTx/>
                <a:latin typeface="Arial"/>
              </a:rPr>
              <a:t>20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527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рибы, у которых плодовое тело состоит из шляпки и пеньк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16000" y="5013360"/>
            <a:ext cx="39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шляпочн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71280" y="225000"/>
            <a:ext cx="7056360" cy="141444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66160" cy="3024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По народным поверьям, они появляются в местах, где по ночам пляшут ведьмы. Что это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47640" y="4976640"/>
            <a:ext cx="56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Ведьмины круги, образуют гриб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9640" y="333360"/>
            <a:ext cx="6732360" cy="137952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95280" y="1952280"/>
            <a:ext cx="7382160" cy="270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акие грибы являются двойниками съедобных грибов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24360" y="4724280"/>
            <a:ext cx="32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лож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6842160" cy="140508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5</a:t>
            </a: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2200" y="1980720"/>
            <a:ext cx="7777080" cy="2132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чему белые грибы получили такое название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6360" y="4257720"/>
            <a:ext cx="755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Их мякоть на срезе не темнеет даже при варк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7640" y="260280"/>
            <a:ext cx="7056360" cy="140328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6</a:t>
            </a: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80360" cy="3349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Это что за инородец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есь морщинистый уродец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 лицо-то с кулачок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Здравствуй. Первый гриб -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59280" y="5553000"/>
            <a:ext cx="30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сморч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47640" y="2421000"/>
            <a:ext cx="7772400" cy="2419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ука изучающая гри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863280" y="260280"/>
            <a:ext cx="6877080" cy="18734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58920" y="5265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иколог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2560" y="2565000"/>
            <a:ext cx="7772400" cy="2592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 каким организмам, по наличию ядра, относят гри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68000" y="296640"/>
            <a:ext cx="7775640" cy="1979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537372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эукариот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2312640"/>
            <a:ext cx="7772400" cy="28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ахаромицеты. Как их называют по другому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58920" y="296640"/>
            <a:ext cx="6337440" cy="1871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5445000"/>
            <a:ext cx="24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дрож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4360" y="2312640"/>
            <a:ext cx="7772400" cy="28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пособы размножения грибов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258920" y="296640"/>
            <a:ext cx="6337440" cy="1871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6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76360" y="5553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ловой и беспол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115640" y="2241360"/>
            <a:ext cx="6953400" cy="2484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иб образующий белую плесень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187280" y="296640"/>
            <a:ext cx="57945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_x000b_ 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84720" y="497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мук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4:43:57Z</dcterms:created>
  <dc:creator>ольга</dc:creator>
  <dc:description/>
  <dc:language>en-US</dc:language>
  <cp:lastModifiedBy>Ольга</cp:lastModifiedBy>
  <dcterms:modified xsi:type="dcterms:W3CDTF">2011-04-18T15:48:28Z</dcterms:modified>
  <cp:revision>26</cp:revision>
  <dc:subject/>
  <dc:title>гриб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4000000000001024110</vt:lpwstr>
  </property>
</Properties>
</file>