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782-F0EE-4EDC-8592-B41520E6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13C-35F4-43CF-9C59-D3936126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393-4B82-40E6-9962-DBB657A8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968-485F-444F-A747-2A229160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6C4A-EDD3-4B54-B35D-35F0E621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2D6A-7F87-4E3A-BF46-976B1D29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6457-88E0-42A0-A648-48B08B96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DEA7-55B9-42D1-99D4-72FB76B5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0DB0-82F2-442B-A972-A019F42E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20CD-5E10-4730-AA65-E9998D6D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37CB-A1C0-4796-B9F6-A84D1693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1B3-E3EA-43C6-9232-660B1663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AD32-239E-4FF5-A910-177E5DCB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6A0E-CFB4-4602-AFFD-67020FE3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BD8A-DF96-4159-A946-A765B378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59DF-4AC7-4084-9965-BF1EA91D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A73A-C976-4DE0-8735-0B2B1C4C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B0A-1641-4126-9389-C9AC9308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331-2D47-4235-9480-0A4BB3CA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3DD-0FBD-4FA3-A6AF-FAF410F5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52CE-6A13-4DB3-B4F8-9A739EFF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C0D-C73D-4461-8BC1-49244385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88E-E5D2-418C-8237-22BF0F9C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628-E2D2-4950-AAED-F5469397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C2D0-2362-4E78-9B48-244B098262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DBA5-DE55-48B7-B12C-B56BB2766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" Target="slide33.xml"/><Relationship Id="rId6" Type="http://schemas.openxmlformats.org/officeDocument/2006/relationships/slide" Target="slide4.xml"/><Relationship Id="rId7" Type="http://schemas.openxmlformats.org/officeDocument/2006/relationships/slide" Target="slide34.xml"/><Relationship Id="rId8" Type="http://schemas.openxmlformats.org/officeDocument/2006/relationships/slide" Target="slide10.xml"/><Relationship Id="rId9" Type="http://schemas.openxmlformats.org/officeDocument/2006/relationships/slide" Target="slide16.xml"/><Relationship Id="rId10" Type="http://schemas.openxmlformats.org/officeDocument/2006/relationships/slide" Target="slide22.xml"/><Relationship Id="rId11" Type="http://schemas.openxmlformats.org/officeDocument/2006/relationships/slide" Target="slide28.xml"/><Relationship Id="rId12" Type="http://schemas.openxmlformats.org/officeDocument/2006/relationships/slide" Target="slide5.xml"/><Relationship Id="rId13" Type="http://schemas.openxmlformats.org/officeDocument/2006/relationships/slide" Target="slide11.xml"/><Relationship Id="rId14" Type="http://schemas.openxmlformats.org/officeDocument/2006/relationships/slide" Target="slide17.xml"/><Relationship Id="rId15" Type="http://schemas.openxmlformats.org/officeDocument/2006/relationships/slide" Target="slide23.xml"/><Relationship Id="rId16" Type="http://schemas.openxmlformats.org/officeDocument/2006/relationships/slide" Target="slide35.xml"/><Relationship Id="rId17" Type="http://schemas.openxmlformats.org/officeDocument/2006/relationships/slide" Target="slide29.xml"/><Relationship Id="rId18" Type="http://schemas.openxmlformats.org/officeDocument/2006/relationships/slide" Target="slide6.xml"/><Relationship Id="rId19" Type="http://schemas.openxmlformats.org/officeDocument/2006/relationships/slide" Target="slide18.xml"/><Relationship Id="rId20" Type="http://schemas.openxmlformats.org/officeDocument/2006/relationships/slide" Target="slide24.xml"/><Relationship Id="rId21" Type="http://schemas.openxmlformats.org/officeDocument/2006/relationships/slide" Target="slide30.xml"/><Relationship Id="rId22" Type="http://schemas.openxmlformats.org/officeDocument/2006/relationships/slide" Target="slide36.xml"/><Relationship Id="rId23" Type="http://schemas.openxmlformats.org/officeDocument/2006/relationships/slide" Target="slide36.xml"/><Relationship Id="rId24" Type="http://schemas.openxmlformats.org/officeDocument/2006/relationships/slide" Target="slide12.xml"/><Relationship Id="rId25" Type="http://schemas.openxmlformats.org/officeDocument/2006/relationships/slide" Target="slide7.xml"/><Relationship Id="rId26" Type="http://schemas.openxmlformats.org/officeDocument/2006/relationships/slide" Target="slide25.xml"/><Relationship Id="rId27" Type="http://schemas.openxmlformats.org/officeDocument/2006/relationships/slide" Target="slide31.xml"/><Relationship Id="rId28" Type="http://schemas.openxmlformats.org/officeDocument/2006/relationships/slide" Target="slide37.xml"/><Relationship Id="rId29" Type="http://schemas.openxmlformats.org/officeDocument/2006/relationships/slide" Target="slide2.xml"/><Relationship Id="rId30" Type="http://schemas.openxmlformats.org/officeDocument/2006/relationships/slide" Target="slide8.xml"/><Relationship Id="rId31" Type="http://schemas.openxmlformats.org/officeDocument/2006/relationships/slide" Target="slide14.xml"/><Relationship Id="rId32" Type="http://schemas.openxmlformats.org/officeDocument/2006/relationships/slide" Target="slide20.xml"/><Relationship Id="rId33" Type="http://schemas.openxmlformats.org/officeDocument/2006/relationships/slide" Target="slide26.xml"/><Relationship Id="rId34" Type="http://schemas.openxmlformats.org/officeDocument/2006/relationships/slide" Target="slide39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828180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Игра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Биологическое поле» </a:t>
            </a:r>
            <a:br>
              <a:rPr sz="5400"/>
            </a:b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 теме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«Грибы»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2560" y="259884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588000" y="2565360"/>
            <a:ext cx="2210040" cy="341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1640" y="2637000"/>
            <a:ext cx="2432160" cy="331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0" y="4581360"/>
            <a:ext cx="28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6360" y="2168280"/>
            <a:ext cx="7740720" cy="2050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 помощью чего размножаются плесневые гриб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6920" y="458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2241720"/>
            <a:ext cx="4464000" cy="33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какой плесени делают антибиотик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522936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56360" y="2313000"/>
            <a:ext cx="3132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62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ого плесневого гриба мицелий составляет одну клетк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619280" y="404640"/>
            <a:ext cx="543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779436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мукора созревают в сумке которая называется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95640" y="5265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ан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527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1640" y="2258640"/>
            <a:ext cx="7794720" cy="253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поры пеницилла и аспергилла созревают в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9280" y="225360"/>
            <a:ext cx="720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5121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онид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200720" cy="187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на белая или бледная. Кто о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24000" y="297000"/>
            <a:ext cx="7850160" cy="16920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0800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га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392720" y="4329000"/>
            <a:ext cx="298908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2457000"/>
            <a:ext cx="7772400" cy="20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ие группы делят шляпочные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ибы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11280" y="497664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ластинчатые, трубчат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5221080" cy="230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борови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как по другому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71640" y="530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119640" y="2529000"/>
            <a:ext cx="24829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9640" y="2312640"/>
            <a:ext cx="7772400" cy="252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овместная жизнь различных организм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76360" y="259920"/>
            <a:ext cx="770400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Шляпочные гриб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0" y="515772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имбио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симбиоз мицелия гриба с корнями деревье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ри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2682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4328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2000" y="389736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24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468936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000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0836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2000" y="21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29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0072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72000" y="38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3564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64360" y="47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4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8720" y="12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7236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6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6000" y="3860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7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01080" y="468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8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2920" y="225360"/>
            <a:ext cx="356544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Arial"/>
              </a:rPr>
              <a:t>Общая характе-ристика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1376280"/>
            <a:ext cx="3492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Плесневые гри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2920" y="2168640"/>
            <a:ext cx="3421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Шляпочн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920" y="303372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920" y="389736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2920" y="472428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38800" y="609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9" action="ppaction://hlinksldjump"/>
          </p:cNvPr>
          <p:cNvSpPr/>
          <p:nvPr/>
        </p:nvSpPr>
        <p:spPr>
          <a:xfrm>
            <a:off x="8172360" y="368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33"/>
                </a:solidFill>
                <a:uFillTx/>
                <a:latin typeface="Arial"/>
              </a:rPr>
              <a:t>6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0" action="ppaction://hlinksldjump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36000" y="1305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1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01080" y="2168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2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01080" y="303372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3" action="ppaction://hlinksldjump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01080" y="382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46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5516640"/>
            <a:ext cx="33843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00360" y="55180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4000" y="551664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64360" y="5553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64360" y="551664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31640" y="2312640"/>
            <a:ext cx="7772400" cy="266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грибы ищут специально обученные свиньи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Шляпочные грибы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92360" y="530064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юф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168640"/>
            <a:ext cx="511164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ются грибы поражающие зерновые культур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32360" y="544500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порынья, 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904000" y="2168640"/>
            <a:ext cx="21398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31640" y="1952640"/>
            <a:ext cx="7772400" cy="345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ются заболевания человека, вызываемые паразитическими грибам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08360" y="5624640"/>
            <a:ext cx="26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600000" y="2023920"/>
            <a:ext cx="4861080" cy="450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гриб поселяющийся на стволах деревьев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его плодовое тело похоже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опыто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5337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58920" y="2023920"/>
            <a:ext cx="2871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492000" y="1808280"/>
            <a:ext cx="4573800" cy="468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изводя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печатл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бугленных головеше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то же их так повредил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33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8920" y="548172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голов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87280" y="1773360"/>
            <a:ext cx="24354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58560" y="2276280"/>
            <a:ext cx="8132760" cy="216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ы, развивающиеся на хлебе, называют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48340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лесне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рибы-паразиты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_x000b_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4761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фитоф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6360" y="2168640"/>
            <a:ext cx="7848360" cy="228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азовите гриб, являющийся врагом картофеля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19280" y="2060280"/>
            <a:ext cx="777240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грибы которые человек использует в приготовлении пищ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Значение грибов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08000" y="504972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ъедобные шляпочные, 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76000" y="2097000"/>
            <a:ext cx="810108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ие грибы специально выращивают в теплиц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е грибов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5084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Шампиньоны, вёше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47640" y="2097000"/>
            <a:ext cx="777240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используют для приготовления сыра рокфор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5121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пеницил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1881360"/>
            <a:ext cx="7885080" cy="270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 называется грибница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31640" y="18864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   _x000b_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6000" y="501336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мицел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вызывает заболевание легких у птиц аспергиллез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2360" y="504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Асперги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а какое открытие трое ученых были удостоены Нобелевской преми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483408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За открытие пеницилл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47640" y="2168280"/>
            <a:ext cx="7772400" cy="21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гриб уничтожает деревь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грибов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   6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4976640"/>
            <a:ext cx="28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трут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2097000"/>
            <a:ext cx="7772400" cy="23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грибы и не в лесу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тесте, в пиве и квасу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8764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02920" y="2276640"/>
            <a:ext cx="5437080" cy="396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нает даже не грибник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лый – значит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51128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87640" y="45450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оров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264360" y="2673360"/>
            <a:ext cx="24987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131640" y="2096640"/>
            <a:ext cx="5580360" cy="3708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н в лесу стоял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то его не брал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красной шапке модной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икуда не годный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58420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ухом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31640" y="2023920"/>
            <a:ext cx="2497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834920" y="1881360"/>
            <a:ext cx="6049800" cy="35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Рыженький Ва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репкий паренёк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прятался за пень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 шапка набекрен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 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0" y="55897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ыж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00000" y="1952640"/>
            <a:ext cx="7772400" cy="399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доль лесных дор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ного белых ноже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 шляпках разноцветных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дали приметных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обирай, не мешкай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5049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ыроеж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900000" y="1952280"/>
            <a:ext cx="7772400" cy="331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 пеньке живет семья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Мама, папа, брат и 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Дом один у нас, а крыш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Есть у каждого своя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Загадки о грибах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551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пя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280" y="296640"/>
            <a:ext cx="6373800" cy="136836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419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то раньше называли «мясом для бедняков»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00360" y="479736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гриб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47640" y="2599920"/>
            <a:ext cx="7772400" cy="219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 размножения дрожжей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934560" y="260280"/>
            <a:ext cx="7091640" cy="20527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_x000b_  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чк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225360"/>
            <a:ext cx="7416720" cy="1595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800"/>
            </a:br>
            <a:r>
              <a:rPr b="1" lang="en-US" sz="4800" spc="-1" strike="noStrike" u="sng">
                <a:solidFill>
                  <a:srgbClr val="ff0033"/>
                </a:solidFill>
                <a:uFillTx/>
                <a:latin typeface="Arial"/>
              </a:rPr>
              <a:t>20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527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рибы, у которых плодовое тело состоит из шляпки и пеньк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16000" y="5013360"/>
            <a:ext cx="39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шляпоч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280" y="225000"/>
            <a:ext cx="7056360" cy="141444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66160" cy="302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о народным поверьям, они появляются в местах, где по ночам пляшут ведьмы. Что эт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47640" y="4976640"/>
            <a:ext cx="56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едьмины круги, образуют гри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9640" y="333360"/>
            <a:ext cx="6732360" cy="137952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5280" y="1952280"/>
            <a:ext cx="7382160" cy="27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акие грибы являются двойниками съедобных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4724280"/>
            <a:ext cx="32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лож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6842160" cy="14050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777080" cy="2132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чему белые грибы получили такое названи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6360" y="4257720"/>
            <a:ext cx="75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Их мякоть на срезе не темнеет даже при варк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7640" y="260280"/>
            <a:ext cx="7056360" cy="140328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Всякая всячина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6</a:t>
            </a:r>
            <a:r>
              <a:rPr b="1" lang="en-US" sz="4400" spc="-1" strike="noStrike" u="sng">
                <a:solidFill>
                  <a:srgbClr val="ff0033"/>
                </a:solidFill>
                <a:uFillTx/>
                <a:latin typeface="Arial"/>
              </a:rPr>
              <a:t>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80360" cy="3349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о что за инородец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есь морщинистый урод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лицо-то с кулачок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Здравствуй. Первый гриб -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59280" y="5553000"/>
            <a:ext cx="30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сморч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47640" y="2421000"/>
            <a:ext cx="7772400" cy="2419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ука изучающая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8734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58920" y="52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Миколо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2560" y="2565000"/>
            <a:ext cx="7772400" cy="2592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 каким организмам, по наличию ядра, относят гриб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68000" y="296640"/>
            <a:ext cx="7775640" cy="1979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37372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эукариот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ахаромицеты. Как их называют по другом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5445000"/>
            <a:ext cx="24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дрож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360" y="2312640"/>
            <a:ext cx="7772400" cy="28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ы размножения грибов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258920" y="296640"/>
            <a:ext cx="6337440" cy="18716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Общая характеристика грибов _x000b_6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5553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оловой и беспол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115640" y="2241360"/>
            <a:ext cx="6953400" cy="248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риб образующий белую плесень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лесневые грибы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84720" y="497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мук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8:28Z</dcterms:modified>
  <cp:revision>26</cp:revision>
  <dc:subject/>
  <dc:title>гри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4000000000001024110</vt:lpwstr>
  </property>
</Properties>
</file>