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E3C9-0C94-4ABB-9FF1-1ECBF569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C15-8EF6-4AC2-9323-A986A339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3061-3C33-4EF5-9E2F-9457CFA6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F28-0709-4A68-9D72-A61299F0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6F8D-627E-40AB-BE72-B3986B79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99CD-4EFB-4547-A377-DF4FD452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970F-3AF1-4739-94EE-49574A29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7520-0F86-4D5B-B4CB-658D31E3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3D2D-EEA6-438E-B0C5-0DE14648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DB9C-6909-4B0F-A9FD-7EF2ED29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6B22-B664-410C-AF2B-D4253BBE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650E-90EE-4A21-8E93-3F5D81DF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3B85-BB64-4127-BFD3-06B0A7F0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5C24-EC6E-47A8-9600-DCE1EC9B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2800-796B-4267-B1D0-D9829532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C023-5C95-4A80-AD4D-765E136A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D32F-2C55-4B8C-84E3-7086EBA6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DDE7-A626-4AA3-85A6-08B399E5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97E8-A5C5-44EB-A10D-7EBFDC43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FD85-F78A-41E5-B035-609FB1BB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593-838B-47D3-8D9F-07402F40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9645-0155-4F58-B314-2339174A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F3E0-C4E7-4D9C-B195-9E8D31DF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841-E129-4892-8E4E-F5DB3A4B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B26E-EA99-4ECE-9E9A-94C7971B3D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730A-FD74-4AF6-AAF8-5A4D210CC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21.xml"/><Relationship Id="rId4" Type="http://schemas.openxmlformats.org/officeDocument/2006/relationships/slide" Target="slide27.xml"/><Relationship Id="rId5" Type="http://schemas.openxmlformats.org/officeDocument/2006/relationships/slide" Target="slide33.xml"/><Relationship Id="rId6" Type="http://schemas.openxmlformats.org/officeDocument/2006/relationships/slide" Target="slide4.xml"/><Relationship Id="rId7" Type="http://schemas.openxmlformats.org/officeDocument/2006/relationships/slide" Target="slide34.xml"/><Relationship Id="rId8" Type="http://schemas.openxmlformats.org/officeDocument/2006/relationships/slide" Target="slide10.xml"/><Relationship Id="rId9" Type="http://schemas.openxmlformats.org/officeDocument/2006/relationships/slide" Target="slide16.xml"/><Relationship Id="rId10" Type="http://schemas.openxmlformats.org/officeDocument/2006/relationships/slide" Target="slide22.xml"/><Relationship Id="rId11" Type="http://schemas.openxmlformats.org/officeDocument/2006/relationships/slide" Target="slide28.xml"/><Relationship Id="rId12" Type="http://schemas.openxmlformats.org/officeDocument/2006/relationships/slide" Target="slide5.xml"/><Relationship Id="rId13" Type="http://schemas.openxmlformats.org/officeDocument/2006/relationships/slide" Target="slide11.xml"/><Relationship Id="rId14" Type="http://schemas.openxmlformats.org/officeDocument/2006/relationships/slide" Target="slide17.xml"/><Relationship Id="rId15" Type="http://schemas.openxmlformats.org/officeDocument/2006/relationships/slide" Target="slide23.xml"/><Relationship Id="rId16" Type="http://schemas.openxmlformats.org/officeDocument/2006/relationships/slide" Target="slide35.xml"/><Relationship Id="rId17" Type="http://schemas.openxmlformats.org/officeDocument/2006/relationships/slide" Target="slide29.xml"/><Relationship Id="rId18" Type="http://schemas.openxmlformats.org/officeDocument/2006/relationships/slide" Target="slide6.xml"/><Relationship Id="rId19" Type="http://schemas.openxmlformats.org/officeDocument/2006/relationships/slide" Target="slide18.xml"/><Relationship Id="rId20" Type="http://schemas.openxmlformats.org/officeDocument/2006/relationships/slide" Target="slide24.xml"/><Relationship Id="rId21" Type="http://schemas.openxmlformats.org/officeDocument/2006/relationships/slide" Target="slide30.xml"/><Relationship Id="rId22" Type="http://schemas.openxmlformats.org/officeDocument/2006/relationships/slide" Target="slide36.xml"/><Relationship Id="rId23" Type="http://schemas.openxmlformats.org/officeDocument/2006/relationships/slide" Target="slide36.xml"/><Relationship Id="rId24" Type="http://schemas.openxmlformats.org/officeDocument/2006/relationships/slide" Target="slide12.xml"/><Relationship Id="rId25" Type="http://schemas.openxmlformats.org/officeDocument/2006/relationships/slide" Target="slide7.xml"/><Relationship Id="rId26" Type="http://schemas.openxmlformats.org/officeDocument/2006/relationships/slide" Target="slide25.xml"/><Relationship Id="rId27" Type="http://schemas.openxmlformats.org/officeDocument/2006/relationships/slide" Target="slide31.xml"/><Relationship Id="rId28" Type="http://schemas.openxmlformats.org/officeDocument/2006/relationships/slide" Target="slide37.xml"/><Relationship Id="rId29" Type="http://schemas.openxmlformats.org/officeDocument/2006/relationships/slide" Target="slide2.xml"/><Relationship Id="rId30" Type="http://schemas.openxmlformats.org/officeDocument/2006/relationships/slide" Target="slide8.xml"/><Relationship Id="rId31" Type="http://schemas.openxmlformats.org/officeDocument/2006/relationships/slide" Target="slide14.xml"/><Relationship Id="rId32" Type="http://schemas.openxmlformats.org/officeDocument/2006/relationships/slide" Target="slide20.xml"/><Relationship Id="rId33" Type="http://schemas.openxmlformats.org/officeDocument/2006/relationships/slide" Target="slide26.xml"/><Relationship Id="rId34" Type="http://schemas.openxmlformats.org/officeDocument/2006/relationships/slide" Target="slide39.xml"/><Relationship Id="rId3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828180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Игра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«Биологическое поле» </a:t>
            </a:r>
            <a:br>
              <a:rPr sz="5400"/>
            </a:b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 теме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«Грибы»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2560" y="2598840"/>
            <a:ext cx="7772400" cy="3497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588000" y="2565360"/>
            <a:ext cx="2210040" cy="341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31640" y="2637000"/>
            <a:ext cx="2432160" cy="331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0" y="4581360"/>
            <a:ext cx="284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: учитель биологии Зенченко О.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веро-Казахстанска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6360" y="2168280"/>
            <a:ext cx="7740720" cy="2050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 помощью чего размножаются плесневые грибы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258920" y="367920"/>
            <a:ext cx="59054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6920" y="4581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2241720"/>
            <a:ext cx="4464000" cy="33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 какой плесени делают антибиотик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584000" y="404640"/>
            <a:ext cx="561492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522936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пеници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256360" y="2313000"/>
            <a:ext cx="3132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7640" y="2421000"/>
            <a:ext cx="7772400" cy="262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ого плесневого гриба мицелий составляет одну клетку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619280" y="404640"/>
            <a:ext cx="543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95640" y="548172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мук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10920" y="2420640"/>
            <a:ext cx="7794360" cy="253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поры мукора созревают в сумке которая называется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50920" y="225360"/>
            <a:ext cx="55800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95640" y="5265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ан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527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01640" y="2258640"/>
            <a:ext cx="7794720" cy="253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поры пеницилла и аспергилла созревают в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539280" y="225360"/>
            <a:ext cx="7201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6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95640" y="5121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онид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4360" y="2276280"/>
            <a:ext cx="7200720" cy="187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на белая или бледная. Кто он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24000" y="297000"/>
            <a:ext cx="7850160" cy="16920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08000" y="5049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га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392720" y="4329000"/>
            <a:ext cx="298908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920" y="2457000"/>
            <a:ext cx="7772400" cy="2087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акие группы делят шляпочные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395280" y="301680"/>
            <a:ext cx="752472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ибы_x000b_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11280" y="497664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ластинчатые, трубчат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4000" y="2565000"/>
            <a:ext cx="5221080" cy="230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 борови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как по другому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685800" y="301680"/>
            <a:ext cx="7199280" cy="1866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71640" y="530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119640" y="2529000"/>
            <a:ext cx="24829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9640" y="2312640"/>
            <a:ext cx="7772400" cy="2521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совместная жизнь различных организмо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576360" y="259920"/>
            <a:ext cx="7704000" cy="180036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0" y="515772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симбио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31640" y="2312640"/>
            <a:ext cx="7772400" cy="266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симбиоз мицелия гриба с корнями деревье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Шляпочные грибы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5445000"/>
            <a:ext cx="37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ри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16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26828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4328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48360" y="3284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0836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72000" y="3897360"/>
            <a:ext cx="75708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47242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468936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000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36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0836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8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1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4364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2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3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7200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72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5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00720" y="47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6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72000" y="38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7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872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3564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9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72360" y="3860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1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64360" y="47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2" action="ppaction://hlinksldjump"/>
              </a:rPr>
              <a:t>4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3" action="ppaction://hlinksldjump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872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4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5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0108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72360" y="1305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6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6000" y="3860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7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01080" y="468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8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2920" y="225360"/>
            <a:ext cx="356544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Arial"/>
              </a:rPr>
              <a:t>Общая характе-ристика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000" y="1376280"/>
            <a:ext cx="3492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Плесневые гри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2920" y="2168640"/>
            <a:ext cx="34210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Шляпоч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2920" y="303372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2920" y="389736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2920" y="472428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38800" y="609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9" action="ppaction://hlinksldjump"/>
          </p:cNvPr>
          <p:cNvSpPr/>
          <p:nvPr/>
        </p:nvSpPr>
        <p:spPr>
          <a:xfrm>
            <a:off x="8172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33"/>
                </a:solidFill>
                <a:uFillTx/>
                <a:latin typeface="Arial"/>
              </a:rPr>
              <a:t>6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0" action="ppaction://hlinksldjump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36000" y="1305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1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0108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2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0108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3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01080" y="38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4653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551664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00360" y="55180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4000" y="5516640"/>
            <a:ext cx="79236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64360" y="5553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6436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31640" y="2312640"/>
            <a:ext cx="7772400" cy="266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е грибы ищут специально обученные свинь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Шляпочные грибы_x000b_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92360" y="530064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трюф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3640" y="2168640"/>
            <a:ext cx="511164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ются грибы поражающие зерновые культур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403280" y="297000"/>
            <a:ext cx="644544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32360" y="5445000"/>
            <a:ext cx="37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ынья, голов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904000" y="2168640"/>
            <a:ext cx="21398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31640" y="1952640"/>
            <a:ext cx="7772400" cy="345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 называются заболевания человека, вызываемые паразитическими грибам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64785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08360" y="5624640"/>
            <a:ext cx="26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600000" y="2023920"/>
            <a:ext cx="4861080" cy="450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гриб поселяющийся на стволах деревьев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его плодовое тело похоже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опыто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5337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трут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58920" y="2023920"/>
            <a:ext cx="2871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492000" y="1808280"/>
            <a:ext cx="4573800" cy="46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роизводя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печатл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бугленных головеше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то же их так повредил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33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8920" y="5481720"/>
            <a:ext cx="28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голов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87280" y="1773360"/>
            <a:ext cx="243540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58560" y="2276280"/>
            <a:ext cx="8132760" cy="216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ы, развивающиеся на хлебе, называют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48340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лесне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58560" y="227664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0" y="4761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фитоф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6360" y="2168640"/>
            <a:ext cx="7848360" cy="228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Назовите гриб, являющийся врагом картофеля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19280" y="2060280"/>
            <a:ext cx="7772400" cy="270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зовите грибы которые человек использует в приготовлении пищ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763280" y="225360"/>
            <a:ext cx="5977080" cy="15638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Значение грибов 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08000" y="504972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ъедобные шляпочные, 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76000" y="2097000"/>
            <a:ext cx="810108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ие грибы специально выращивают в теплицах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763280" y="367920"/>
            <a:ext cx="5977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е грибов    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40000" y="5084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Шампиньоны, вёше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47640" y="2097000"/>
            <a:ext cx="777240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используют для приготовления сыра рокфор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186920" y="296640"/>
            <a:ext cx="6046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5121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пеницил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000" y="1881360"/>
            <a:ext cx="7885080" cy="270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 называется грибница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31640" y="188640"/>
            <a:ext cx="79567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   _x000b_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6000" y="501336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мицел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527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вызывает заболевание легких у птиц аспергиллез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295280" y="225360"/>
            <a:ext cx="64072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2360" y="5049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Асперги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47640" y="2168280"/>
            <a:ext cx="77724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За какое открытие трое ученых были удостоены Нобелевской преми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483408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За открытие пеницил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47640" y="2168280"/>
            <a:ext cx="77724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уничтожает деревья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4976640"/>
            <a:ext cx="28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трут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2097000"/>
            <a:ext cx="7772400" cy="23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Есть грибы и не в лесу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тесте, в пиве и квасу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079280" y="225000"/>
            <a:ext cx="6399000" cy="14922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76360" y="501336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87640" y="468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02920" y="2276640"/>
            <a:ext cx="5437080" cy="396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нает даже не грибник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елый – значит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511280" y="260280"/>
            <a:ext cx="597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87640" y="45450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ор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264360" y="2673360"/>
            <a:ext cx="24987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131640" y="2096640"/>
            <a:ext cx="5580360" cy="370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н в лесу стоял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икто его не брал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 красной шапке модной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икуда не годный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7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 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2360" y="58420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ухом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31640" y="2023920"/>
            <a:ext cx="24973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834920" y="1881360"/>
            <a:ext cx="6049800" cy="35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ыженький Ванёк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репкий паренёк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прятался за пень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шапка набекрен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368360" y="188640"/>
            <a:ext cx="6081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 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0" y="558972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Рыж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00000" y="1952640"/>
            <a:ext cx="7772400" cy="399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доль лесных дороже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ного белых ноже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 шляпках разноцветных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дали приметных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обирай, не мешкай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о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50497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ыроеж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900000" y="1952280"/>
            <a:ext cx="7772400" cy="331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 пеньке живет семья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Мама, папа, брат и 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Дом один у нас, а крыш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Есть у каждого сво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6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551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пя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280" y="296640"/>
            <a:ext cx="6373800" cy="136836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419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Что раньше называли «мясом для бедняков»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00360" y="479736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гриб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47640" y="2599920"/>
            <a:ext cx="7772400" cy="219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особ размножения дрожжей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934560" y="260280"/>
            <a:ext cx="7091640" cy="20527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_x000b_  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504972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чк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47640" y="225360"/>
            <a:ext cx="7416720" cy="159552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800"/>
            </a:br>
            <a:r>
              <a:rPr b="1" lang="en-US" sz="4800" spc="-1" strike="noStrike" u="sng">
                <a:solidFill>
                  <a:srgbClr val="ff0033"/>
                </a:solidFill>
                <a:uFillTx/>
                <a:latin typeface="Arial"/>
              </a:rPr>
              <a:t>20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527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рибы, у которых плодовое тело состоит из шляпки и пеньк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16000" y="5013360"/>
            <a:ext cx="39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шляпоч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1280" y="225000"/>
            <a:ext cx="7056360" cy="141444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66160" cy="302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о народным поверьям, они появляются в местах, где по ночам пляшут ведьмы. Что это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47640" y="4976640"/>
            <a:ext cx="56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Ведьмины круги, образуют гриб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9640" y="333360"/>
            <a:ext cx="6732360" cy="137952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95280" y="1952280"/>
            <a:ext cx="7382160" cy="270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акие грибы являются двойниками съедобных 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4724280"/>
            <a:ext cx="32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лож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6842160" cy="140508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5</a:t>
            </a: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7777080" cy="2132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чему белые грибы получили такое название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6360" y="4257720"/>
            <a:ext cx="75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Их мякоть на срезе не темнеет даже при варк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7640" y="260280"/>
            <a:ext cx="7056360" cy="140328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6</a:t>
            </a: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80360" cy="3349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о что за инородец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есь морщинистый уродец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лицо-то с кулачок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дравствуй. Первый гриб -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59280" y="5553000"/>
            <a:ext cx="30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сморч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47640" y="2421000"/>
            <a:ext cx="7772400" cy="2419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ука изучающая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863280" y="260280"/>
            <a:ext cx="6877080" cy="18734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58920" y="5265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лог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2560" y="2565000"/>
            <a:ext cx="7772400" cy="2592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 каким организмам, по наличию ядра, относят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68000" y="296640"/>
            <a:ext cx="7775640" cy="1979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537372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эукариот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2312640"/>
            <a:ext cx="7772400" cy="28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ахаромицеты. Как их называют по другому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58920" y="296640"/>
            <a:ext cx="6337440" cy="1871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5445000"/>
            <a:ext cx="24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4360" y="2312640"/>
            <a:ext cx="7772400" cy="28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пособы размножения 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258920" y="296640"/>
            <a:ext cx="6337440" cy="1871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6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5553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ловой и беспол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115640" y="2241360"/>
            <a:ext cx="6953400" cy="248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 образующий белую плесень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187280" y="296640"/>
            <a:ext cx="57945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84720" y="497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мук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4:43:57Z</dcterms:created>
  <dc:creator>ольга</dc:creator>
  <dc:description/>
  <dc:language>en-US</dc:language>
  <cp:lastModifiedBy>Ольга</cp:lastModifiedBy>
  <dcterms:modified xsi:type="dcterms:W3CDTF">2011-04-18T15:48:28Z</dcterms:modified>
  <cp:revision>26</cp:revision>
  <dc:subject/>
  <dc:title>гриб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4000000000001024110</vt:lpwstr>
  </property>
</Properties>
</file>