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71B-5122-4EB2-968F-A0D4214F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6AA-D29C-45AB-9149-C8C53675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055-4D01-44D3-A5EF-254998E2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495-422A-44A8-84AF-F8F2C164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E939-4669-4773-9D42-8FBDDF75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9BFC-EA66-4511-AC78-F3CDBEE4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F8A6-D961-48ED-97DD-97997BB9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FDDC-117E-40F5-A6B6-B38ABF8A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0471-0AAB-4064-A919-6C31FABB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9771-E101-4004-B66C-9A054421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02C1-30EB-413E-AFAB-A536BC78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C37-C69A-4654-A9E4-F89573A2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D155-B302-4C55-BB56-FF849362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A0C7-B656-4464-AE97-E6423259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AF7F-FD8B-4A6C-BB9F-E0E55510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8968-7BFD-46E4-8154-9F946C2F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E186-F02A-4FDF-999E-6D28A7A5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D41-D7E1-423E-927F-70C7AB9E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182-81D7-4BFC-9A6B-655800D1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6F8-EA15-47F1-B8D3-4E9E4F6A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325-266D-4441-AAEE-2E7E620D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77E8-76CA-495E-BCEC-A41966BD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3C3-5E7A-4CAC-B689-EAC8DDDF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B46F-8B56-4AB2-B552-A6EB6E2A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F32E-B808-4D80-88AB-CF5597345D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0CEB-1D47-4178-A02E-3D755467D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26.xml"/><Relationship Id="rId20" Type="http://schemas.openxmlformats.org/officeDocument/2006/relationships/slide" Target="slide11.xml"/><Relationship Id="rId21" Type="http://schemas.openxmlformats.org/officeDocument/2006/relationships/slide" Target="slide7.xml"/><Relationship Id="rId22" Type="http://schemas.openxmlformats.org/officeDocument/2006/relationships/slide" Target="slide17.xml"/><Relationship Id="rId23" Type="http://schemas.openxmlformats.org/officeDocument/2006/relationships/slide" Target="slide12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-1289160"/>
            <a:ext cx="77724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        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03640" y="54936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Тема «Птицы»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97000"/>
            <a:ext cx="2816280" cy="345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4292640"/>
            <a:ext cx="406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х, чистюля! Ах, кокетка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ккуратней птицы н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груди всегда салфетка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на завтрак, и в обед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587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нездо свое он в поле вь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де тянутся растени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Его и песни и пол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шли в стихотворения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543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жаворо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624720" y="368280"/>
            <a:ext cx="20527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01640" y="2259000"/>
            <a:ext cx="6956640" cy="352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квозь летние сумерки пар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 краю искусственных во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расавица птица-дикар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 белое диво плыв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566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77080" y="512640"/>
            <a:ext cx="298908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19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ая птица вынашивает яйца на лап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50920" y="367920"/>
            <a:ext cx="7850160" cy="16923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48340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инг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543640" y="3176640"/>
            <a:ext cx="25700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920" y="24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птицы подбрасывают свой яйца в чужие гнезд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4653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уку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03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их австралийски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тиц яйц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ысижива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ам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цыплятки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558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тра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940280" y="3392640"/>
            <a:ext cx="3348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5892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их птиц птенцы появляются на свет чаще всего в середине зим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5344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2241720"/>
            <a:ext cx="574560" cy="7556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55640"/>
              <a:gd name="textAreaBottom" fmla="*/ 718560 h 755640"/>
            </a:gdLst>
            <a:ahLst/>
            <a:rect l="textAreaLeft" t="textAreaTop" r="textAreaRight" b="textAreaBottom"/>
            <a:pathLst>
              <a:path w="21600" h="28403">
                <a:moveTo>
                  <a:pt x="0" y="0"/>
                </a:moveTo>
                <a:lnTo>
                  <a:pt x="21600" y="0"/>
                </a:lnTo>
                <a:lnTo>
                  <a:pt x="21600" y="28403"/>
                </a:lnTo>
                <a:lnTo>
                  <a:pt x="0" y="28403"/>
                </a:lnTo>
                <a:close/>
              </a:path>
              <a:path fill="lightenLess" w="21600" h="28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03">
                <a:moveTo>
                  <a:pt x="21600" y="0"/>
                </a:moveTo>
                <a:lnTo>
                  <a:pt x="21600" y="28403"/>
                </a:lnTo>
                <a:lnTo>
                  <a:pt x="20200" y="27003"/>
                </a:lnTo>
                <a:lnTo>
                  <a:pt x="20200" y="1400"/>
                </a:lnTo>
                <a:close/>
              </a:path>
              <a:path fill="darkenLess" w="21600" h="28403">
                <a:moveTo>
                  <a:pt x="21600" y="28403"/>
                </a:moveTo>
                <a:lnTo>
                  <a:pt x="0" y="28403"/>
                </a:lnTo>
                <a:lnTo>
                  <a:pt x="1400" y="27003"/>
                </a:lnTo>
                <a:lnTo>
                  <a:pt x="20200" y="27003"/>
                </a:lnTo>
                <a:close/>
              </a:path>
              <a:path fill="lighten" w="21600" h="28403">
                <a:moveTo>
                  <a:pt x="0" y="28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03"/>
                </a:lnTo>
                <a:close/>
              </a:path>
              <a:path fill="darken" w="21600" h="28403">
                <a:moveTo>
                  <a:pt x="10800" y="7239"/>
                </a:moveTo>
                <a:lnTo>
                  <a:pt x="13376" y="9850"/>
                </a:ln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lnTo>
                  <a:pt x="17763" y="14202"/>
                </a:lnTo>
                <a:lnTo>
                  <a:pt x="16109" y="14202"/>
                </a:lnTo>
                <a:lnTo>
                  <a:pt x="16109" y="21391"/>
                </a:lnTo>
                <a:lnTo>
                  <a:pt x="5491" y="21391"/>
                </a:lnTo>
                <a:lnTo>
                  <a:pt x="5491" y="14202"/>
                </a:lnTo>
                <a:lnTo>
                  <a:pt x="3837" y="14202"/>
                </a:lnTo>
                <a:close/>
              </a:path>
              <a:path fill="darkenLess" w="21600" h="28403">
                <a:moveTo>
                  <a:pt x="13376" y="9850"/>
                </a:move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close/>
              </a:path>
              <a:path fill="darkenLess" w="21600" h="28403">
                <a:moveTo>
                  <a:pt x="9877" y="17701"/>
                </a:moveTo>
                <a:lnTo>
                  <a:pt x="11723" y="17701"/>
                </a:lnTo>
                <a:lnTo>
                  <a:pt x="11723" y="21391"/>
                </a:lnTo>
                <a:lnTo>
                  <a:pt x="16109" y="21391"/>
                </a:lnTo>
                <a:lnTo>
                  <a:pt x="16109" y="14202"/>
                </a:lnTo>
                <a:lnTo>
                  <a:pt x="5491" y="14202"/>
                </a:lnTo>
                <a:lnTo>
                  <a:pt x="5491" y="21391"/>
                </a:lnTo>
                <a:lnTo>
                  <a:pt x="9877" y="21391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2421000"/>
            <a:ext cx="2556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48000" y="566100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л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164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ую форму имеют яйца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ткладываемые птицами на голые скал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0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гловат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400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то за птиц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ерая Шей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з рассказ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амина-Сибиряк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573408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724360" y="2565360"/>
            <a:ext cx="2619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5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де хранится смерть Коще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48000" y="443700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 яй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84720" y="0"/>
            <a:ext cx="39592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144936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144936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4616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0000" y="573408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43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43640" y="57340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4364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3564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872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872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72360" y="148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010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36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3600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64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3600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000" y="333360"/>
            <a:ext cx="428472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Красной Кни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1484280"/>
            <a:ext cx="424800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в загад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52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-ко-ко мои цыпля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537000"/>
            <a:ext cx="4248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в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4616280"/>
            <a:ext cx="4140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амые, самая, сам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576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География пт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кого превратился Гадкий утено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сказке Андерсе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9640" y="4976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ая птица сидел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плече капита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Флинт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800000" y="225360"/>
            <a:ext cx="666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87640" y="49053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951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должите слова Короленк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«Человек рождён для счастья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………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03640" y="5337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тица для полё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отряд птиц, содержащий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ибольше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исло вид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Самые, самая, самое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5337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робьиные 5100 ви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759280" y="2744640"/>
            <a:ext cx="28958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ая птица дольш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сех живет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ое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450864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Вор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представитель пингвинов самый маленький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самое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51280" y="537372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алапагосский   40 с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2168640"/>
            <a:ext cx="255564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03640" y="1989000"/>
            <a:ext cx="574560" cy="7556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55640"/>
              <a:gd name="textAreaBottom" fmla="*/ 718560 h 755640"/>
            </a:gdLst>
            <a:ahLst/>
            <a:rect l="textAreaLeft" t="textAreaTop" r="textAreaRight" b="textAreaBottom"/>
            <a:pathLst>
              <a:path w="21600" h="28403">
                <a:moveTo>
                  <a:pt x="0" y="0"/>
                </a:moveTo>
                <a:lnTo>
                  <a:pt x="21600" y="0"/>
                </a:lnTo>
                <a:lnTo>
                  <a:pt x="21600" y="28403"/>
                </a:lnTo>
                <a:lnTo>
                  <a:pt x="0" y="28403"/>
                </a:lnTo>
                <a:close/>
              </a:path>
              <a:path fill="lightenLess" w="21600" h="28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03">
                <a:moveTo>
                  <a:pt x="21600" y="0"/>
                </a:moveTo>
                <a:lnTo>
                  <a:pt x="21600" y="28403"/>
                </a:lnTo>
                <a:lnTo>
                  <a:pt x="20200" y="27003"/>
                </a:lnTo>
                <a:lnTo>
                  <a:pt x="20200" y="1400"/>
                </a:lnTo>
                <a:close/>
              </a:path>
              <a:path fill="darkenLess" w="21600" h="28403">
                <a:moveTo>
                  <a:pt x="21600" y="28403"/>
                </a:moveTo>
                <a:lnTo>
                  <a:pt x="0" y="28403"/>
                </a:lnTo>
                <a:lnTo>
                  <a:pt x="1400" y="27003"/>
                </a:lnTo>
                <a:lnTo>
                  <a:pt x="20200" y="27003"/>
                </a:lnTo>
                <a:close/>
              </a:path>
              <a:path fill="lighten" w="21600" h="28403">
                <a:moveTo>
                  <a:pt x="0" y="28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03"/>
                </a:lnTo>
                <a:close/>
              </a:path>
              <a:path fill="darken" w="21600" h="28403">
                <a:moveTo>
                  <a:pt x="10800" y="7239"/>
                </a:moveTo>
                <a:lnTo>
                  <a:pt x="13376" y="9850"/>
                </a:ln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lnTo>
                  <a:pt x="17763" y="14202"/>
                </a:lnTo>
                <a:lnTo>
                  <a:pt x="16109" y="14202"/>
                </a:lnTo>
                <a:lnTo>
                  <a:pt x="16109" y="21391"/>
                </a:lnTo>
                <a:lnTo>
                  <a:pt x="5491" y="21391"/>
                </a:lnTo>
                <a:lnTo>
                  <a:pt x="5491" y="14202"/>
                </a:lnTo>
                <a:lnTo>
                  <a:pt x="3837" y="14202"/>
                </a:lnTo>
                <a:close/>
              </a:path>
              <a:path fill="darkenLess" w="21600" h="28403">
                <a:moveTo>
                  <a:pt x="13376" y="9850"/>
                </a:move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close/>
              </a:path>
              <a:path fill="darkenLess" w="21600" h="28403">
                <a:moveTo>
                  <a:pt x="9877" y="17701"/>
                </a:moveTo>
                <a:lnTo>
                  <a:pt x="11723" y="17701"/>
                </a:lnTo>
                <a:lnTo>
                  <a:pt x="11723" y="21391"/>
                </a:lnTo>
                <a:lnTo>
                  <a:pt x="16109" y="21391"/>
                </a:lnTo>
                <a:lnTo>
                  <a:pt x="16109" y="14202"/>
                </a:lnTo>
                <a:lnTo>
                  <a:pt x="5491" y="14202"/>
                </a:lnTo>
                <a:lnTo>
                  <a:pt x="5491" y="21391"/>
                </a:lnTo>
                <a:lnTo>
                  <a:pt x="9877" y="21391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попугай самый разговорчивый 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ный  к языкам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ое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494172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Жако, или серый 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31640" y="22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У какой птицы самое большое гнезд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Самые, самая, _x000b_самое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19280" y="4473720"/>
            <a:ext cx="5005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 американского белоголового ор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есит 2 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55640" y="23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тица – символ Антарктид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3492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инг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543640" y="4149720"/>
            <a:ext cx="20667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00280" y="2290320"/>
            <a:ext cx="695160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скрылая птиц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овой Зеланди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отряда страус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65564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5553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и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443640" y="2241720"/>
            <a:ext cx="1895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43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ая птица из совообразных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занесена в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расную книг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31640" y="30132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  _x000b_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34920" y="5624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фил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16000" y="2205000"/>
            <a:ext cx="33843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8120" y="2336760"/>
            <a:ext cx="733572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ом материк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ыли одомашнены мускусные утки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08360" y="468936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Южная Аме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96400" y="2538000"/>
            <a:ext cx="695484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зовите приток реки Хопра, носящий имя птицы, которой так и не удалось отведать сыр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30064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292720" y="4329000"/>
            <a:ext cx="21718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58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ую страну называют «Земля попугаев»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476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встр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ую птицу охраняют в Кургалжинском заповедник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9836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фламин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ля охраны какой птицы организован Алакольский заповедник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0000" y="558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еликтовая чай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ой аист гнездится только в южных районах Казахстан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31280" y="296640"/>
            <a:ext cx="78123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_x000b_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537372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 какой охраняемой птице сложено много песен и легенд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58560" y="296640"/>
            <a:ext cx="61894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548172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9280" y="2313000"/>
            <a:ext cx="2556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79640" y="2133720"/>
            <a:ext cx="792000" cy="684000"/>
          </a:xfrm>
          <a:custGeom>
            <a:avLst/>
            <a:gdLst>
              <a:gd name="textAreaLeft" fmla="*/ 44280 w 792000"/>
              <a:gd name="textAreaRight" fmla="*/ 747720 w 79200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25009" h="21600">
                <a:moveTo>
                  <a:pt x="0" y="0"/>
                </a:moveTo>
                <a:lnTo>
                  <a:pt x="25009" y="0"/>
                </a:lnTo>
                <a:lnTo>
                  <a:pt x="25009" y="21600"/>
                </a:lnTo>
                <a:lnTo>
                  <a:pt x="0" y="21600"/>
                </a:lnTo>
                <a:close/>
              </a:path>
              <a:path fill="lightenLess" w="25009" h="21600">
                <a:moveTo>
                  <a:pt x="0" y="0"/>
                </a:moveTo>
                <a:lnTo>
                  <a:pt x="25009" y="0"/>
                </a:lnTo>
                <a:lnTo>
                  <a:pt x="23609" y="1400"/>
                </a:lnTo>
                <a:lnTo>
                  <a:pt x="1400" y="1400"/>
                </a:lnTo>
                <a:close/>
              </a:path>
              <a:path fill="darken" w="25009" h="21600">
                <a:moveTo>
                  <a:pt x="25009" y="0"/>
                </a:moveTo>
                <a:lnTo>
                  <a:pt x="25009" y="21600"/>
                </a:lnTo>
                <a:lnTo>
                  <a:pt x="23609" y="20200"/>
                </a:lnTo>
                <a:lnTo>
                  <a:pt x="23609" y="1400"/>
                </a:lnTo>
                <a:close/>
              </a:path>
              <a:path fill="darkenLess" w="25009" h="21600">
                <a:moveTo>
                  <a:pt x="25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9" y="20200"/>
                </a:lnTo>
                <a:close/>
              </a:path>
              <a:path fill="lighten" w="25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9" h="21600">
                <a:moveTo>
                  <a:pt x="12504" y="3837"/>
                </a:moveTo>
                <a:lnTo>
                  <a:pt x="15081" y="6448"/>
                </a:lnTo>
                <a:lnTo>
                  <a:pt x="15081" y="4707"/>
                </a:lnTo>
                <a:lnTo>
                  <a:pt x="16856" y="4707"/>
                </a:lnTo>
                <a:lnTo>
                  <a:pt x="16856" y="8224"/>
                </a:lnTo>
                <a:lnTo>
                  <a:pt x="19467" y="10800"/>
                </a:lnTo>
                <a:lnTo>
                  <a:pt x="17814" y="10800"/>
                </a:lnTo>
                <a:lnTo>
                  <a:pt x="17814" y="17989"/>
                </a:lnTo>
                <a:lnTo>
                  <a:pt x="7195" y="17989"/>
                </a:lnTo>
                <a:lnTo>
                  <a:pt x="7195" y="10800"/>
                </a:lnTo>
                <a:lnTo>
                  <a:pt x="5541" y="10800"/>
                </a:lnTo>
                <a:close/>
              </a:path>
              <a:path fill="darkenLess" w="25009" h="21600">
                <a:moveTo>
                  <a:pt x="15081" y="6448"/>
                </a:moveTo>
                <a:lnTo>
                  <a:pt x="15081" y="4707"/>
                </a:lnTo>
                <a:lnTo>
                  <a:pt x="16856" y="4707"/>
                </a:lnTo>
                <a:lnTo>
                  <a:pt x="16856" y="8224"/>
                </a:lnTo>
                <a:close/>
              </a:path>
              <a:path fill="darkenLess" w="25009" h="21600">
                <a:moveTo>
                  <a:pt x="11582" y="14299"/>
                </a:moveTo>
                <a:lnTo>
                  <a:pt x="13427" y="14299"/>
                </a:lnTo>
                <a:lnTo>
                  <a:pt x="13427" y="17989"/>
                </a:lnTo>
                <a:lnTo>
                  <a:pt x="17814" y="17989"/>
                </a:lnTo>
                <a:lnTo>
                  <a:pt x="17814" y="10800"/>
                </a:lnTo>
                <a:lnTo>
                  <a:pt x="7195" y="10800"/>
                </a:lnTo>
                <a:lnTo>
                  <a:pt x="7195" y="17989"/>
                </a:lnTo>
                <a:lnTo>
                  <a:pt x="11582" y="17989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6953040" cy="3525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а птица, если просят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алышей в семью приноси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Я же вам скажу без грусти, что меня нашли в капуст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15640" y="2673000"/>
            <a:ext cx="8242200" cy="342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оркий глаз, парит высоко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о не ястреб и не соко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08360" y="5408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р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6:31Z</dcterms:modified>
  <cp:revision>13</cp:revision>
  <dc:subject/>
  <dc:title>своя игра птицы 7 к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4000000000001024110</vt:lpwstr>
  </property>
</Properties>
</file>