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638-0BD6-4235-9326-00E20640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202-C361-449D-A9E3-80EE26B4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85A-A444-44BB-B7C5-3FC5E437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044-5AF6-4D58-B826-47CDEE29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DD28-F5B5-4D13-958A-1ED04BC3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3816-01F4-4619-A487-5ADB5E28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72F1-FC71-4402-B12C-464968C5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2B5A-D0BD-4BE4-96A4-DCBA5801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3131-7EF4-4BA8-8F95-AA806D41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F9CD-7D64-4ABA-A87F-DF49C4E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B344-5A45-4087-953D-8E5E3468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749-95BE-4C53-97BF-5A6AEC84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E74E-668D-46EC-A635-5F117EAB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CC28-ACFD-4EC6-BB99-881D72BA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F4DD-1BC7-417F-9025-AB732C54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E931-CE56-4533-9404-FC65DF75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3263-8BD4-4ED6-87A2-4E7B9DF2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1C6-A10E-4A63-8DCB-E157D2F1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55B-2FE0-4C3D-9E15-F007ADFA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F58-5ADA-456D-9BA2-162B38FB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A46-2979-400A-A587-33F4B139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699-C017-4B18-9823-E11C2F1F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8F0-D33A-423D-8ACF-34075F31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E2C-2507-4533-98BA-ED96C821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2BD2-BD1A-43FE-ADC4-2434EBFB93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5CAA-8CAC-44F2-A651-FFF27715E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26.xml"/><Relationship Id="rId20" Type="http://schemas.openxmlformats.org/officeDocument/2006/relationships/slide" Target="slide11.xml"/><Relationship Id="rId21" Type="http://schemas.openxmlformats.org/officeDocument/2006/relationships/slide" Target="slide7.xml"/><Relationship Id="rId22" Type="http://schemas.openxmlformats.org/officeDocument/2006/relationships/slide" Target="slide17.xml"/><Relationship Id="rId23" Type="http://schemas.openxmlformats.org/officeDocument/2006/relationships/slide" Target="slide12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-1289160"/>
            <a:ext cx="77724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03640" y="54936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Тема «Птицы»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2816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4292640"/>
            <a:ext cx="406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х, чистюля! Ах, кокетк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ккуратней птицы н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груди всегда салфетка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на завтрак, и в обе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нездо свое он в поле вь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де тянутся растени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го и песни и пол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шли в стихотворени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543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жаворо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624720" y="368280"/>
            <a:ext cx="2052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01640" y="2259000"/>
            <a:ext cx="6956640" cy="352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квозь летние сумерки п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 краю искусственных в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расавица птица-дик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 белое диво плыв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77080" y="512640"/>
            <a:ext cx="298908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19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вынашивает яйца на лап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920" y="367920"/>
            <a:ext cx="7850160" cy="16923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48340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543640" y="3176640"/>
            <a:ext cx="25700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24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птицы подбрасывают свой яйца в чужие гнезд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4653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ук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3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австралийски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тиц яй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ысижива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ам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цыплятки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тра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940280" y="3392640"/>
            <a:ext cx="3348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92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птиц птенцы появляются на свет чаще всего в середине зим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344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224172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21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48000" y="5661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164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ую форму имеют яйца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кладываемые птицами на голые скал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гловат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за пти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ерая Шей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з рассказ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мина-Сибиряк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57340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2619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де хранится смерть Коще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443700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 яй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84720" y="0"/>
            <a:ext cx="3959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144936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144936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4616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0000" y="573408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3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57340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4364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564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872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872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72360" y="148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36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3600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64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3600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000" y="333360"/>
            <a:ext cx="428472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Красной Кни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1484280"/>
            <a:ext cx="424800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загад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52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-ко-ко мои цыпля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537000"/>
            <a:ext cx="4248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4616280"/>
            <a:ext cx="4140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амые, самая, сам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576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География пт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кого превратился Гадкий утено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сказке Андерсе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9640" y="497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ая птица сидел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плече капита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линт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800000" y="225360"/>
            <a:ext cx="666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87640" y="4905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должите слова Короленк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Человек рождён для счастья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………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03640" y="533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тица для полё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отряд птиц, содержащ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ибольше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исло вид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самое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337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бьиные 5100 в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59280" y="2744640"/>
            <a:ext cx="28958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дольш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сех живет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508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Вор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редставитель пингвинов самый маленький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самое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51280" y="53737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алапагосский   40 с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2168640"/>
            <a:ext cx="2555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03640" y="198900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опугай самый разговорчивый 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ный  к языка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494172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Жако, или серый 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31640" y="22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У какой птицы самое большое гнезд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_x000b_самое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4473720"/>
            <a:ext cx="500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 американского белоголового ор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есит 2 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640" y="23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тица – символ Антарктид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492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543640" y="4149720"/>
            <a:ext cx="2066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00280" y="2290320"/>
            <a:ext cx="695160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скрылая птиц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вой Зеланди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отряда страус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65564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5553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и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443640" y="2241720"/>
            <a:ext cx="1895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3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ая птица из совообразных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несена в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расную книг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31640" y="30132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  _x000b_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4920" y="5624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фил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16000" y="2205000"/>
            <a:ext cx="3384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8120" y="2336760"/>
            <a:ext cx="73357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ом материк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ыли одомашнены мускусные утки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8360" y="4689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Южная Ам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96400" y="2538000"/>
            <a:ext cx="695484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зовите приток реки Хопра, носящий имя птицы, которой так и не удалось отведать сыр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30064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92720" y="4329000"/>
            <a:ext cx="2171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ую страну называют «Земля попугаев»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76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встр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ую птицу охраняют в Кургалжинском заповедник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9836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фламин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ля охраны какой птицы организован Алакольский заповедник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00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еликтовая ч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ой аист гнездится только в южных районах Казахстан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31280" y="296640"/>
            <a:ext cx="78123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_x000b_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537372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 какой охраняемой птице сложено много песен и легенд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58560" y="296640"/>
            <a:ext cx="61894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548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9280" y="2313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9640" y="2133720"/>
            <a:ext cx="792000" cy="684000"/>
          </a:xfrm>
          <a:custGeom>
            <a:avLst/>
            <a:gdLst>
              <a:gd name="textAreaLeft" fmla="*/ 44280 w 792000"/>
              <a:gd name="textAreaRight" fmla="*/ 747720 w 79200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4" y="3837"/>
                </a:moveTo>
                <a:lnTo>
                  <a:pt x="15081" y="6448"/>
                </a:ln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lnTo>
                  <a:pt x="19467" y="10800"/>
                </a:lnTo>
                <a:lnTo>
                  <a:pt x="17814" y="10800"/>
                </a:lnTo>
                <a:lnTo>
                  <a:pt x="17814" y="17989"/>
                </a:lnTo>
                <a:lnTo>
                  <a:pt x="7195" y="17989"/>
                </a:lnTo>
                <a:lnTo>
                  <a:pt x="7195" y="10800"/>
                </a:lnTo>
                <a:lnTo>
                  <a:pt x="5541" y="10800"/>
                </a:lnTo>
                <a:close/>
              </a:path>
              <a:path fill="darkenLess" w="25009" h="21600">
                <a:moveTo>
                  <a:pt x="15081" y="6448"/>
                </a:move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close/>
              </a:path>
              <a:path fill="darkenLess" w="25009" h="21600">
                <a:moveTo>
                  <a:pt x="11582" y="14299"/>
                </a:moveTo>
                <a:lnTo>
                  <a:pt x="13427" y="14299"/>
                </a:lnTo>
                <a:lnTo>
                  <a:pt x="13427" y="17989"/>
                </a:lnTo>
                <a:lnTo>
                  <a:pt x="17814" y="17989"/>
                </a:lnTo>
                <a:lnTo>
                  <a:pt x="17814" y="10800"/>
                </a:lnTo>
                <a:lnTo>
                  <a:pt x="7195" y="10800"/>
                </a:lnTo>
                <a:lnTo>
                  <a:pt x="7195" y="17989"/>
                </a:lnTo>
                <a:lnTo>
                  <a:pt x="11582" y="17989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6953040" cy="3525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а птица, если просят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алышей в семью приноси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 же вам скажу без грусти, что меня нашли в капуст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5640" y="2673000"/>
            <a:ext cx="8242200" cy="342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оркий глаз, парит высоко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о не ястреб и не соко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08360" y="540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6:31Z</dcterms:modified>
  <cp:revision>13</cp:revision>
  <dc:subject/>
  <dc:title>своя игра птицы 7 к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4000000000001024110</vt:lpwstr>
  </property>
</Properties>
</file>