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2D4F-5529-42DD-A371-D8A873B8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62A8-20CA-4C4D-9767-5EA94EE2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E6A-53A8-42A1-8F67-9FC0E7D9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772-3765-4BB1-B4C4-0C6185A0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4FCD-511B-4FF2-8126-23BA1EC7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B088-EEFF-4A15-B207-56C68B56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97A7-DCDC-4151-A898-3F476D78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C2FD-A13A-497B-881E-BF9B15DB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BE62-4448-4681-98E1-EB3B5255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0A65-07D1-4973-8445-A91E6018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EF6D-0914-4211-A114-02781162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DA9-B046-43CB-A95F-EBBACA68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5C1C-5DC4-422A-9498-53F918A1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4E3F-AC44-48DB-807C-1BF224B3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35B6-1A24-490E-952F-DFE5B9B1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7CAD-DDFF-40E2-98F5-1AFF22BC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462E-0B1A-4E13-A6E3-CFE596F7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D59-85B2-4478-99BA-53636E5D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43A-EB52-4098-9D31-10636A9C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E5FA-EF92-4B02-91E3-9754F213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F36A-69DB-4F0E-B0CF-DE460F0D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32F-685D-4CD4-A895-6F3A4BF6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6C5A-44EF-4814-8B28-249CDD03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475C-F5F8-44F6-AC6E-CA154B35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0CFA-EF90-49B0-A316-2DD62EBC0D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283A-9F34-4D3D-AF39-298026DFC9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6.xml"/><Relationship Id="rId17" Type="http://schemas.openxmlformats.org/officeDocument/2006/relationships/slide" Target="slide16.xml"/><Relationship Id="rId18" Type="http://schemas.openxmlformats.org/officeDocument/2006/relationships/slide" Target="slide21.xml"/><Relationship Id="rId19" Type="http://schemas.openxmlformats.org/officeDocument/2006/relationships/slide" Target="slide26.xml"/><Relationship Id="rId20" Type="http://schemas.openxmlformats.org/officeDocument/2006/relationships/slide" Target="slide11.xml"/><Relationship Id="rId21" Type="http://schemas.openxmlformats.org/officeDocument/2006/relationships/slide" Target="slide7.xml"/><Relationship Id="rId22" Type="http://schemas.openxmlformats.org/officeDocument/2006/relationships/slide" Target="slide17.xml"/><Relationship Id="rId23" Type="http://schemas.openxmlformats.org/officeDocument/2006/relationships/slide" Target="slide12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-1289160"/>
            <a:ext cx="77724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        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03640" y="549360"/>
            <a:ext cx="7772400" cy="3497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Тема «Птицы»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297000"/>
            <a:ext cx="2816280" cy="345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4292640"/>
            <a:ext cx="406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р: учитель биологии Зенченко О.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веро-Казахстанская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х, чистюля! Ах, кокетка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ккуратней птицы не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груди всегда салфетка 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 на завтрак, и в обед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584000" y="404640"/>
            <a:ext cx="561492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27280" y="5877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нездо свое он в поле вье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де тянутся растени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Его и песни и пол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ошли в стихотворения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543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95640" y="548172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жаворо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624720" y="368280"/>
            <a:ext cx="20527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01640" y="2259000"/>
            <a:ext cx="6956640" cy="352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квозь летние сумерки пар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о краю искусственных во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расавица птица-дикар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ак белое диво плыве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50920" y="225360"/>
            <a:ext cx="55800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_x000b_ 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5661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977080" y="512640"/>
            <a:ext cx="298908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1928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ая птица вынашивает яйца на лапах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50920" y="367920"/>
            <a:ext cx="7850160" cy="16923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48340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ингв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543640" y="3176640"/>
            <a:ext cx="25700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920" y="24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ие птицы подбрасывают свой яйца в чужие гнезд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95280" y="301680"/>
            <a:ext cx="752472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46530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укуш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0328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их австралийски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тиц яйц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ысижива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амец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85800" y="301680"/>
            <a:ext cx="7199280" cy="1866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цыплятки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5589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тра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4940280" y="3392640"/>
            <a:ext cx="3348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58920" y="29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их птиц птенцы появляются на свет чаще всего в середине зим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26920" y="259920"/>
            <a:ext cx="7453440" cy="180036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2241720"/>
            <a:ext cx="574560" cy="75564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55640"/>
              <a:gd name="textAreaBottom" fmla="*/ 718560 h 755640"/>
            </a:gdLst>
            <a:ahLst/>
            <a:rect l="textAreaLeft" t="textAreaTop" r="textAreaRight" b="textAreaBottom"/>
            <a:pathLst>
              <a:path w="21600" h="28403">
                <a:moveTo>
                  <a:pt x="0" y="0"/>
                </a:moveTo>
                <a:lnTo>
                  <a:pt x="21600" y="0"/>
                </a:lnTo>
                <a:lnTo>
                  <a:pt x="21600" y="28403"/>
                </a:lnTo>
                <a:lnTo>
                  <a:pt x="0" y="28403"/>
                </a:lnTo>
                <a:close/>
              </a:path>
              <a:path fill="lightenLess" w="21600" h="284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03">
                <a:moveTo>
                  <a:pt x="21600" y="0"/>
                </a:moveTo>
                <a:lnTo>
                  <a:pt x="21600" y="28403"/>
                </a:lnTo>
                <a:lnTo>
                  <a:pt x="20200" y="27003"/>
                </a:lnTo>
                <a:lnTo>
                  <a:pt x="20200" y="1400"/>
                </a:lnTo>
                <a:close/>
              </a:path>
              <a:path fill="darkenLess" w="21600" h="28403">
                <a:moveTo>
                  <a:pt x="21600" y="28403"/>
                </a:moveTo>
                <a:lnTo>
                  <a:pt x="0" y="28403"/>
                </a:lnTo>
                <a:lnTo>
                  <a:pt x="1400" y="27003"/>
                </a:lnTo>
                <a:lnTo>
                  <a:pt x="20200" y="27003"/>
                </a:lnTo>
                <a:close/>
              </a:path>
              <a:path fill="lighten" w="21600" h="28403">
                <a:moveTo>
                  <a:pt x="0" y="284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03"/>
                </a:lnTo>
                <a:close/>
              </a:path>
              <a:path fill="darken" w="21600" h="28403">
                <a:moveTo>
                  <a:pt x="10800" y="7239"/>
                </a:moveTo>
                <a:lnTo>
                  <a:pt x="13376" y="9850"/>
                </a:ln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lnTo>
                  <a:pt x="17763" y="14202"/>
                </a:lnTo>
                <a:lnTo>
                  <a:pt x="16109" y="14202"/>
                </a:lnTo>
                <a:lnTo>
                  <a:pt x="16109" y="21391"/>
                </a:lnTo>
                <a:lnTo>
                  <a:pt x="5491" y="21391"/>
                </a:lnTo>
                <a:lnTo>
                  <a:pt x="5491" y="14202"/>
                </a:lnTo>
                <a:lnTo>
                  <a:pt x="3837" y="14202"/>
                </a:lnTo>
                <a:close/>
              </a:path>
              <a:path fill="darkenLess" w="21600" h="28403">
                <a:moveTo>
                  <a:pt x="13376" y="9850"/>
                </a:move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close/>
              </a:path>
              <a:path fill="darkenLess" w="21600" h="28403">
                <a:moveTo>
                  <a:pt x="9877" y="17701"/>
                </a:moveTo>
                <a:lnTo>
                  <a:pt x="11723" y="17701"/>
                </a:lnTo>
                <a:lnTo>
                  <a:pt x="11723" y="21391"/>
                </a:lnTo>
                <a:lnTo>
                  <a:pt x="16109" y="21391"/>
                </a:lnTo>
                <a:lnTo>
                  <a:pt x="16109" y="14202"/>
                </a:lnTo>
                <a:lnTo>
                  <a:pt x="5491" y="14202"/>
                </a:lnTo>
                <a:lnTo>
                  <a:pt x="5491" y="21391"/>
                </a:lnTo>
                <a:lnTo>
                  <a:pt x="9877" y="21391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2421000"/>
            <a:ext cx="2556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48000" y="5661000"/>
            <a:ext cx="24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ле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31640" y="23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ую форму имеют яйца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ткладываемые птицами на голые скал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0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56000" y="5445000"/>
            <a:ext cx="37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гловат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2400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то за птиц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ерая Шей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из рассказ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амина-Сибиряк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03280" y="297000"/>
            <a:ext cx="644544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573408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724360" y="2565360"/>
            <a:ext cx="2619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9528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де хранится смерть Кощея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64785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48000" y="443700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 яй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184720" y="0"/>
            <a:ext cx="395928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1449360"/>
            <a:ext cx="79236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95640" y="144936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3284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46162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0000" y="5734080"/>
            <a:ext cx="75708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43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43640" y="573408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4364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4364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3564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1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872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2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872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3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364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5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010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6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7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0872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9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72360" y="148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010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1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0108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2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3600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3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3600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4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6436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5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3600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6000" y="333360"/>
            <a:ext cx="428472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Красной Кни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1484280"/>
            <a:ext cx="424800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в загад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2529000"/>
            <a:ext cx="4356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-ко-ко мои цыпля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3537000"/>
            <a:ext cx="4248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в литерат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280" y="4616280"/>
            <a:ext cx="4140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амые, самая, сам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5769000"/>
            <a:ext cx="4356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География пт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кого превратился Гадкий утенок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сказке Андерсен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9640" y="4976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ая птица сидел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плече капитан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Флинт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800000" y="225360"/>
            <a:ext cx="6661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87640" y="490536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опуг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2951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58560" y="227664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родолжите слова Короленк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«Человек рождён для счастья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………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03640" y="5337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тица для полё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зовите отряд птиц, содержащий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ибольшее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число видов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763280" y="225360"/>
            <a:ext cx="5977080" cy="15638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Самые, самая, самое 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533700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оробьиные 5100 ви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759280" y="2744640"/>
            <a:ext cx="28958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ая птица дольш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сех живет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763280" y="367920"/>
            <a:ext cx="5977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ое    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3280" y="450864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Вор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29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представитель пингвинов самый маленький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86920" y="296640"/>
            <a:ext cx="6046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самое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51280" y="537372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алапагосский   40 с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2168640"/>
            <a:ext cx="255564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03640" y="1989000"/>
            <a:ext cx="574560" cy="75564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55640"/>
              <a:gd name="textAreaBottom" fmla="*/ 718560 h 755640"/>
            </a:gdLst>
            <a:ahLst/>
            <a:rect l="textAreaLeft" t="textAreaTop" r="textAreaRight" b="textAreaBottom"/>
            <a:pathLst>
              <a:path w="21600" h="28403">
                <a:moveTo>
                  <a:pt x="0" y="0"/>
                </a:moveTo>
                <a:lnTo>
                  <a:pt x="21600" y="0"/>
                </a:lnTo>
                <a:lnTo>
                  <a:pt x="21600" y="28403"/>
                </a:lnTo>
                <a:lnTo>
                  <a:pt x="0" y="28403"/>
                </a:lnTo>
                <a:close/>
              </a:path>
              <a:path fill="lightenLess" w="21600" h="284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03">
                <a:moveTo>
                  <a:pt x="21600" y="0"/>
                </a:moveTo>
                <a:lnTo>
                  <a:pt x="21600" y="28403"/>
                </a:lnTo>
                <a:lnTo>
                  <a:pt x="20200" y="27003"/>
                </a:lnTo>
                <a:lnTo>
                  <a:pt x="20200" y="1400"/>
                </a:lnTo>
                <a:close/>
              </a:path>
              <a:path fill="darkenLess" w="21600" h="28403">
                <a:moveTo>
                  <a:pt x="21600" y="28403"/>
                </a:moveTo>
                <a:lnTo>
                  <a:pt x="0" y="28403"/>
                </a:lnTo>
                <a:lnTo>
                  <a:pt x="1400" y="27003"/>
                </a:lnTo>
                <a:lnTo>
                  <a:pt x="20200" y="27003"/>
                </a:lnTo>
                <a:close/>
              </a:path>
              <a:path fill="lighten" w="21600" h="28403">
                <a:moveTo>
                  <a:pt x="0" y="284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03"/>
                </a:lnTo>
                <a:close/>
              </a:path>
              <a:path fill="darken" w="21600" h="28403">
                <a:moveTo>
                  <a:pt x="10800" y="7239"/>
                </a:moveTo>
                <a:lnTo>
                  <a:pt x="13376" y="9850"/>
                </a:ln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lnTo>
                  <a:pt x="17763" y="14202"/>
                </a:lnTo>
                <a:lnTo>
                  <a:pt x="16109" y="14202"/>
                </a:lnTo>
                <a:lnTo>
                  <a:pt x="16109" y="21391"/>
                </a:lnTo>
                <a:lnTo>
                  <a:pt x="5491" y="21391"/>
                </a:lnTo>
                <a:lnTo>
                  <a:pt x="5491" y="14202"/>
                </a:lnTo>
                <a:lnTo>
                  <a:pt x="3837" y="14202"/>
                </a:lnTo>
                <a:close/>
              </a:path>
              <a:path fill="darkenLess" w="21600" h="28403">
                <a:moveTo>
                  <a:pt x="13376" y="9850"/>
                </a:move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close/>
              </a:path>
              <a:path fill="darkenLess" w="21600" h="28403">
                <a:moveTo>
                  <a:pt x="9877" y="17701"/>
                </a:moveTo>
                <a:lnTo>
                  <a:pt x="11723" y="17701"/>
                </a:lnTo>
                <a:lnTo>
                  <a:pt x="11723" y="21391"/>
                </a:lnTo>
                <a:lnTo>
                  <a:pt x="16109" y="21391"/>
                </a:lnTo>
                <a:lnTo>
                  <a:pt x="16109" y="14202"/>
                </a:lnTo>
                <a:lnTo>
                  <a:pt x="5491" y="14202"/>
                </a:lnTo>
                <a:lnTo>
                  <a:pt x="5491" y="21391"/>
                </a:lnTo>
                <a:lnTo>
                  <a:pt x="9877" y="21391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попугай самый разговорчивый 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пособный  к языкам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295280" y="225360"/>
            <a:ext cx="64072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ое 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494172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Жако, или серый попуг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31640" y="22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У какой птицы самое большое гнездо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Самые, самая, _x000b_самое  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19280" y="4473720"/>
            <a:ext cx="5005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 американского белоголового ор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есит 2 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55640" y="23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тица – символ Антарктиды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079280" y="225000"/>
            <a:ext cx="6399000" cy="14922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76360" y="501336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34920" y="468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ингв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543640" y="4149720"/>
            <a:ext cx="20667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00280" y="2290320"/>
            <a:ext cx="6951600" cy="352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ескрылая птиц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овой Зеландии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 отряда страусо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655640" y="260280"/>
            <a:ext cx="597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5553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и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443640" y="2241720"/>
            <a:ext cx="1895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743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акая птица из совообразных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занесена в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расную книгу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31640" y="301320"/>
            <a:ext cx="79567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  _x000b_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34920" y="562464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фил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16000" y="2205000"/>
            <a:ext cx="33843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68120" y="2336760"/>
            <a:ext cx="733572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аком материк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ыли одомашнены мускусные утки?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7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08360" y="468936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Южная Амер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96400" y="2538000"/>
            <a:ext cx="6954840" cy="352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азовите приток реки Хопра, носящий имя птицы, которой так и не удалось отведать сыр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368360" y="188640"/>
            <a:ext cx="6081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30064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о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292720" y="4329000"/>
            <a:ext cx="21718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58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ую страну называют «Земля попугаев»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40000" y="476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встр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3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акую птицу охраняют в Кургалжинском заповеднике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9836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04972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фламин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ля охраны какой птицы организован Алакольский заповедник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863280" y="260280"/>
            <a:ext cx="6877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0000" y="5589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Реликтовая чай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ой аист гнездится только в южных районах Казахстан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31280" y="296640"/>
            <a:ext cx="78123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_x000b_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5373720"/>
            <a:ext cx="20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е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 какой охраняемой птице сложено много песен и легенд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58560" y="296640"/>
            <a:ext cx="61894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5481720"/>
            <a:ext cx="19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19280" y="2313000"/>
            <a:ext cx="2556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79640" y="2133720"/>
            <a:ext cx="792000" cy="684000"/>
          </a:xfrm>
          <a:custGeom>
            <a:avLst/>
            <a:gdLst>
              <a:gd name="textAreaLeft" fmla="*/ 44280 w 792000"/>
              <a:gd name="textAreaRight" fmla="*/ 747720 w 792000"/>
              <a:gd name="textAreaTop" fmla="*/ 44280 h 684000"/>
              <a:gd name="textAreaBottom" fmla="*/ 639720 h 684000"/>
            </a:gdLst>
            <a:ahLst/>
            <a:rect l="textAreaLeft" t="textAreaTop" r="textAreaRight" b="textAreaBottom"/>
            <a:pathLst>
              <a:path w="25009" h="21600">
                <a:moveTo>
                  <a:pt x="0" y="0"/>
                </a:moveTo>
                <a:lnTo>
                  <a:pt x="25009" y="0"/>
                </a:lnTo>
                <a:lnTo>
                  <a:pt x="25009" y="21600"/>
                </a:lnTo>
                <a:lnTo>
                  <a:pt x="0" y="21600"/>
                </a:lnTo>
                <a:close/>
              </a:path>
              <a:path fill="lightenLess" w="25009" h="21600">
                <a:moveTo>
                  <a:pt x="0" y="0"/>
                </a:moveTo>
                <a:lnTo>
                  <a:pt x="25009" y="0"/>
                </a:lnTo>
                <a:lnTo>
                  <a:pt x="23609" y="1400"/>
                </a:lnTo>
                <a:lnTo>
                  <a:pt x="1400" y="1400"/>
                </a:lnTo>
                <a:close/>
              </a:path>
              <a:path fill="darken" w="25009" h="21600">
                <a:moveTo>
                  <a:pt x="25009" y="0"/>
                </a:moveTo>
                <a:lnTo>
                  <a:pt x="25009" y="21600"/>
                </a:lnTo>
                <a:lnTo>
                  <a:pt x="23609" y="20200"/>
                </a:lnTo>
                <a:lnTo>
                  <a:pt x="23609" y="1400"/>
                </a:lnTo>
                <a:close/>
              </a:path>
              <a:path fill="darkenLess" w="25009" h="21600">
                <a:moveTo>
                  <a:pt x="25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9" y="20200"/>
                </a:lnTo>
                <a:close/>
              </a:path>
              <a:path fill="lighten" w="25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9" h="21600">
                <a:moveTo>
                  <a:pt x="12504" y="3837"/>
                </a:moveTo>
                <a:lnTo>
                  <a:pt x="15081" y="6448"/>
                </a:lnTo>
                <a:lnTo>
                  <a:pt x="15081" y="4707"/>
                </a:lnTo>
                <a:lnTo>
                  <a:pt x="16856" y="4707"/>
                </a:lnTo>
                <a:lnTo>
                  <a:pt x="16856" y="8224"/>
                </a:lnTo>
                <a:lnTo>
                  <a:pt x="19467" y="10800"/>
                </a:lnTo>
                <a:lnTo>
                  <a:pt x="17814" y="10800"/>
                </a:lnTo>
                <a:lnTo>
                  <a:pt x="17814" y="17989"/>
                </a:lnTo>
                <a:lnTo>
                  <a:pt x="7195" y="17989"/>
                </a:lnTo>
                <a:lnTo>
                  <a:pt x="7195" y="10800"/>
                </a:lnTo>
                <a:lnTo>
                  <a:pt x="5541" y="10800"/>
                </a:lnTo>
                <a:close/>
              </a:path>
              <a:path fill="darkenLess" w="25009" h="21600">
                <a:moveTo>
                  <a:pt x="15081" y="6448"/>
                </a:moveTo>
                <a:lnTo>
                  <a:pt x="15081" y="4707"/>
                </a:lnTo>
                <a:lnTo>
                  <a:pt x="16856" y="4707"/>
                </a:lnTo>
                <a:lnTo>
                  <a:pt x="16856" y="8224"/>
                </a:lnTo>
                <a:close/>
              </a:path>
              <a:path fill="darkenLess" w="25009" h="21600">
                <a:moveTo>
                  <a:pt x="11582" y="14299"/>
                </a:moveTo>
                <a:lnTo>
                  <a:pt x="13427" y="14299"/>
                </a:lnTo>
                <a:lnTo>
                  <a:pt x="13427" y="17989"/>
                </a:lnTo>
                <a:lnTo>
                  <a:pt x="17814" y="17989"/>
                </a:lnTo>
                <a:lnTo>
                  <a:pt x="17814" y="10800"/>
                </a:lnTo>
                <a:lnTo>
                  <a:pt x="7195" y="10800"/>
                </a:lnTo>
                <a:lnTo>
                  <a:pt x="7195" y="17989"/>
                </a:lnTo>
                <a:lnTo>
                  <a:pt x="11582" y="17989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11280" y="1916280"/>
            <a:ext cx="6953040" cy="3525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а птица, если просят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алышей в семью приноси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Я же вам скажу без грусти, что меня нашли в капусте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87280" y="296640"/>
            <a:ext cx="57945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_x000b_ 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и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15640" y="2673000"/>
            <a:ext cx="8242200" cy="342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Зоркий глаз, парит высоко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о не ястреб и не сокол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258920" y="367920"/>
            <a:ext cx="59054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08360" y="5408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Ор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4:43:57Z</dcterms:created>
  <dc:creator>ольга</dc:creator>
  <dc:description/>
  <dc:language>en-US</dc:language>
  <cp:lastModifiedBy>Ольга</cp:lastModifiedBy>
  <dcterms:modified xsi:type="dcterms:W3CDTF">2011-04-18T15:46:31Z</dcterms:modified>
  <cp:revision>13</cp:revision>
  <dc:subject/>
  <dc:title>своя игра птицы 7 к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4000000000001024110</vt:lpwstr>
  </property>
</Properties>
</file>