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9E7-E59E-4E24-966E-D1FAB654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D38-234D-4F3E-B119-13ACEE77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E68-192F-4EE5-B3B6-9A7F7059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3D7-F92F-4ADC-9482-80397CA0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69B4-7330-44E7-8F76-6B7BE1B6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1F25-0D8E-42C0-B262-C0CA27F2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FDF5-3D8B-49FB-A488-1692E5B2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45C1-7561-4D97-BBE2-25A1439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AFD0-6C18-4533-92E2-3CFF4F56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CCEA-41EF-41DD-8562-225152A6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E047-670B-4C14-80B3-2810549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286-2F70-46F9-B4A9-8A3887AC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D974-A636-4080-B00D-23B0749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35CB-F0CD-4AD1-A74E-776AD1B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C643-9042-4806-A24A-F9A7C2B4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79DC-66B3-4833-B2A0-010B69A9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6329-1FBF-4BC8-BA6B-F79AC8F1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334-BA01-4958-A093-50593EBD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FA0-0C71-4048-AC66-DAC09F65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4E8-1512-45DA-9E16-350925A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7FC-B545-4650-97E3-B7E946F6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C46-B6A7-4C63-B176-A963C2E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B26-5B8E-410A-93A1-C94A8F1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159-8192-4045-B88D-F1FF5667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069-B1A0-4118-95D3-B79C9B2D52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FBB8-76B7-4B97-AD8E-E083C042F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26.xml"/><Relationship Id="rId20" Type="http://schemas.openxmlformats.org/officeDocument/2006/relationships/slide" Target="slide11.xml"/><Relationship Id="rId21" Type="http://schemas.openxmlformats.org/officeDocument/2006/relationships/slide" Target="slide7.xml"/><Relationship Id="rId22" Type="http://schemas.openxmlformats.org/officeDocument/2006/relationships/slide" Target="slide17.xml"/><Relationship Id="rId23" Type="http://schemas.openxmlformats.org/officeDocument/2006/relationships/slide" Target="slide12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128916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03640" y="54936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Тема «Птицы»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2816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292640"/>
            <a:ext cx="406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нездо свое он в поле вь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де тянутся растени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го и песни и по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шли в стихотворени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жавор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24720" y="368280"/>
            <a:ext cx="2052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квозь летние сумерки п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 краю искусственных в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расавица птица-дик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 белое диво плыв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77080" y="512640"/>
            <a:ext cx="29890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19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вынашивает яйца на лап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48340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43640" y="3176640"/>
            <a:ext cx="25700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24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птицы подбрасывают свой яйца в чужие гнезд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4653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австралийск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тиц яй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ысижива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цыплятки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тра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940280" y="3392640"/>
            <a:ext cx="3348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92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птиц птенцы появляются на свет чаще всего в середине зим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24172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1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8000" y="5661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ую форму имеют яйц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кладываемые птицами на голые скал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глова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за пти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ерая Шей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 рассказ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мина-Сибиряк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7340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61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де хранится смерть Коще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437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 яй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Красной Кни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загад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-ко-ко мои цыпл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еография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9640" y="49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должите слова Корол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Человек рождён для счасть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……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3640" y="533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тица для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самое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37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59280" y="2744640"/>
            <a:ext cx="28958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дольш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сех живет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08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Вор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редставитель пингвинов самый маленький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самое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51280" y="5373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алапагосский   40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168640"/>
            <a:ext cx="2555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03640" y="198900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опугай самый разговорчивый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ный  к языка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494172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Жако, или серый 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ой птицы самое большое гнезд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_x000b_самое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4473720"/>
            <a:ext cx="500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 американского белоголового ор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есит 2 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23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а – символ Антарктид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492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543640" y="4149720"/>
            <a:ext cx="2066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002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ая птица из совообразных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несена 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асную книг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фи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6000" y="2205000"/>
            <a:ext cx="3384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8120" y="2336760"/>
            <a:ext cx="73357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ом матери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ыли одомашнены мускусные утки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8360" y="4689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Южная Ам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695484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овите приток реки Хопра, носящий имя птицы, которой так и не удалось отведать сыр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30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92720" y="4329000"/>
            <a:ext cx="2171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ую птицу охраняют в Кургалжинском заповедник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фламин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ля охраны какой птицы организован Алакольский заповед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еликтовая ч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ой аист гнездится только в южных районах Казахстан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37372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 какой охраняемой птице сложено много песен и леген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548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9280" y="2313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133720"/>
            <a:ext cx="792000" cy="684000"/>
          </a:xfrm>
          <a:custGeom>
            <a:avLst/>
            <a:gdLst>
              <a:gd name="textAreaLeft" fmla="*/ 44280 w 792000"/>
              <a:gd name="textAreaRight" fmla="*/ 747720 w 79200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4" y="3837"/>
                </a:moveTo>
                <a:lnTo>
                  <a:pt x="15081" y="6448"/>
                </a:ln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lnTo>
                  <a:pt x="19467" y="10800"/>
                </a:lnTo>
                <a:lnTo>
                  <a:pt x="17814" y="10800"/>
                </a:lnTo>
                <a:lnTo>
                  <a:pt x="17814" y="17989"/>
                </a:lnTo>
                <a:lnTo>
                  <a:pt x="7195" y="17989"/>
                </a:lnTo>
                <a:lnTo>
                  <a:pt x="7195" y="10800"/>
                </a:lnTo>
                <a:lnTo>
                  <a:pt x="5541" y="10800"/>
                </a:lnTo>
                <a:close/>
              </a:path>
              <a:path fill="darkenLess" w="25009" h="21600">
                <a:moveTo>
                  <a:pt x="15081" y="6448"/>
                </a:move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close/>
              </a:path>
              <a:path fill="darkenLess" w="25009" h="21600">
                <a:moveTo>
                  <a:pt x="11582" y="14299"/>
                </a:moveTo>
                <a:lnTo>
                  <a:pt x="13427" y="14299"/>
                </a:lnTo>
                <a:lnTo>
                  <a:pt x="13427" y="17989"/>
                </a:lnTo>
                <a:lnTo>
                  <a:pt x="17814" y="17989"/>
                </a:lnTo>
                <a:lnTo>
                  <a:pt x="17814" y="10800"/>
                </a:lnTo>
                <a:lnTo>
                  <a:pt x="7195" y="10800"/>
                </a:lnTo>
                <a:lnTo>
                  <a:pt x="7195" y="17989"/>
                </a:lnTo>
                <a:lnTo>
                  <a:pt x="11582" y="17989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6953040" cy="3525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а птица, если просят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алышей в семью приноси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 же вам скажу без грусти, что меня нашли в капуст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2673000"/>
            <a:ext cx="8242200" cy="342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оркий глаз, парит высоко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о не ястреб и не соко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08360" y="540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6:31Z</dcterms:modified>
  <cp:revision>13</cp:revision>
  <dc:subject/>
  <dc:title>своя игра птицы 7 к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4000000000001024110</vt:lpwstr>
  </property>
</Properties>
</file>