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3556-A6B4-4A75-B633-43A345B2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F254-12A5-4511-AB36-9E46DF2D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3A87-F736-4CFE-87E1-C6C97297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FBD5-B837-4B11-B333-FB8D1515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CBBA-71FE-4208-A790-AF884509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D546-082F-4B8E-987D-974C6494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0CAA-AEAF-469A-9CEA-C3C28582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C6CD-CA68-4D1F-8F2D-0E49C9CC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67E3-2AFB-40E1-A3E4-6E4F0588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01ED-9AE4-4D2C-BF0B-141F575E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E694-C7F5-4E08-A7A7-BECBE4CE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367-C082-4922-8F77-3B14355F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5497-41C0-4ED9-A57B-A1E90AAD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DFA0-A476-4ACA-99A0-0C933F23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0995-130E-4E7E-A5DE-6511A6BF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B5D1-5CD3-48D6-9B52-32FA922D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8065-5AB2-461F-AC06-84DF7AF9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79B-6F5D-4B9E-80C1-5969BB68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0F02-EAE3-4ADF-A269-5A896E40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558-6E32-42DC-9B49-3F4F7C9D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D7C-3DAC-4EE8-8813-53E2DAA7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5AE2-C144-493D-B6CB-EC79946E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2416-2A17-4419-8C83-C806437F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F07-D5A2-4DA9-A22B-7BF63F45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5FFF-E124-48E0-9CA7-9EB7E765E0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3A12-FE5C-49A7-BD27-6CA18DA2E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25.xml"/><Relationship Id="rId16" Type="http://schemas.openxmlformats.org/officeDocument/2006/relationships/slide" Target="slide6.xml"/><Relationship Id="rId17" Type="http://schemas.openxmlformats.org/officeDocument/2006/relationships/slide" Target="slide16.xml"/><Relationship Id="rId18" Type="http://schemas.openxmlformats.org/officeDocument/2006/relationships/slide" Target="slide21.xml"/><Relationship Id="rId19" Type="http://schemas.openxmlformats.org/officeDocument/2006/relationships/slide" Target="slide26.xml"/><Relationship Id="rId20" Type="http://schemas.openxmlformats.org/officeDocument/2006/relationships/slide" Target="slide11.xml"/><Relationship Id="rId21" Type="http://schemas.openxmlformats.org/officeDocument/2006/relationships/slide" Target="slide7.xml"/><Relationship Id="rId22" Type="http://schemas.openxmlformats.org/officeDocument/2006/relationships/slide" Target="slide17.xml"/><Relationship Id="rId23" Type="http://schemas.openxmlformats.org/officeDocument/2006/relationships/slide" Target="slide12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-1289160"/>
            <a:ext cx="7772400" cy="257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         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Своя игра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303640" y="549360"/>
            <a:ext cx="7772400" cy="3497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Тема «Птицы»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297000"/>
            <a:ext cx="2816280" cy="3456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4292640"/>
            <a:ext cx="406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р: учитель биологии Зенченко О.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еверо-Казахстанская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х, чистюля! Ах, кокетка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Аккуратней птицы не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груди всегда салфетка 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 на завтрак, и в обед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584000" y="404640"/>
            <a:ext cx="561492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 _x000b_ 3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27280" y="5877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нездо свое он в поле вье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Где тянутся растени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Его и песни и пол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ошли в стихотворения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543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 _x000b_ 4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95640" y="548172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жаворо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624720" y="368280"/>
            <a:ext cx="20527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01640" y="2259000"/>
            <a:ext cx="6956640" cy="352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квозь летние сумерки пар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о краю искусственных во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расавица птица-дикарк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Как белое диво плывет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50920" y="225360"/>
            <a:ext cx="55800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_x000b_ 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5661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977080" y="512640"/>
            <a:ext cx="298908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1928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ая птица вынашивает яйца на лапах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50920" y="367920"/>
            <a:ext cx="7850160" cy="16923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48340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ингв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543640" y="3176640"/>
            <a:ext cx="25700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920" y="24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ие птицы подбрасывают свой яйца в чужие гнезд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95280" y="301680"/>
            <a:ext cx="752472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465300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укуш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0328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их австралийски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тиц яйц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ысижива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самец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85800" y="301680"/>
            <a:ext cx="7199280" cy="1866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цыплятки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5589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стра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4940280" y="3392640"/>
            <a:ext cx="3348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58920" y="292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У каких птиц птенцы появляются на свет чаще всего в середине зим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26920" y="259920"/>
            <a:ext cx="7453440" cy="180036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4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2241720"/>
            <a:ext cx="574560" cy="75564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55640"/>
              <a:gd name="textAreaBottom" fmla="*/ 718560 h 755640"/>
            </a:gdLst>
            <a:ahLst/>
            <a:rect l="textAreaLeft" t="textAreaTop" r="textAreaRight" b="textAreaBottom"/>
            <a:pathLst>
              <a:path w="21600" h="28403">
                <a:moveTo>
                  <a:pt x="0" y="0"/>
                </a:moveTo>
                <a:lnTo>
                  <a:pt x="21600" y="0"/>
                </a:lnTo>
                <a:lnTo>
                  <a:pt x="21600" y="28403"/>
                </a:lnTo>
                <a:lnTo>
                  <a:pt x="0" y="28403"/>
                </a:lnTo>
                <a:close/>
              </a:path>
              <a:path fill="lightenLess" w="21600" h="284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03">
                <a:moveTo>
                  <a:pt x="21600" y="0"/>
                </a:moveTo>
                <a:lnTo>
                  <a:pt x="21600" y="28403"/>
                </a:lnTo>
                <a:lnTo>
                  <a:pt x="20200" y="27003"/>
                </a:lnTo>
                <a:lnTo>
                  <a:pt x="20200" y="1400"/>
                </a:lnTo>
                <a:close/>
              </a:path>
              <a:path fill="darkenLess" w="21600" h="28403">
                <a:moveTo>
                  <a:pt x="21600" y="28403"/>
                </a:moveTo>
                <a:lnTo>
                  <a:pt x="0" y="28403"/>
                </a:lnTo>
                <a:lnTo>
                  <a:pt x="1400" y="27003"/>
                </a:lnTo>
                <a:lnTo>
                  <a:pt x="20200" y="27003"/>
                </a:lnTo>
                <a:close/>
              </a:path>
              <a:path fill="lighten" w="21600" h="28403">
                <a:moveTo>
                  <a:pt x="0" y="284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03"/>
                </a:lnTo>
                <a:close/>
              </a:path>
              <a:path fill="darken" w="21600" h="28403">
                <a:moveTo>
                  <a:pt x="10800" y="7239"/>
                </a:moveTo>
                <a:lnTo>
                  <a:pt x="13376" y="9850"/>
                </a:ln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lnTo>
                  <a:pt x="17763" y="14202"/>
                </a:lnTo>
                <a:lnTo>
                  <a:pt x="16109" y="14202"/>
                </a:lnTo>
                <a:lnTo>
                  <a:pt x="16109" y="21391"/>
                </a:lnTo>
                <a:lnTo>
                  <a:pt x="5491" y="21391"/>
                </a:lnTo>
                <a:lnTo>
                  <a:pt x="5491" y="14202"/>
                </a:lnTo>
                <a:lnTo>
                  <a:pt x="3837" y="14202"/>
                </a:lnTo>
                <a:close/>
              </a:path>
              <a:path fill="darkenLess" w="21600" h="28403">
                <a:moveTo>
                  <a:pt x="13376" y="9850"/>
                </a:move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close/>
              </a:path>
              <a:path fill="darkenLess" w="21600" h="28403">
                <a:moveTo>
                  <a:pt x="9877" y="17701"/>
                </a:moveTo>
                <a:lnTo>
                  <a:pt x="11723" y="17701"/>
                </a:lnTo>
                <a:lnTo>
                  <a:pt x="11723" y="21391"/>
                </a:lnTo>
                <a:lnTo>
                  <a:pt x="16109" y="21391"/>
                </a:lnTo>
                <a:lnTo>
                  <a:pt x="16109" y="14202"/>
                </a:lnTo>
                <a:lnTo>
                  <a:pt x="5491" y="14202"/>
                </a:lnTo>
                <a:lnTo>
                  <a:pt x="5491" y="21391"/>
                </a:lnTo>
                <a:lnTo>
                  <a:pt x="9877" y="21391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9640" y="2421000"/>
            <a:ext cx="2556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Сво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48000" y="5661000"/>
            <a:ext cx="24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ле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31640" y="23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ую форму имеют яйца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ткладываемые птицами на голые скалы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191280" cy="179568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Ко-ко-ко</a:t>
            </a:r>
            <a:r>
              <a:rPr b="0" lang="ru-RU" sz="40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 мои цыплятки_x000b_5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56000" y="5445000"/>
            <a:ext cx="37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угловат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2400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Что за птиц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ерая Шей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из рассказ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амина-Сибиряк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03280" y="297000"/>
            <a:ext cx="6445440" cy="17222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5734080"/>
            <a:ext cx="13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у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724360" y="2565360"/>
            <a:ext cx="2619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9528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Где хранится смерть Кощея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64785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2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48000" y="443700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 яй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184720" y="0"/>
            <a:ext cx="395928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1449360"/>
            <a:ext cx="79236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95640" y="144936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3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48360" y="3284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4616280"/>
            <a:ext cx="7574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0000" y="5734080"/>
            <a:ext cx="75708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43640" y="1052640"/>
            <a:ext cx="493236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43640" y="5734080"/>
            <a:ext cx="79200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4364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4364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9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0" action="ppaction://hlinksldjump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3564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1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0872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2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872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3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4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364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5" action="ppaction://hlinksldjump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010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6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7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0872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19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72360" y="1484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0" action="ppaction://hlinksldjump"/>
              </a:rPr>
              <a:t>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01080" y="29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1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01080" y="2492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2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36000" y="1449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3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36000" y="353700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4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64360" y="461628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Arial"/>
                <a:hlinkClick r:id="rId25" action="ppaction://hlinksldjump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36000" y="5697360"/>
            <a:ext cx="755640" cy="642600"/>
          </a:xfrm>
          <a:prstGeom prst="rect">
            <a:avLst/>
          </a:prstGeom>
          <a:solidFill>
            <a:srgbClr val="ffcc6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6000" y="333360"/>
            <a:ext cx="428472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 Красной Кни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1484280"/>
            <a:ext cx="424800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 в загад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2529000"/>
            <a:ext cx="4356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о-ко-ко мои цыпля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3537000"/>
            <a:ext cx="4248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Птицы в литерат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7280" y="4616280"/>
            <a:ext cx="4140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амые, самая, сам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5769000"/>
            <a:ext cx="4356360" cy="5205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География пти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кого превратился Гадкий утенок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 сказке Андерсена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61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9640" y="4976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ая птица сидел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плече капитан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Флинт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800000" y="225360"/>
            <a:ext cx="6661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87640" y="490536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опуг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2951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58560" y="227664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родолжите слова Короленк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«Человек рождён для счастья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………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65820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литературе_x000b_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03640" y="5337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Птица для полё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зовите отряд птиц, содержащий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аибольшее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число видов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763280" y="225360"/>
            <a:ext cx="5977080" cy="15638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Самые, самая, самое 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533700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оробьиные 5100 вид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759280" y="2744640"/>
            <a:ext cx="28958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ая птица дольш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всех живет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763280" y="367920"/>
            <a:ext cx="59770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ые, самая,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ое    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3280" y="450864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Вор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360" y="292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представитель пингвинов самый маленький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86920" y="296640"/>
            <a:ext cx="6046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ые, самая, самое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51280" y="537372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алапагосский   40 с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2168640"/>
            <a:ext cx="255564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Сво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03640" y="1989000"/>
            <a:ext cx="574560" cy="75564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55640"/>
              <a:gd name="textAreaBottom" fmla="*/ 718560 h 755640"/>
            </a:gdLst>
            <a:ahLst/>
            <a:rect l="textAreaLeft" t="textAreaTop" r="textAreaRight" b="textAreaBottom"/>
            <a:pathLst>
              <a:path w="21600" h="28403">
                <a:moveTo>
                  <a:pt x="0" y="0"/>
                </a:moveTo>
                <a:lnTo>
                  <a:pt x="21600" y="0"/>
                </a:lnTo>
                <a:lnTo>
                  <a:pt x="21600" y="28403"/>
                </a:lnTo>
                <a:lnTo>
                  <a:pt x="0" y="28403"/>
                </a:lnTo>
                <a:close/>
              </a:path>
              <a:path fill="lightenLess" w="21600" h="284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403">
                <a:moveTo>
                  <a:pt x="21600" y="0"/>
                </a:moveTo>
                <a:lnTo>
                  <a:pt x="21600" y="28403"/>
                </a:lnTo>
                <a:lnTo>
                  <a:pt x="20200" y="27003"/>
                </a:lnTo>
                <a:lnTo>
                  <a:pt x="20200" y="1400"/>
                </a:lnTo>
                <a:close/>
              </a:path>
              <a:path fill="darkenLess" w="21600" h="28403">
                <a:moveTo>
                  <a:pt x="21600" y="28403"/>
                </a:moveTo>
                <a:lnTo>
                  <a:pt x="0" y="28403"/>
                </a:lnTo>
                <a:lnTo>
                  <a:pt x="1400" y="27003"/>
                </a:lnTo>
                <a:lnTo>
                  <a:pt x="20200" y="27003"/>
                </a:lnTo>
                <a:close/>
              </a:path>
              <a:path fill="lighten" w="21600" h="28403">
                <a:moveTo>
                  <a:pt x="0" y="284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003"/>
                </a:lnTo>
                <a:close/>
              </a:path>
              <a:path fill="darken" w="21600" h="28403">
                <a:moveTo>
                  <a:pt x="10800" y="7239"/>
                </a:moveTo>
                <a:lnTo>
                  <a:pt x="13376" y="9850"/>
                </a:ln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lnTo>
                  <a:pt x="17763" y="14202"/>
                </a:lnTo>
                <a:lnTo>
                  <a:pt x="16109" y="14202"/>
                </a:lnTo>
                <a:lnTo>
                  <a:pt x="16109" y="21391"/>
                </a:lnTo>
                <a:lnTo>
                  <a:pt x="5491" y="21391"/>
                </a:lnTo>
                <a:lnTo>
                  <a:pt x="5491" y="14202"/>
                </a:lnTo>
                <a:lnTo>
                  <a:pt x="3837" y="14202"/>
                </a:lnTo>
                <a:close/>
              </a:path>
              <a:path fill="darkenLess" w="21600" h="28403">
                <a:moveTo>
                  <a:pt x="13376" y="9850"/>
                </a:moveTo>
                <a:lnTo>
                  <a:pt x="13376" y="8109"/>
                </a:lnTo>
                <a:lnTo>
                  <a:pt x="15152" y="8109"/>
                </a:lnTo>
                <a:lnTo>
                  <a:pt x="15152" y="11625"/>
                </a:lnTo>
                <a:close/>
              </a:path>
              <a:path fill="darkenLess" w="21600" h="28403">
                <a:moveTo>
                  <a:pt x="9877" y="17701"/>
                </a:moveTo>
                <a:lnTo>
                  <a:pt x="11723" y="17701"/>
                </a:lnTo>
                <a:lnTo>
                  <a:pt x="11723" y="21391"/>
                </a:lnTo>
                <a:lnTo>
                  <a:pt x="16109" y="21391"/>
                </a:lnTo>
                <a:lnTo>
                  <a:pt x="16109" y="14202"/>
                </a:lnTo>
                <a:lnTo>
                  <a:pt x="5491" y="14202"/>
                </a:lnTo>
                <a:lnTo>
                  <a:pt x="5491" y="21391"/>
                </a:lnTo>
                <a:lnTo>
                  <a:pt x="9877" y="21391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ой попугай самый разговорчивый и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способный  к языкам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295280" y="225360"/>
            <a:ext cx="64072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ые, самая,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самое 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494172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Жако, или серый попуг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31640" y="22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У какой птицы самое большое гнездо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63280" y="367920"/>
            <a:ext cx="66229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Самые, самая, _x000b_самое  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19280" y="4473720"/>
            <a:ext cx="5005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У американского белоголового ор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есит 2 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55640" y="23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Птица – символ Антарктиды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079280" y="225000"/>
            <a:ext cx="6399000" cy="149220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76360" y="501336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34920" y="468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Пингв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543640" y="4149720"/>
            <a:ext cx="20667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00280" y="2290320"/>
            <a:ext cx="6951600" cy="352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 называетс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ескрылая птиц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овой Зеландии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з отряда страусов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655640" y="260280"/>
            <a:ext cx="59738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55530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Ки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443640" y="2241720"/>
            <a:ext cx="1895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743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акая птица из совообразных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занесена в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расную книгу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31640" y="301320"/>
            <a:ext cx="795672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   _x000b_ 1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34920" y="562464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фил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16000" y="2205000"/>
            <a:ext cx="33843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68120" y="2336760"/>
            <a:ext cx="733572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а каком материк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были одомашнены мускусные утки?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692360" y="333000"/>
            <a:ext cx="5973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08360" y="468936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Южная Амер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96400" y="2538000"/>
            <a:ext cx="6954840" cy="352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азовите приток реки Хопра, носящий имя птицы, которой так и не удалось отведать сыр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368360" y="188640"/>
            <a:ext cx="60818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 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30064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Во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292720" y="4329000"/>
            <a:ext cx="21718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58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Какую страну называют «Земля попугаев»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223640" y="260280"/>
            <a:ext cx="604836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География птиц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40000" y="476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встр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3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акую птицу охраняют в Кургалжинском заповеднике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42560" y="260280"/>
            <a:ext cx="698364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049720"/>
            <a:ext cx="30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фламин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ля охраны какой птицы организован Алакольский заповедник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863280" y="260280"/>
            <a:ext cx="6877080" cy="146232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 3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0000" y="5589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Реликтовая чай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Какой аист гнездится только в южных районах Казахстан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31280" y="296640"/>
            <a:ext cx="78123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_x000b_ 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5373720"/>
            <a:ext cx="20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Бе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О какой охраняемой птице сложено много песен и легенд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58560" y="296640"/>
            <a:ext cx="618948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Красной Книги 5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5481720"/>
            <a:ext cx="19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лебе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19280" y="2313000"/>
            <a:ext cx="2556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Своя 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79640" y="2133720"/>
            <a:ext cx="792000" cy="684000"/>
          </a:xfrm>
          <a:custGeom>
            <a:avLst/>
            <a:gdLst>
              <a:gd name="textAreaLeft" fmla="*/ 44280 w 792000"/>
              <a:gd name="textAreaRight" fmla="*/ 747720 w 792000"/>
              <a:gd name="textAreaTop" fmla="*/ 44280 h 684000"/>
              <a:gd name="textAreaBottom" fmla="*/ 639720 h 684000"/>
            </a:gdLst>
            <a:ahLst/>
            <a:rect l="textAreaLeft" t="textAreaTop" r="textAreaRight" b="textAreaBottom"/>
            <a:pathLst>
              <a:path w="25009" h="21600">
                <a:moveTo>
                  <a:pt x="0" y="0"/>
                </a:moveTo>
                <a:lnTo>
                  <a:pt x="25009" y="0"/>
                </a:lnTo>
                <a:lnTo>
                  <a:pt x="25009" y="21600"/>
                </a:lnTo>
                <a:lnTo>
                  <a:pt x="0" y="21600"/>
                </a:lnTo>
                <a:close/>
              </a:path>
              <a:path fill="lightenLess" w="25009" h="21600">
                <a:moveTo>
                  <a:pt x="0" y="0"/>
                </a:moveTo>
                <a:lnTo>
                  <a:pt x="25009" y="0"/>
                </a:lnTo>
                <a:lnTo>
                  <a:pt x="23609" y="1400"/>
                </a:lnTo>
                <a:lnTo>
                  <a:pt x="1400" y="1400"/>
                </a:lnTo>
                <a:close/>
              </a:path>
              <a:path fill="darken" w="25009" h="21600">
                <a:moveTo>
                  <a:pt x="25009" y="0"/>
                </a:moveTo>
                <a:lnTo>
                  <a:pt x="25009" y="21600"/>
                </a:lnTo>
                <a:lnTo>
                  <a:pt x="23609" y="20200"/>
                </a:lnTo>
                <a:lnTo>
                  <a:pt x="23609" y="1400"/>
                </a:lnTo>
                <a:close/>
              </a:path>
              <a:path fill="darkenLess" w="25009" h="21600">
                <a:moveTo>
                  <a:pt x="25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9" y="20200"/>
                </a:lnTo>
                <a:close/>
              </a:path>
              <a:path fill="lighten" w="25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9" h="21600">
                <a:moveTo>
                  <a:pt x="12504" y="3837"/>
                </a:moveTo>
                <a:lnTo>
                  <a:pt x="15081" y="6448"/>
                </a:lnTo>
                <a:lnTo>
                  <a:pt x="15081" y="4707"/>
                </a:lnTo>
                <a:lnTo>
                  <a:pt x="16856" y="4707"/>
                </a:lnTo>
                <a:lnTo>
                  <a:pt x="16856" y="8224"/>
                </a:lnTo>
                <a:lnTo>
                  <a:pt x="19467" y="10800"/>
                </a:lnTo>
                <a:lnTo>
                  <a:pt x="17814" y="10800"/>
                </a:lnTo>
                <a:lnTo>
                  <a:pt x="17814" y="17989"/>
                </a:lnTo>
                <a:lnTo>
                  <a:pt x="7195" y="17989"/>
                </a:lnTo>
                <a:lnTo>
                  <a:pt x="7195" y="10800"/>
                </a:lnTo>
                <a:lnTo>
                  <a:pt x="5541" y="10800"/>
                </a:lnTo>
                <a:close/>
              </a:path>
              <a:path fill="darkenLess" w="25009" h="21600">
                <a:moveTo>
                  <a:pt x="15081" y="6448"/>
                </a:moveTo>
                <a:lnTo>
                  <a:pt x="15081" y="4707"/>
                </a:lnTo>
                <a:lnTo>
                  <a:pt x="16856" y="4707"/>
                </a:lnTo>
                <a:lnTo>
                  <a:pt x="16856" y="8224"/>
                </a:lnTo>
                <a:close/>
              </a:path>
              <a:path fill="darkenLess" w="25009" h="21600">
                <a:moveTo>
                  <a:pt x="11582" y="14299"/>
                </a:moveTo>
                <a:lnTo>
                  <a:pt x="13427" y="14299"/>
                </a:lnTo>
                <a:lnTo>
                  <a:pt x="13427" y="17989"/>
                </a:lnTo>
                <a:lnTo>
                  <a:pt x="17814" y="17989"/>
                </a:lnTo>
                <a:lnTo>
                  <a:pt x="17814" y="10800"/>
                </a:lnTo>
                <a:lnTo>
                  <a:pt x="7195" y="10800"/>
                </a:lnTo>
                <a:lnTo>
                  <a:pt x="7195" y="17989"/>
                </a:lnTo>
                <a:lnTo>
                  <a:pt x="11582" y="17989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11280" y="1916280"/>
            <a:ext cx="6953040" cy="3525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Эта птица, если просят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Малышей в семью приноси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Я же вам скажу без грусти, что меня нашли в капусте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87280" y="296640"/>
            <a:ext cx="579456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_x000b_  1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558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аи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15640" y="2673000"/>
            <a:ext cx="8242200" cy="3422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Зоркий глаз, парит высоко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Но не ястреб и не сокол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258920" y="367920"/>
            <a:ext cx="5905440" cy="1461960"/>
          </a:xfrm>
          <a:prstGeom prst="rect">
            <a:avLst/>
          </a:prstGeom>
          <a:solidFill>
            <a:srgbClr val="66ffff"/>
          </a:solidFill>
          <a:ln w="28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Arial"/>
                <a:hlinkClick r:id="rId1" action="ppaction://hlinksldjump"/>
              </a:rPr>
              <a:t>Птицы в загадках _x000b_ 2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08360" y="5408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Ор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4:43:57Z</dcterms:created>
  <dc:creator>ольга</dc:creator>
  <dc:description/>
  <dc:language>en-US</dc:language>
  <cp:lastModifiedBy>Ольга</cp:lastModifiedBy>
  <dcterms:modified xsi:type="dcterms:W3CDTF">2011-04-18T15:46:31Z</dcterms:modified>
  <cp:revision>13</cp:revision>
  <dc:subject/>
  <dc:title>своя игра птицы 7 к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4000000000001024110</vt:lpwstr>
  </property>
</Properties>
</file>