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wmf" ContentType="image/x-wmf"/>
  <Override PartName="/ppt/media/image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gif" ContentType="image/gif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8567-DD7E-4C2E-AC74-FCA246F1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7F50-2A69-48D9-9137-92ECE07B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3C06-6809-4CCA-8B3C-393ECFA6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BFFF-BAFD-4D65-BA55-CFE0D6CE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95E8-0133-49FE-84FD-D9074000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A6BC-BF3E-4F11-962A-9DB5CAC0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5566-00EC-4495-AA61-2C57C981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5D98-45F5-40E3-A1E4-7B7DA26D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2450-2756-471C-B510-0038C73F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E37A-F32D-4BCC-A61B-3391E42B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0B0E-9453-460B-86DC-02C0048D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F7DD-32C9-44BC-B2A7-2EAA8959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5164-FCE5-4614-834F-32F14D7E5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image" Target="../media/image4.wmf"/><Relationship Id="rId23" Type="http://schemas.openxmlformats.org/officeDocument/2006/relationships/image" Target="../media/image5.wmf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24000" y="2565360"/>
            <a:ext cx="842472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бақтың тақырыбы:Қазақстанның табиғат эоналары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43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45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46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53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9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60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4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65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69" name="Picture 33" descr="MCj03985870000[1]"/>
          <p:cNvPicPr/>
          <p:nvPr/>
        </p:nvPicPr>
        <p:blipFill>
          <a:blip r:embed="rId22"/>
          <a:stretch/>
        </p:blipFill>
        <p:spPr>
          <a:xfrm>
            <a:off x="7236000" y="69228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MCj03972740000[1]"/>
          <p:cNvPicPr/>
          <p:nvPr/>
        </p:nvPicPr>
        <p:blipFill>
          <a:blip r:embed="rId23"/>
          <a:stretch/>
        </p:blipFill>
        <p:spPr>
          <a:xfrm>
            <a:off x="468360" y="5373720"/>
            <a:ext cx="1817640" cy="1052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76280"/>
            <a:ext cx="64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Батыс  Қазақстан облысы Тасқала ауда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Ы. Алтынсарин атындағы ЖББО мектеб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360" y="4797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 </a:t>
            </a:r>
            <a:r>
              <a:rPr b="1" lang="kk-KZ" sz="1800" spc="-1" strike="noStrike">
                <a:solidFill>
                  <a:srgbClr val="990000"/>
                </a:solidFill>
                <a:latin typeface="Arial"/>
              </a:rPr>
              <a:t>санатты география пәнінің мұғалім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Arial"/>
              </a:rPr>
              <a:t>Абдрахманова Клара Сайновна</a:t>
            </a:r>
            <a:r>
              <a:rPr b="0" lang="kk-KZ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324000" y="333360"/>
            <a:ext cx="8353440" cy="619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Қазақстанның дала зонасының жылдық жауын-шашын мөлшері (мм) 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300-45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220-31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100-25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100-37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E) 150-31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6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Қазақстанның Қызыл кітабына енгізілген шөл зонасының өсімдігі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Жүзгін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Дермене жусаны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Құм қарағаны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Бұйырғын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E) Селеу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7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Шөл зонасындағы өзен аңғарларында әр түрлі өсімдіктерден құралған қалың бұталар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Тасты шөл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Құмды шөл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Тақыр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Тоғай </a:t>
            </a:r>
            <a:br>
              <a:rPr sz="1600"/>
            </a:br>
            <a:r>
              <a:rPr b="1" i="1" lang="ru-RU" sz="1600" spc="-1" strike="noStrike">
                <a:solidFill>
                  <a:srgbClr val="990000"/>
                </a:solidFill>
                <a:latin typeface="Times New Roman"/>
              </a:rPr>
              <a:t>E) Ну орман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 табиғат зоналарында орналасқан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Ылғалды экваторлық, Тайга, Сельвас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Тропиктік шөлде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Саванналар,Кампос,Льянос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Орманды дала, дала, шөлейт, шө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Арктикалық шөлде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рманды дала зонасында өсетін ағашта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Бал қарағай, шырш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Сексеуіл, жыңғы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Қайың, көктерек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Шырша, қарағай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Май қарағай, тобылғы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ның % дала зонасы алып жат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26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27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28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29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3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Шөлейт зонасының негізгі топырағ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Қара топырақ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Қызыл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Ашық қара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Қызғыл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ұрыс жауап: 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ның 44%-н алып жатқан табиғат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Орманды зон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Дала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Орманды дала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Шө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Шөлей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ұрыс жауап: 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1600" spc="-1" strike="noStrike">
                <a:solidFill>
                  <a:srgbClr val="ff3300"/>
                </a:solidFill>
                <a:latin typeface="KZ 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213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4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215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216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2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223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9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30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4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35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8.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Орманды дала зонасында өсетін ағашта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Бал қарағай, шырша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Сексеуіл, жыңғыл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Қайың, көктерек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Шырша, қарағай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Май қарағай, тобылғы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9</a:t>
            </a: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Қазақстан аумағының % дала зонасы алып жат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26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27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28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29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3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10.Шөлейт зонасының негізгі топырағы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Қара топырақ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Қызыл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Ашық қара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Қызғыл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241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243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244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0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251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7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58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2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63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Дұрыс жау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1.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2с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3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4.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5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6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7.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8.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9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10.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544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Үйге тапсырма:38, 39 параграф оқу. 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арамандық жұмыс №8 кескін картаға зоналардың шекарасын сызып, боя.Оқулықтың 168 беттегі  бір табиғат зонасына жоспар бойынша  сипаттама бе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74" name="Picture 3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Group 4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76" name="Group 5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77" name="Picture 6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7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8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9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10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11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3" name="Group 12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84" name="Picture 13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14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15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16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17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18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0" name="Group 19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91" name="Picture 20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" name="Picture 21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" name="Picture 22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Picture 23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5" name="Group 24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96" name="Picture 25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26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27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Picture 28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0" name="Text Box 29"/>
          <p:cNvSpPr/>
          <p:nvPr/>
        </p:nvSpPr>
        <p:spPr>
          <a:xfrm>
            <a:off x="395280" y="476280"/>
            <a:ext cx="82072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Мақсаты:</a:t>
            </a:r>
            <a:r>
              <a:rPr b="0" lang="kk-KZ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Білімділік:</a:t>
            </a:r>
            <a:r>
              <a:rPr b="1" lang="en-US" sz="2200" spc="-1" strike="noStrike">
                <a:solidFill>
                  <a:srgbClr val="990000"/>
                </a:solidFill>
                <a:latin typeface="Times New Roman"/>
              </a:rPr>
              <a:t>O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қушылардың Қазақстанның табиғат зоналары туралы білімдерін тереңдету, табиғат кешенінің барлық компоненттерінің бір- бірімен тығыз байланысты екендігі туралы көзқарастарын қалыптастыру;</a:t>
            </a:r>
            <a:r>
              <a:rPr b="0" lang="kk-KZ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Дамытушылық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Оқушылардың ойлау  қабілетін, картамен , интерактивтік тақтамен, оқулықпен жұмыс жасай білу,білім- білік дағдыларын жетілдіру, география пәніне қызығушылық қабілетін дамыту;жеке  тұлғаны дамыту, талдау, салыстыра  білу қабілетін дамы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Тәрбиелік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оқушыларды еңбексүйгіштікке, табиғатты қорғай білуге , жауапкершілік сезімін қалыптастыруға тәрбиелеу</a:t>
            </a:r>
            <a:r>
              <a:rPr b="0" lang="kk-KZ" sz="2200" spc="-1" strike="noStrike">
                <a:solidFill>
                  <a:srgbClr val="990000"/>
                </a:solidFill>
                <a:latin typeface="Times New Roman"/>
              </a:rPr>
              <a:t>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Сабақ әдісі: сұрақ - жауап , СТО стратегияла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ff0066"/>
                </a:solidFill>
                <a:latin typeface="Arial"/>
              </a:rPr>
              <a:t>Сабақтың түрі: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қайталау саб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Көрнекілігі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Қазақстанның физикалық картасы, интерактивтік тақта, жануарлар мен өсімдіктер суреттер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02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04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68360" y="404640"/>
            <a:ext cx="828036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Жедел жауап   аялдам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. Қазақстанның табиғат зоналар с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2 .Ең солтүстіктегі табиғат зон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3.Орманды дала зонасының топырағ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4.  Қазақстан жерінің 27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алып жатқан табиғат зона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5.  Дала зонасындағы жауын- шашын мөлш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6.  Дала зонасындағы салмағы 16 кг жететін құ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7.  Жайық өзенінен Алтай тауларына дейін 2900 км созылып жатқан табиғат зон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8.  Шөлейт зонасының  өзендері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9  .Дәрілік мүйізі үшін қырылу шегінде тұрған сүтқоректі жануа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0. Республика аумағының 44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 алып жатқан 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1. Шөл зонасында кездесетін , сантонин дәрі алынатын Қызыл кітабына енген өсімді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2.Дала зонасының дәрілік  өсімдікт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3. Дала зонасының жануарл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4. Каспий теңізінен Тарбағатай тауына дейінгі 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10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12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95280" y="54936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              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. Адасқан жануарлар аялдам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Мына жануарларды дұрыс зоналар бойынша орналастыр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564000" y="1413000"/>
            <a:ext cx="2808360" cy="3527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324000" y="1341360"/>
            <a:ext cx="3240000" cy="3600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6804000" y="1700280"/>
            <a:ext cx="1620720" cy="201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659640" y="4292640"/>
            <a:ext cx="2016000" cy="1800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0"/>
          <p:cNvSpPr/>
          <p:nvPr/>
        </p:nvSpPr>
        <p:spPr>
          <a:xfrm>
            <a:off x="7308720" y="5589720"/>
            <a:ext cx="9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ұлан   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7236000" y="3357720"/>
            <a:ext cx="93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Дуадақ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684360" y="4724280"/>
            <a:ext cx="1439640" cy="18446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"/>
          <p:cNvSpPr/>
          <p:nvPr/>
        </p:nvSpPr>
        <p:spPr>
          <a:xfrm>
            <a:off x="755640" y="602136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арақұйрық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2771640" y="4797360"/>
            <a:ext cx="1051200" cy="1773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0"/>
          <p:cNvSpPr/>
          <p:nvPr/>
        </p:nvSpPr>
        <p:spPr>
          <a:xfrm>
            <a:off x="3132000" y="6237360"/>
            <a:ext cx="9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ар барысы  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1"/>
          <a:stretch/>
        </p:blipFill>
        <p:spPr>
          <a:xfrm>
            <a:off x="4356000" y="4941720"/>
            <a:ext cx="2017800" cy="15130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0"/>
          <p:cNvSpPr/>
          <p:nvPr/>
        </p:nvSpPr>
        <p:spPr>
          <a:xfrm>
            <a:off x="4716360" y="5950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Бірқазан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31" name="Picture 3" descr="линия"/>
            <p:cNvPicPr/>
            <p:nvPr/>
          </p:nvPicPr>
          <p:blipFill>
            <a:blip r:embed="rId12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33" name="Picture 5" descr="линия"/>
              <p:cNvPicPr/>
              <p:nvPr/>
            </p:nvPicPr>
            <p:blipFill>
              <a:blip r:embed="rId13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6" descr="линия"/>
              <p:cNvPicPr/>
              <p:nvPr/>
            </p:nvPicPr>
            <p:blipFill>
              <a:blip r:embed="rId14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Picture 7" descr="линия"/>
              <p:cNvPicPr/>
              <p:nvPr/>
            </p:nvPicPr>
            <p:blipFill>
              <a:blip r:embed="rId15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37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39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39640" y="476280"/>
            <a:ext cx="799308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kk-KZ" sz="2500" spc="-1" strike="noStrike">
                <a:solidFill>
                  <a:srgbClr val="990000"/>
                </a:solidFill>
                <a:latin typeface="Times New Roman"/>
              </a:rPr>
              <a:t>Топырақтар аялдамас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500" spc="-1" strike="noStrike">
                <a:solidFill>
                  <a:srgbClr val="990000"/>
                </a:solidFill>
                <a:latin typeface="Times New Roman"/>
              </a:rPr>
              <a:t>1 топ- орманды дала, 2  топ- дала, 3 топ -шөлейт пен шөл зонасы.Қазақстанның табиғат зоналарын кескін картасына топырақ түрлері мен  қарашірік құрамын тауып дұрыс орналастыр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187280" y="2349360"/>
            <a:ext cx="734544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116000" y="404640"/>
            <a:ext cx="6551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4.Қазақстанның табиғат зоналарына сипаттама аялдама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468360" y="1341360"/>
            <a:ext cx="828036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Мына сипаттама бойынша қандай табиғат зона екенін 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 топқ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Арқаның Бетпақ деген даласы ба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етпақ шөл, ойлы- қырлы панасы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Сол шөлде ел жоқ, күн жоқ өсіп- өнг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Жәндіктің киік деген баласы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етпақта қысы- жазы ел болмай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Ел- жайлау, өзен яғни көл болмай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ұтасы қи болады, қара жус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Көгара бетегелі бел болмай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С. Сейфуллиннің “ Ақсақ киік” поэмасынан алынған өлең шумағы қандай табиғат зонасы туралы айтылғ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49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51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4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55" name="Picture 3" descr="линия"/>
            <p:cNvPicPr/>
            <p:nvPr/>
          </p:nvPicPr>
          <p:blipFill>
            <a:blip r:embed="rId5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57" name="Picture 5" descr="линия"/>
              <p:cNvPicPr/>
              <p:nvPr/>
            </p:nvPicPr>
            <p:blipFill>
              <a:blip r:embed="rId6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Picture 6" descr="линия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7" descr="линия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60" name="Picture 3" descr="I:\Сайга\сайгак\images[16].jpg"/>
          <p:cNvPicPr/>
          <p:nvPr/>
        </p:nvPicPr>
        <p:blipFill>
          <a:blip r:embed="rId9"/>
          <a:stretch/>
        </p:blipFill>
        <p:spPr>
          <a:xfrm>
            <a:off x="6156360" y="2060640"/>
            <a:ext cx="2593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62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64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296244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2 топқ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539640" y="907920"/>
            <a:ext cx="799308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Оқжетпес оқшырайып өрлеп кетке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Кеудені керіп өкке сермеп кетк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Қия- құз, жоқпар сарай, бура таста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Тәртіппен көлді айнала сәндеп шөкк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І.Жансүгіровтың поэмасынан алынған өлеңде қай жер туралы айтылғ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3 топқ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Бұл табиғат зонасы Қазақстан жерінің  27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алып жатыр. Көп жері жыртылған. Жаздық бидай мен тағы басқа дәнді дақылдар егіледі. Климатты континентті, жауын- шашын 220- 310 ммдейін түседі. Жазы ыстық, қысы суық . Боз , бетеге, атқонақ , еркекшөп өсімдіктері өседі. Бұл қандай зона ?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940360" y="404640"/>
            <a:ext cx="2737080" cy="1908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6084720" y="4724280"/>
            <a:ext cx="2592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kk-KZ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MCj03983430000[1]"/>
          <p:cNvPicPr/>
          <p:nvPr/>
        </p:nvPicPr>
        <p:blipFill>
          <a:blip r:embed="rId1"/>
          <a:stretch/>
        </p:blipFill>
        <p:spPr>
          <a:xfrm rot="5400000">
            <a:off x="-3213000" y="2960640"/>
            <a:ext cx="6858000" cy="936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468360" y="290196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7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76" name="Picture 8" descr="линия"/>
            <p:cNvPicPr/>
            <p:nvPr/>
          </p:nvPicPr>
          <p:blipFill>
            <a:blip r:embed="rId2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Group 9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78" name="Picture 10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Picture 11" descr="линия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Picture 12" descr="линия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81" name=""/>
          <p:cNvGraphicFramePr/>
          <p:nvPr/>
        </p:nvGraphicFramePr>
        <p:xfrm>
          <a:off x="179280" y="2205000"/>
          <a:ext cx="8675640" cy="3549600"/>
        </p:xfrm>
        <a:graphic>
          <a:graphicData uri="http://schemas.openxmlformats.org/drawingml/2006/table">
            <a:tbl>
              <a:tblPr/>
              <a:tblGrid>
                <a:gridCol w="1086120"/>
                <a:gridCol w="793440"/>
                <a:gridCol w="798840"/>
                <a:gridCol w="857160"/>
                <a:gridCol w="857160"/>
                <a:gridCol w="855720"/>
                <a:gridCol w="855720"/>
                <a:gridCol w="857160"/>
                <a:gridCol w="857160"/>
                <a:gridCol w="857160"/>
              </a:tblGrid>
              <a:tr h="12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.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00-35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жауын- шаш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0-31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-16-18 градус қаңтар орт тем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+22+24 градус шілде орташа темп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ұр – қоңы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опыра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алас, Іле, Қаратал өзендер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0-30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арашірінд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-3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айың- көктер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рманды дала з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Дала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өлейт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өл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800" spc="-1" strike="noStrike">
                <a:solidFill>
                  <a:srgbClr val="990000"/>
                </a:solidFill>
                <a:latin typeface="Times New Roman"/>
              </a:rPr>
              <a:t>ІІІ.Ой толғаныс.</a:t>
            </a:r>
            <a:br>
              <a:rPr sz="2800"/>
            </a:br>
            <a:r>
              <a:rPr b="1" lang="kk-KZ" sz="2800" spc="-1" strike="noStrike">
                <a:solidFill>
                  <a:srgbClr val="990000"/>
                </a:solidFill>
                <a:latin typeface="Times New Roman"/>
              </a:rPr>
              <a:t>Семантикалық карта стратегиясы</a:t>
            </a:r>
            <a:r>
              <a:rPr b="1" lang="kk-KZ" sz="36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24000" y="260280"/>
            <a:ext cx="8497800" cy="65977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 u="sng">
                <a:solidFill>
                  <a:srgbClr val="990000"/>
                </a:solidFill>
                <a:uFillTx/>
                <a:latin typeface="Times New Roman"/>
              </a:rPr>
              <a:t>Бекіту тест сынағ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1. Топырақтың су және жел әрекетінен   бұзылу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мелио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құнарлығ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эро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денуд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кептір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2. Топырақтың  құнарлы  қабаты нені деп атайд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сазды  қабат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 ауыспалы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қарашірікті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 құмды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құмдауытты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3. Қазақстанның солтүстігінде орналасқан орманды  дала  зонасының   топырағ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сұр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 қара 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сортаң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 қоңыр-  сұр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сарғылт 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4. Топырақ  деп  ...  айтамы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жердің беткі,  жұқа  құнарлы   қабаты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батпақ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құм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тыңайтқыш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шаң – тозаң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185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187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188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4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195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1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02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6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07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7:30:15Z</dcterms:created>
  <dc:creator>катира</dc:creator>
  <dc:description/>
  <dc:language>en-US</dc:language>
  <cp:lastModifiedBy>009</cp:lastModifiedBy>
  <dcterms:modified xsi:type="dcterms:W3CDTF">2012-09-18T15:42:17Z</dcterms:modified>
  <cp:revision>1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80000000000010250500207f7000400038000</vt:lpwstr>
  </property>
</Properties>
</file>