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wmf" ContentType="image/x-wmf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400-241C-4F6A-B843-C960422E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848-030B-4E2B-B6AF-1D8ADC3C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55B-7E7F-4F07-A16D-142A1BE7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1B8-BEC2-468F-8B73-1495483E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DC4-4E91-4BE5-AF86-5A26C4DC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1BE-0C34-41D6-9B17-B74A5509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C70-C579-4AFD-8A64-DBFE6CCC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087-E753-4660-A79D-6E0A54CD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1E7-58A6-4968-993B-E7D4FB31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E54-25AC-480B-B3C1-5B4B700A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C1C-6F59-4783-A853-68702D57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E63-3664-405B-A6EC-BFAC3449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BECA-AD14-401D-AFE9-3E1CBF963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image" Target="../media/image4.wmf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565360"/>
            <a:ext cx="8424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бақтың тақырыбы:Қазақстанның табиғат эоналар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4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4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4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5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6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6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9" name="Picture 33" descr="MCj03985870000[1]"/>
          <p:cNvPicPr/>
          <p:nvPr/>
        </p:nvPicPr>
        <p:blipFill>
          <a:blip r:embed="rId22"/>
          <a:stretch/>
        </p:blipFill>
        <p:spPr>
          <a:xfrm>
            <a:off x="7236000" y="69228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MCj03972740000[1]"/>
          <p:cNvPicPr/>
          <p:nvPr/>
        </p:nvPicPr>
        <p:blipFill>
          <a:blip r:embed="rId23"/>
          <a:stretch/>
        </p:blipFill>
        <p:spPr>
          <a:xfrm>
            <a:off x="468360" y="5373720"/>
            <a:ext cx="1817640" cy="105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76280"/>
            <a:ext cx="64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Батыс  Қазақстан облысы Тасқала ауд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Ы. Алтынсарин атындағы ЖББО мекте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</a:t>
            </a: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санатты география пәнінің мұғалі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Абдрахманова Клара Сайновна</a:t>
            </a:r>
            <a:r>
              <a:rPr b="0" lang="kk-KZ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2400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дала зонасының жылдық жауын-шашын мөлшері (мм) 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300-4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22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100-2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100-37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15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6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Қызыл кітабына енгізілген шөл зонасының өсімдігі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Жүзгі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Дермене жус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Құм қарағ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Бұйырғы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Селеу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7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Шөл зонасындағы өзен аңғарларында әр түрлі өсімдіктерден құралған қалың бұталар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Таст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Құмд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Тақыр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Тоғай </a:t>
            </a:r>
            <a:br>
              <a:rPr sz="1600"/>
            </a:br>
            <a:r>
              <a:rPr b="1" i="1" lang="ru-RU" sz="1600" spc="-1" strike="noStrike">
                <a:solidFill>
                  <a:srgbClr val="990000"/>
                </a:solidFill>
                <a:latin typeface="Times New Roman"/>
              </a:rPr>
              <a:t>E) Ну орман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 табиғат зоналарында орналасқан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Ылғалды экваторлық, Тайга, Сельва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Тропиктік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Саванналар,Кампос,Льяно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Орманды дала, дала, шөлейт,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Арктикалық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манды дала зонасында өсетін ағашта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Бал қарағай, шырш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Сексеуіл, жыңғы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айың, көктерек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ырша, қарағай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Май қарағай, тобылғы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% дала зонасы алып жат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26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27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28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29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3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өлейт зонасының негізгі топырағ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Қара топырақ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Қызыл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Ашық қара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Қызғыл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44%-н алып жатқан табиғат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Орманды зон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Орманды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Шөлей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600" spc="-1" strike="noStrike">
                <a:solidFill>
                  <a:srgbClr val="ff3300"/>
                </a:solidFill>
                <a:latin typeface="KZ 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1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1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1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2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3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3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8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Орманды дала зонасында өсетін ағашта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Бал қарағай, шырша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Сексеуіл, жыңғыл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айың, көктерек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Шырша, қарағай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Май қарағай, тобылғы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9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Қазақстан аумағының % дала зонасы алып жат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26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27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28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29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10.Шөлейт зонасының негізгі топырағы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Қара топырақ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Қызыл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Ашық қара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Қызғыл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41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43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44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0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51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58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2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63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Дұрыс жау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2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3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4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5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6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7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8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9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0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Үйге тапсырма:38, 39 параграф оқу.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арамандық жұмыс №8 кескін картаға зоналардың шекарасын сызып, боя.Оқулықтың 168 беттегі  бір табиғат зонасына жоспар бойынша  сипаттама б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74" name="Picture 3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4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76" name="Group 5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77" name="Picture 6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7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8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9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10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1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Group 12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84" name="Picture 13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14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15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16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17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18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Group 19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91" name="Picture 20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21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22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23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5" name="Group 24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96" name="Picture 25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26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7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28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Text Box 29"/>
          <p:cNvSpPr/>
          <p:nvPr/>
        </p:nvSpPr>
        <p:spPr>
          <a:xfrm>
            <a:off x="395280" y="476280"/>
            <a:ext cx="82072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Мақсаты:</a:t>
            </a: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Білімділік: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O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ушылардың Қазақстанның табиғат зоналары туралы білімдерін тереңдету, табиғат кешенінің барлық компоненттерінің бір- бірімен тығыз байланысты екендігі туралы көзқарастарын қалыптастыру;</a:t>
            </a:r>
            <a:r>
              <a:rPr b="0" lang="kk-KZ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Дамытушылық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ң ойлау  қабілетін, картамен , интерактивтік тақтамен, оқулықпен жұмыс жасай білу,білім- білік дағдыларын жетілдіру, география пәніне қызығушылық қабілетін дамыту;жеке  тұлғаны дамыту, талдау, салыстыра  білу қабілетін дамы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Тәрбиелік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 еңбексүйгіштікке, табиғатты қорғай білуге , жауапкершілік сезімін қалыптастыруға тәрбиелеу</a:t>
            </a:r>
            <a:r>
              <a:rPr b="0" lang="kk-KZ" sz="2200" spc="-1" strike="noStrike">
                <a:solidFill>
                  <a:srgbClr val="990000"/>
                </a:solidFill>
                <a:latin typeface="Times New Roman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Сабақ әдісі: сұрақ - жауап , СТО стратегиял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ff0066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қайталау саб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Көрнекілігі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азақстанның физикалық картасы, интерактивтік тақта, жануарлар мен өсімдіктер суреттер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0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8360" y="404640"/>
            <a:ext cx="828036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Жедел жауап  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. Қазақстанның табиғат зоналар 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2 .Ең солтүстіктегі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3.Орманды дала зонасының топырағ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4.  Қазақстан жерінің 27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алып жатқан табиғат зон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5.  Дала зонасындағы жауын- шашын мөлш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6.  Дала зонасындағы салмағы 16 кг жететін қ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7.  Жайық өзенінен Алтай тауларына дейін 2900 км созылып жатқан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8.  Шөлейт зонасының  өзендері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9  .Дәрілік мүйізі үшін қырылу шегінде тұрған сүтқоректі жану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0. Республика аумағының 44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 алып жатқан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1. Шөл зонасында кездесетін , сантонин дәрі алынатын Қызыл кітабына енген өсімд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2.Дала зонасының дәрілік  өсімдік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3. Дала зонасының жануарл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4. Каспий теңізінен Тарбағатай тауына дейінгі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10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12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95280" y="54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. Адасқан жануарлар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Мына жануарларды дұрыс зоналар бойынша орналастыр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80836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4000" y="1341360"/>
            <a:ext cx="3240000" cy="36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1700280"/>
            <a:ext cx="162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659640" y="4292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7308720" y="5589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ұлан 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236000" y="3357720"/>
            <a:ext cx="9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Дуада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684360" y="472428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755640" y="6021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ақұйры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771640" y="4797360"/>
            <a:ext cx="105120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3132000" y="623736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 барысы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4356000" y="4941720"/>
            <a:ext cx="2017800" cy="1513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4716360" y="595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Бірқазан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1" name="Picture 3" descr="линия"/>
            <p:cNvPicPr/>
            <p:nvPr/>
          </p:nvPicPr>
          <p:blipFill>
            <a:blip r:embed="rId1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3" name="Picture 5" descr="линия"/>
              <p:cNvPicPr/>
              <p:nvPr/>
            </p:nvPicPr>
            <p:blipFill>
              <a:blip r:embed="rId1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6" descr="линия"/>
              <p:cNvPicPr/>
              <p:nvPr/>
            </p:nvPicPr>
            <p:blipFill>
              <a:blip r:embed="rId1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7" descr="линия"/>
              <p:cNvPicPr/>
              <p:nvPr/>
            </p:nvPicPr>
            <p:blipFill>
              <a:blip r:embed="rId1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7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9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39640" y="476280"/>
            <a:ext cx="799308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Топырақтар аялдамас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1 топ- орманды дала, 2  топ- дала, 3 топ -шөлейт пен шөл зонасы.Қазақстанның табиғат зоналарын кескін картасына топырақ түрлері мен  қарашірік құрамын тауып дұрыс орналасты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73454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16000" y="404640"/>
            <a:ext cx="655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4.Қазақстанның табиғат зоналарына сипаттама аялдам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68360" y="1341360"/>
            <a:ext cx="82803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Мына сипаттама бойынша қандай табиғат зона екенін 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 топқ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Арқаның Бетпақ деген даласы б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 шөл, ойлы- қырлы пан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ол шөлде ел жоқ, күн жоқ өсіп- өн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Жәндіктің киік деген бал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та қысы- жазы ел болмай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Ел- жайлау, өзен яғни кө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ұтасы қи болады, қара жу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Көгара бетегелі бе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. Сейфуллиннің “ Ақсақ киік” поэмасынан алынған өлең шумағы қандай табиғат зонасы туралы айтылғ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49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1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55" name="Picture 3" descr="линия"/>
            <p:cNvPicPr/>
            <p:nvPr/>
          </p:nvPicPr>
          <p:blipFill>
            <a:blip r:embed="rId5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7" name="Picture 5" descr="линия"/>
              <p:cNvPicPr/>
              <p:nvPr/>
            </p:nvPicPr>
            <p:blipFill>
              <a:blip r:embed="rId6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6" descr="линия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7" descr="линия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0" name="Picture 3" descr="I:\Сайга\сайгак\images[16].jpg"/>
          <p:cNvPicPr/>
          <p:nvPr/>
        </p:nvPicPr>
        <p:blipFill>
          <a:blip r:embed="rId9"/>
          <a:stretch/>
        </p:blipFill>
        <p:spPr>
          <a:xfrm>
            <a:off x="6156360" y="2060640"/>
            <a:ext cx="2593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6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6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2962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 топқ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39640" y="907920"/>
            <a:ext cx="799308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Оқжетпес оқшырайып өрлеп кетк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Кеудені керіп өкке сермеп кетк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Қия- құз, жоқпар сарай, бура таста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Тәртіппен көлді айнала сәндеп шөк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І.Жансүгіровтың поэмасынан алынған өлеңде қай жер туралы айтылғ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3 топқ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Бұл табиғат зонасы Қазақстан жерінің  27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алып жатыр. Көп жері жыртылған. Жаздық бидай мен тағы басқа дәнді дақылдар егіледі. Климатты континентті, жауын- шашын 220- 310 ммдейін түседі. Жазы ыстық, қысы суық . Боз , бетеге, атқонақ , еркекшөп өсімдіктері өседі. Бұл қандай зона ?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940360" y="404640"/>
            <a:ext cx="2737080" cy="19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84720" y="4724280"/>
            <a:ext cx="2592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MCj03983430000[1]"/>
          <p:cNvPicPr/>
          <p:nvPr/>
        </p:nvPicPr>
        <p:blipFill>
          <a:blip r:embed="rId1"/>
          <a:stretch/>
        </p:blipFill>
        <p:spPr>
          <a:xfrm rot="5400000">
            <a:off x="-3213000" y="2960640"/>
            <a:ext cx="6858000" cy="936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468360" y="29019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76" name="Picture 8" descr="линия"/>
            <p:cNvPicPr/>
            <p:nvPr/>
          </p:nvPicPr>
          <p:blipFill>
            <a:blip r:embed="rId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78" name="Picture 10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1" descr="линия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12" descr="линия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81" name=""/>
          <p:cNvGraphicFramePr/>
          <p:nvPr/>
        </p:nvGraphicFramePr>
        <p:xfrm>
          <a:off x="179280" y="2205000"/>
          <a:ext cx="8675640" cy="3549600"/>
        </p:xfrm>
        <a:graphic>
          <a:graphicData uri="http://schemas.openxmlformats.org/drawingml/2006/table">
            <a:tbl>
              <a:tblPr/>
              <a:tblGrid>
                <a:gridCol w="1086120"/>
                <a:gridCol w="793440"/>
                <a:gridCol w="798840"/>
                <a:gridCol w="857160"/>
                <a:gridCol w="857160"/>
                <a:gridCol w="855720"/>
                <a:gridCol w="855720"/>
                <a:gridCol w="857160"/>
                <a:gridCol w="857160"/>
                <a:gridCol w="85716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.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0-35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уын- шаш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0-31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16-18 градус қаңтар орт тем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+22+24 градус шілде орташа тем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ұр – қоң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опыра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алас, Іле, Қаратал өзенд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-30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рашірінд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-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йың- көктер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манды дала з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ала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ейт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ІІІ.Ой толғаныс.</a:t>
            </a:r>
            <a:br>
              <a:rPr sz="2800"/>
            </a:b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Семантикалық карта стратегиясы</a:t>
            </a:r>
            <a:r>
              <a:rPr b="1" lang="kk-KZ" sz="36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24000" y="260280"/>
            <a:ext cx="8497800" cy="6597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990000"/>
                </a:solidFill>
                <a:uFillTx/>
                <a:latin typeface="Times New Roman"/>
              </a:rPr>
              <a:t>Бекіту тест сынағ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1. Топырақтың су және жел әрекетінен   бұзылу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мелио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құнарлы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денуд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кепті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2. Топырақтың  құнарлы  қабаты нені деп атай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азды  қабат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ауыспал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арашірікті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ұмд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құмдауытты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3. Қазақстанның солтүстігінде орналасқан орманды  дала  зонасының   топыра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қара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сортаң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оңыр- 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сарғылт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4. Топырақ  деп  ...  айтамы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жердің беткі,  жұқа  құнарлы   қабат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батпақ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ұм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тыңайтқыш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шаң – тозаң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185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187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188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4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195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02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6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07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7:30:15Z</dcterms:created>
  <dc:creator>катира</dc:creator>
  <dc:description/>
  <dc:language>en-US</dc:language>
  <cp:lastModifiedBy>009</cp:lastModifiedBy>
  <dcterms:modified xsi:type="dcterms:W3CDTF">2012-09-18T15:42:17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80000000000010250500207f7000400038000</vt:lpwstr>
  </property>
</Properties>
</file>