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wmf" ContentType="image/x-wmf"/>
  <Override PartName="/ppt/media/image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4EC-D826-4BFD-A12C-9827AB69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ABF-F6DC-4D82-895E-46E3344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226-54E7-4CC8-9AC1-982888CD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C6E-0238-40BA-B69A-739A876D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6AC-E187-471D-8A38-9ADF5490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386-E72E-4767-8071-1DE82BA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E7B-B447-4B2E-AB76-A18062F7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AE3-B0A6-4C2D-A1ED-B84748C5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4E9-DE60-49BC-A4C5-70E4D427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F59-65B9-46CF-B7A1-3E66C3A1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365-B8BF-440C-B379-71382E41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10E-F202-42F4-BAB7-FF37A96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D69-A41B-45A5-94B9-EB2B4B1B6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image" Target="../media/image4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3.gif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3.gif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24000" y="2565360"/>
            <a:ext cx="842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бақтың тақырыбы:Қазақстанның табиғат эоналар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4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4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4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5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6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6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69" name="Picture 33" descr="MCj03985870000[1]"/>
          <p:cNvPicPr/>
          <p:nvPr/>
        </p:nvPicPr>
        <p:blipFill>
          <a:blip r:embed="rId22"/>
          <a:stretch/>
        </p:blipFill>
        <p:spPr>
          <a:xfrm>
            <a:off x="7236000" y="69228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MCj03972740000[1]"/>
          <p:cNvPicPr/>
          <p:nvPr/>
        </p:nvPicPr>
        <p:blipFill>
          <a:blip r:embed="rId23"/>
          <a:stretch/>
        </p:blipFill>
        <p:spPr>
          <a:xfrm>
            <a:off x="468360" y="5373720"/>
            <a:ext cx="1817640" cy="105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76280"/>
            <a:ext cx="64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Батыс  Қазақстан облысы Тасқала ауд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Ы. Алтынсарин атындағы ЖББО мекте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9236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</a:t>
            </a: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санатты география пәнінің мұғалім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Arial"/>
              </a:rPr>
              <a:t>Абдрахманова Клара Сайновна</a:t>
            </a:r>
            <a:r>
              <a:rPr b="0" lang="kk-KZ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2400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дала зонасының жылдық жауын-шашын мөлшері (мм) 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300-4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22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100-25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100-37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150-310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6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Қазақстанның Қызыл кітабына енгізілген шөл зонасының өсімдігі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Жүзгі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Дермене жус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Құм қарағаны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Бұйырғын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E) Селеу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7.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Шөл зонасындағы өзен аңғарларында әр түрлі өсімдіктерден құралған қалың бұталар: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A) Таст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B) Құмды шөл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C) Тақыр </a:t>
            </a:r>
            <a:br>
              <a:rPr sz="1600"/>
            </a:b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D) Тоғай </a:t>
            </a:r>
            <a:br>
              <a:rPr sz="1600"/>
            </a:br>
            <a:r>
              <a:rPr b="1" i="1" lang="ru-RU" sz="1600" spc="-1" strike="noStrike">
                <a:solidFill>
                  <a:srgbClr val="990000"/>
                </a:solidFill>
                <a:latin typeface="Times New Roman"/>
              </a:rPr>
              <a:t>E) Ну орман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 табиғат зоналарында орналасқан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Ылғалды экваторлық, Тайга, Сельва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Тропиктік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Саванналар,Кампос,Льянос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Орманды дала, дала, шөлейт,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Арктикалық шөлде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рманды дала зонасында өсетін ағашта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Бал қарағай, шырш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Сексеуіл, жыңғы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айың, көктерек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ырша, қарағай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Май қарағай, тобылғы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% дала зонасы алып жат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26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27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28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29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3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Шөлейт зонасының негізгі топырағ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Қара топырақ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Қызыл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Ашық қара қоңыр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Қызғыл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Қазақстан аумағының 44%-н алып жатқан табиғат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) Орманды зона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)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) Орманды дала зонасы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) Шө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Е) Шөлейт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ұрыс жауап: 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600" spc="-1" strike="noStrike">
                <a:solidFill>
                  <a:srgbClr val="ff3300"/>
                </a:solidFill>
                <a:latin typeface="KZ 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13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15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16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1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2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23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9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30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4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35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2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95280" y="333360"/>
            <a:ext cx="8353440" cy="619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8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Орманды дала зонасында өсетін ағашта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Бал қарағай, шырша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Сексеуіл, жыңғыл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айың, көктерек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Шырша, қарағай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Май қарағай, тобылғы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9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Қазақстан аумағының % дала зонасы алып жат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26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27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28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29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3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10.Шөлейт зонасының негізгі топырағы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А) Қара топырақ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В) Қызыл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С)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D) Ашық қара қоңыр 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Е) Қызғыл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241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243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244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0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251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58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63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Дұрыс жау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2с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3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4.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5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6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7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8.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9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990000"/>
                </a:solidFill>
                <a:latin typeface="Times New Roman"/>
              </a:rPr>
              <a:t>10.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Үйге тапсырма:38, 39 параграф оқу. 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арамандық жұмыс №8 кескін картаға зоналардың шекарасын сызып, боя.Оқулықтың 168 беттегі  бір табиғат зонасына жоспар бойынша  сипаттама б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74" name="Picture 3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Group 4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76" name="Group 5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77" name="Picture 6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7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9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10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11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" name="Group 12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84" name="Picture 13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14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15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16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17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18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0" name="Group 19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91" name="Picture 20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21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22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23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5" name="Group 24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96" name="Picture 25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26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27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28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0" name="Text Box 29"/>
          <p:cNvSpPr/>
          <p:nvPr/>
        </p:nvSpPr>
        <p:spPr>
          <a:xfrm>
            <a:off x="395280" y="476280"/>
            <a:ext cx="82072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Мақсаты:</a:t>
            </a: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Білімділік: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ушылардың Қазақстанның табиғат зоналары туралы білімдерін тереңдету, табиғат кешенінің барлық компоненттерінің бір- бірімен тығыз байланысты екендігі туралы көзқарастарын қалыптастыру;</a:t>
            </a:r>
            <a:r>
              <a:rPr b="0" lang="kk-KZ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Дамытушылық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ң ойлау  қабілетін, картамен , интерактивтік тақтамен, оқулықпен жұмыс жасай білу,білім- білік дағдыларын жетілдіру, география пәніне қызығушылық қабілетін дамыту;жеке  тұлғаны дамыту, талдау, салыстыра  білу қабілетін дам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Тәрбиелік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оқушыларды еңбексүйгіштікке, табиғатты қорғай білуге , жауапкершілік сезімін қалыптастыруға тәрбиелеу</a:t>
            </a:r>
            <a:r>
              <a:rPr b="0" lang="kk-KZ" sz="2200" spc="-1" strike="noStrike">
                <a:solidFill>
                  <a:srgbClr val="990000"/>
                </a:solidFill>
                <a:latin typeface="Times New Roman"/>
              </a:rPr>
              <a:t> 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Сабақ әдісі: сұрақ - жауап , СТО стратегияла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ff0066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990000"/>
                </a:solidFill>
                <a:latin typeface="Times New Roman"/>
              </a:rPr>
              <a:t>қайталау саб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ff0066"/>
                </a:solidFill>
                <a:latin typeface="Times New Roman"/>
              </a:rPr>
              <a:t>Көрнекілігі: </a:t>
            </a:r>
            <a:r>
              <a:rPr b="1" lang="kk-KZ" sz="2200" spc="-1" strike="noStrike">
                <a:solidFill>
                  <a:srgbClr val="990000"/>
                </a:solidFill>
                <a:latin typeface="Times New Roman"/>
              </a:rPr>
              <a:t>Қазақстанның физикалық картасы, интерактивтік тақта, жануарлар мен өсімдіктер суреттер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0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0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404640"/>
            <a:ext cx="828036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Жедел жауап  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. Қазақстанның табиғат зоналар 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2 .Ең солтүстіктегі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3.Орманды дала зонасының топырағ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4.  Қазақстан жерінің 27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алып жатқан табиғат зонас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5.  Дала зонасындағы жауын- шашын мөлш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6.  Дала зонасындағы салмағы 16 кг жететін қ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7.  Жайық өзенінен Алтай тауларына дейін 2900 км созылып жатқан табиғат зон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8.  Шөлейт зонасының  өзендері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9  .Дәрілік мүйізі үшін қырылу шегінде тұрған сүтқоректі жануа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0. Республика аумағының 44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 алып жатқан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1. Шөл зонасында кездесетін , сантонин дәрі алынатын Қызыл кітабына енген өсімді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2.Дала зонасының дәрілік  өсімдікте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3. Дала зонасының жануарл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4. Каспий теңізінен Тарбағатай тауына дейінгі з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10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12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395280" y="54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             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. Адасқан жануарлар аялдам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ff0066"/>
                </a:solidFill>
                <a:latin typeface="Times New Roman"/>
              </a:rPr>
              <a:t>Мына жануарларды дұрыс зоналар бойынша орналастыр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564000" y="1413000"/>
            <a:ext cx="2808360" cy="3527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324000" y="1341360"/>
            <a:ext cx="3240000" cy="3600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6804000" y="1700280"/>
            <a:ext cx="162072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7308720" y="5589720"/>
            <a:ext cx="9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ұлан 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236000" y="3357720"/>
            <a:ext cx="9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Дуада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684360" y="472428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755640" y="602136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ақұйрық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105120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3132000" y="623736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Қар барысы  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1"/>
          <a:stretch/>
        </p:blipFill>
        <p:spPr>
          <a:xfrm>
            <a:off x="4356000" y="4941720"/>
            <a:ext cx="2017800" cy="1513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4716360" y="5950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0066"/>
                </a:solidFill>
                <a:latin typeface="Times New Roman"/>
              </a:rPr>
              <a:t>Бірқазан    </a:t>
            </a:r>
            <a:r>
              <a:rPr b="1" lang="kk-KZ" sz="8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1" name="Picture 3" descr="линия"/>
            <p:cNvPicPr/>
            <p:nvPr/>
          </p:nvPicPr>
          <p:blipFill>
            <a:blip r:embed="rId1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3" name="Picture 5" descr="линия"/>
              <p:cNvPicPr/>
              <p:nvPr/>
            </p:nvPicPr>
            <p:blipFill>
              <a:blip r:embed="rId1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6" descr="линия"/>
              <p:cNvPicPr/>
              <p:nvPr/>
            </p:nvPicPr>
            <p:blipFill>
              <a:blip r:embed="rId1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7" descr="линия"/>
              <p:cNvPicPr/>
              <p:nvPr/>
            </p:nvPicPr>
            <p:blipFill>
              <a:blip r:embed="rId1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37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39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39640" y="476280"/>
            <a:ext cx="799308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5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Топырақтар аялдамас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500" spc="-1" strike="noStrike">
                <a:solidFill>
                  <a:srgbClr val="990000"/>
                </a:solidFill>
                <a:latin typeface="Times New Roman"/>
              </a:rPr>
              <a:t>1 топ- орманды дала, 2  топ- дала, 3 топ -шөлейт пен шөл зонасы.Қазақстанның табиғат зоналарын кескін картасына топырақ түрлері мен  қарашірік құрамын тауып дұрыс орналасты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187280" y="2349360"/>
            <a:ext cx="734544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116000" y="404640"/>
            <a:ext cx="6551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4.Қазақстанның табиғат зоналарына сипаттама аялдам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68360" y="1341360"/>
            <a:ext cx="828036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Мына сипаттама бойынша қандай табиғат зона екенін 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1 топқ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Арқаның Бетпақ деген даласы б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 шөл, ойлы- қырлы пан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ол шөлде ел жоқ, күн жоқ өсіп- өн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Жәндіктің киік деген баласы б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етпақта қысы- жазы ел болмайд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Ел- жайлау, өзен яғни кө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Бұтасы қи болады, қара жус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Көгара бетегелі бел болмай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00"/>
                </a:solidFill>
                <a:latin typeface="Times New Roman"/>
              </a:rPr>
              <a:t>С. Сейфуллиннің “ Ақсақ киік” поэмасынан алынған өлең шумағы қандай табиғат зонасы туралы айтылғ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49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1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4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55" name="Picture 3" descr="линия"/>
            <p:cNvPicPr/>
            <p:nvPr/>
          </p:nvPicPr>
          <p:blipFill>
            <a:blip r:embed="rId5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57" name="Picture 5" descr="линия"/>
              <p:cNvPicPr/>
              <p:nvPr/>
            </p:nvPicPr>
            <p:blipFill>
              <a:blip r:embed="rId6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6" descr="линия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7" descr="линия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0" name="Picture 3" descr="I:\Сайга\сайгак\images[16].jpg"/>
          <p:cNvPicPr/>
          <p:nvPr/>
        </p:nvPicPr>
        <p:blipFill>
          <a:blip r:embed="rId9"/>
          <a:stretch/>
        </p:blipFill>
        <p:spPr>
          <a:xfrm>
            <a:off x="6156360" y="2060640"/>
            <a:ext cx="2593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62" name="Picture 3" descr="линия"/>
            <p:cNvPicPr/>
            <p:nvPr/>
          </p:nvPicPr>
          <p:blipFill>
            <a:blip r:embed="rId1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oup 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64" name="Picture 5" descr="линия"/>
              <p:cNvPicPr/>
              <p:nvPr/>
            </p:nvPicPr>
            <p:blipFill>
              <a:blip r:embed="rId2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6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7" descr="линия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296244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2 топқ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95280" y="549360"/>
            <a:ext cx="828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39640" y="907920"/>
            <a:ext cx="799308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Оқжетпес оқшырайып өрлеп кетк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Кеудені керіп өкке сермеп кетк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Қия- құз, жоқпар сарай, бура тастар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Тәртіппен көлді айнала сәндеп шөкк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І.Жансүгіровтың поэмасынан алынған өлеңде қай жер туралы айтылғ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3 топқ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Бұл табиғат зонасы Қазақстан жерінің  27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%</a:t>
            </a:r>
            <a:r>
              <a:rPr b="1" lang="kk-KZ" sz="2000" spc="-1" strike="noStrike">
                <a:solidFill>
                  <a:srgbClr val="990000"/>
                </a:solidFill>
                <a:latin typeface="Times New Roman"/>
              </a:rPr>
              <a:t> алып жатыр. Көп жері жыртылған. Жаздық бидай мен тағы басқа дәнді дақылдар егіледі. Климатты континентті, жауын- шашын 220- 310 ммдейін түседі. Жазы ыстық, қысы суық . Боз , бетеге, атқонақ , еркекшөп өсімдіктері өседі. Бұл қандай зона ?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5940360" y="404640"/>
            <a:ext cx="2737080" cy="190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6084720" y="4724280"/>
            <a:ext cx="2592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kk-KZ" sz="32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MCj03983430000[1]"/>
          <p:cNvPicPr/>
          <p:nvPr/>
        </p:nvPicPr>
        <p:blipFill>
          <a:blip r:embed="rId1"/>
          <a:stretch/>
        </p:blipFill>
        <p:spPr>
          <a:xfrm rot="5400000">
            <a:off x="-3213000" y="2960640"/>
            <a:ext cx="6858000" cy="936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468360" y="290196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-720" y="0"/>
            <a:ext cx="9144720" cy="6858000"/>
            <a:chOff x="-720" y="0"/>
            <a:chExt cx="9144720" cy="6858000"/>
          </a:xfrm>
        </p:grpSpPr>
        <p:pic>
          <p:nvPicPr>
            <p:cNvPr id="176" name="Picture 8" descr="линия"/>
            <p:cNvPicPr/>
            <p:nvPr/>
          </p:nvPicPr>
          <p:blipFill>
            <a:blip r:embed="rId2"/>
            <a:stretch/>
          </p:blipFill>
          <p:spPr>
            <a:xfrm flipH="1" rot="16200000">
              <a:off x="-3043800" y="3303360"/>
              <a:ext cx="6337440" cy="25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78" name="Picture 10" descr="линия"/>
              <p:cNvPicPr/>
              <p:nvPr/>
            </p:nvPicPr>
            <p:blipFill>
              <a:blip r:embed="rId3"/>
              <a:stretch/>
            </p:blipFill>
            <p:spPr>
              <a:xfrm>
                <a:off x="0" y="659772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1" descr="линия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144000" cy="26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2" descr="линия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5848920" y="3303360"/>
                <a:ext cx="6337440" cy="25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81" name=""/>
          <p:cNvGraphicFramePr/>
          <p:nvPr/>
        </p:nvGraphicFramePr>
        <p:xfrm>
          <a:off x="179280" y="2205000"/>
          <a:ext cx="8675640" cy="3549600"/>
        </p:xfrm>
        <a:graphic>
          <a:graphicData uri="http://schemas.openxmlformats.org/drawingml/2006/table">
            <a:tbl>
              <a:tblPr/>
              <a:tblGrid>
                <a:gridCol w="1086120"/>
                <a:gridCol w="793440"/>
                <a:gridCol w="798840"/>
                <a:gridCol w="857160"/>
                <a:gridCol w="857160"/>
                <a:gridCol w="855720"/>
                <a:gridCol w="855720"/>
                <a:gridCol w="857160"/>
                <a:gridCol w="857160"/>
                <a:gridCol w="857160"/>
              </a:tblGrid>
              <a:tr h="12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.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300-35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жауын- шашы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20-31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-16-18 градус қаңтар орт тем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+22+24 градус шілде орташа темп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сұр – қоңы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опыра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Талас, Іле, Қаратал өзендер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180-30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рашірінді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2-3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Қайың- көктер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Орманды дал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Дала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ейт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4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Шөл зон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ІІІ.Ой толғаныс.</a:t>
            </a:r>
            <a:br>
              <a:rPr sz="2800"/>
            </a:br>
            <a:r>
              <a:rPr b="1" lang="kk-KZ" sz="2800" spc="-1" strike="noStrike">
                <a:solidFill>
                  <a:srgbClr val="990000"/>
                </a:solidFill>
                <a:latin typeface="Times New Roman"/>
              </a:rPr>
              <a:t>Семантикалық карта стратегиясы</a:t>
            </a:r>
            <a:r>
              <a:rPr b="1" lang="kk-KZ" sz="36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24000" y="260280"/>
            <a:ext cx="8497800" cy="65977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990000"/>
                </a:solidFill>
                <a:uFillTx/>
                <a:latin typeface="Times New Roman"/>
              </a:rPr>
              <a:t>Бекіту тест сынағ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1. Топырақтың су және жел әрекетінен   бұзылу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мелио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құнарлы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эро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денуд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кепті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2. Топырақтың  құнарлы  қабаты нені деп атай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азды  қабат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ауыспал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арашірікті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ұмды 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құмдауытты қаб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3. Қазақстанның солтүстігінде орналасқан орманды  дала  зонасының   топырағ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 қара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сортаң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 қоңыр-  сұр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сарғылт  топыра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4. Топырақ  деп  ...  айтамы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А) жердің беткі,  жұқа  құнарлы   қабаты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В) батпақ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С)  құм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Д) тыңайтқыш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Е)  шаң – тозаң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pic>
          <p:nvPicPr>
            <p:cNvPr id="185" name="Picture 4" descr="003"/>
            <p:cNvPicPr/>
            <p:nvPr/>
          </p:nvPicPr>
          <p:blipFill>
            <a:blip r:embed="rId1"/>
            <a:stretch/>
          </p:blipFill>
          <p:spPr>
            <a:xfrm>
              <a:off x="6156360" y="0"/>
              <a:ext cx="156204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oup 5"/>
            <p:cNvGrpSpPr/>
            <p:nvPr/>
          </p:nvGrpSpPr>
          <p:grpSpPr>
            <a:xfrm>
              <a:off x="-360" y="0"/>
              <a:ext cx="9144360" cy="6858000"/>
              <a:chOff x="-360" y="0"/>
              <a:chExt cx="9144360" cy="6858000"/>
            </a:xfrm>
          </p:grpSpPr>
          <p:grpSp>
            <p:nvGrpSpPr>
              <p:cNvPr id="187" name="Group 6"/>
              <p:cNvGrpSpPr/>
              <p:nvPr/>
            </p:nvGrpSpPr>
            <p:grpSpPr>
              <a:xfrm>
                <a:off x="0" y="0"/>
                <a:ext cx="9144000" cy="304920"/>
                <a:chOff x="0" y="0"/>
                <a:chExt cx="9144000" cy="304920"/>
              </a:xfrm>
            </p:grpSpPr>
            <p:pic>
              <p:nvPicPr>
                <p:cNvPr id="188" name="Picture 7" descr="003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8" descr="00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547640" y="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9" descr="003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5928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10" descr="003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572000" y="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1" descr="003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15636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2" descr="003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40720" y="0"/>
                  <a:ext cx="140328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4" name="Group 13"/>
              <p:cNvGrpSpPr/>
              <p:nvPr/>
            </p:nvGrpSpPr>
            <p:grpSpPr>
              <a:xfrm>
                <a:off x="0" y="6553080"/>
                <a:ext cx="9144000" cy="304920"/>
                <a:chOff x="0" y="6553080"/>
                <a:chExt cx="9144000" cy="304920"/>
              </a:xfrm>
            </p:grpSpPr>
            <p:pic>
              <p:nvPicPr>
                <p:cNvPr id="195" name="Picture 14" descr="003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5" descr="003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764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6" descr="003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5928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7" descr="003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57200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8" descr="003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084720" y="6553080"/>
                  <a:ext cx="156240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9" descr="003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581960" y="655308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" name="Group 20"/>
              <p:cNvGrpSpPr/>
              <p:nvPr/>
            </p:nvGrpSpPr>
            <p:grpSpPr>
              <a:xfrm>
                <a:off x="-360" y="260280"/>
                <a:ext cx="304920" cy="6408720"/>
                <a:chOff x="-360" y="260280"/>
                <a:chExt cx="304920" cy="6408720"/>
              </a:xfrm>
            </p:grpSpPr>
            <p:pic>
              <p:nvPicPr>
                <p:cNvPr id="202" name="Picture 21" descr="003"/>
                <p:cNvPicPr/>
                <p:nvPr/>
              </p:nvPicPr>
              <p:blipFill>
                <a:blip r:embed="rId14"/>
                <a:stretch/>
              </p:blipFill>
              <p:spPr>
                <a:xfrm rot="5400000">
                  <a:off x="-62892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" name="Picture 22" descr="003"/>
                <p:cNvPicPr/>
                <p:nvPr/>
              </p:nvPicPr>
              <p:blipFill>
                <a:blip r:embed="rId15"/>
                <a:stretch/>
              </p:blipFill>
              <p:spPr>
                <a:xfrm rot="5400000">
                  <a:off x="-62892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4" name="Picture 23" descr="003"/>
                <p:cNvPicPr/>
                <p:nvPr/>
              </p:nvPicPr>
              <p:blipFill>
                <a:blip r:embed="rId16"/>
                <a:stretch/>
              </p:blipFill>
              <p:spPr>
                <a:xfrm rot="5400000">
                  <a:off x="-62892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5" name="Picture 24" descr="003"/>
                <p:cNvPicPr/>
                <p:nvPr/>
              </p:nvPicPr>
              <p:blipFill>
                <a:blip r:embed="rId17"/>
                <a:stretch/>
              </p:blipFill>
              <p:spPr>
                <a:xfrm rot="5400000">
                  <a:off x="-78372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6" name="Group 25"/>
              <p:cNvGrpSpPr/>
              <p:nvPr/>
            </p:nvGrpSpPr>
            <p:grpSpPr>
              <a:xfrm>
                <a:off x="8838720" y="260280"/>
                <a:ext cx="304920" cy="6408720"/>
                <a:chOff x="8838720" y="260280"/>
                <a:chExt cx="304920" cy="6408720"/>
              </a:xfrm>
            </p:grpSpPr>
            <p:pic>
              <p:nvPicPr>
                <p:cNvPr id="207" name="Picture 26" descr="003"/>
                <p:cNvPicPr/>
                <p:nvPr/>
              </p:nvPicPr>
              <p:blipFill>
                <a:blip r:embed="rId18"/>
                <a:stretch/>
              </p:blipFill>
              <p:spPr>
                <a:xfrm rot="5400000">
                  <a:off x="8210160" y="88884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Picture 27" descr="003"/>
                <p:cNvPicPr/>
                <p:nvPr/>
              </p:nvPicPr>
              <p:blipFill>
                <a:blip r:embed="rId19"/>
                <a:stretch/>
              </p:blipFill>
              <p:spPr>
                <a:xfrm rot="5400000">
                  <a:off x="8210160" y="240192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9" name="Picture 28" descr="003"/>
                <p:cNvPicPr/>
                <p:nvPr/>
              </p:nvPicPr>
              <p:blipFill>
                <a:blip r:embed="rId20"/>
                <a:stretch/>
              </p:blipFill>
              <p:spPr>
                <a:xfrm rot="5400000">
                  <a:off x="8210160" y="3913200"/>
                  <a:ext cx="15620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0" name="Picture 29" descr="003"/>
                <p:cNvPicPr/>
                <p:nvPr/>
              </p:nvPicPr>
              <p:blipFill>
                <a:blip r:embed="rId21"/>
                <a:stretch/>
              </p:blipFill>
              <p:spPr>
                <a:xfrm rot="5400000">
                  <a:off x="8055360" y="5580720"/>
                  <a:ext cx="1871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7:30:15Z</dcterms:created>
  <dc:creator>катира</dc:creator>
  <dc:description/>
  <dc:language>en-US</dc:language>
  <cp:lastModifiedBy>009</cp:lastModifiedBy>
  <dcterms:modified xsi:type="dcterms:W3CDTF">2012-09-18T15:42:17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80000000000010250500207f7000400038000</vt:lpwstr>
  </property>
</Properties>
</file>