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0E9-090D-49D5-B04C-796B93D9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C91-3F14-4EEC-8A84-EB424C5B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E20-1C69-4846-9ADE-2C0D8668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432-9D8D-45E0-BC2E-067EDE9A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7B3-CD9A-45E1-ADA3-14E1D46E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319-D97F-41BE-8C5A-2A56E741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6F3-08BE-469C-B12D-44FD310C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909-38F3-4D50-B1BF-CB4C421C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FEF-9F9A-44C3-B8D9-59B2A9BE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228-C3A5-4340-B69A-CF3929B8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991-CAD4-4509-9003-1EF6AEE8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51A-1664-4D2A-B9E4-6E8335B6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F352-9882-473C-B4B3-A64BD6BA2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2602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Жанқожа батыр атындағы №70 орта мекте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344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9999"/>
                </a:solidFill>
                <a:latin typeface="Arial"/>
              </a:rPr>
              <a:t>Ашық саба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0" y="2955960"/>
            <a:ext cx="64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ҚАЙТАЛАУ – ОҚУ АН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29264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0066"/>
                </a:solidFill>
                <a:latin typeface="Arial"/>
              </a:rPr>
              <a:t>Өткізген: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География пәні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мұғалімі Арзақын Қарлығ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69560" y="60213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Әйтеке би кен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2011 жы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692280"/>
            <a:ext cx="748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Ұлы тұлғаны тан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000" y="3083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1. И.Нью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61200" y="422748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2. Ф.Милет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78280" y="5235480"/>
            <a:ext cx="39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3. Э.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0000" y="625644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0000"/>
                </a:solidFill>
                <a:latin typeface="Arial"/>
              </a:rPr>
              <a:t>Дыбыстық құбылысқа мысал келті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170028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162320"/>
            <a:ext cx="74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1700280"/>
            <a:ext cx="746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6232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65280" y="609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 (зырылдауы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ашқа қаламды үйкеле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8000" y="333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ім тапқыр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920" y="2008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1. Бар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7440" y="28465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2. Терм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8520" y="37368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3. Дециб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" y="45752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4. Тар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5360" y="5294160"/>
            <a:ext cx="105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5. Н</a:t>
            </a:r>
            <a:r>
              <a:rPr b="1" lang="kk-K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57992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6. Күш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6560" y="6381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620640"/>
          <a:ext cx="7272360" cy="5008680"/>
        </p:xfrm>
        <a:graphic>
          <a:graphicData uri="http://schemas.openxmlformats.org/drawingml/2006/table">
            <a:tbl>
              <a:tblPr/>
              <a:tblGrid>
                <a:gridCol w="1058760"/>
                <a:gridCol w="1605240"/>
                <a:gridCol w="460836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спас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ү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ұн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Әті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273840" y="618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2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32000" y="115920"/>
            <a:ext cx="66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Қорытынды 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360" y="907920"/>
            <a:ext cx="30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Судың неше күйі б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4560" y="907920"/>
            <a:ext cx="482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2. Қалыпты атмосфералық қыс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5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8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1920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3. Денедегі электр өрісінің айналымға түс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зға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 то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л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192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4. Қашар, Лисаков, Соколов – Сарыбай қандай кен орынд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емі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л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35276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Бүкіләлемдік тартылыс заңын ашқан ға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Ф.Мил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Г.В.Рих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6021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ағала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74680"/>
            <a:ext cx="851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ақырыб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 - оқу ан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Сабақтың мақса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Білімді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“Дене және табиғаттағы заттар” тарауын қайталау, жина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Дамытушылық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ң есте сақтау қабілетін арттыру, ой-өрісін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амы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Тәрбие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 ұқыптылыққа, тазалыққа, адамгершілікк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ұлулыққа тәрби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ип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Жинақтау пысы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әдіс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мен жұмыс, тәжірибе жас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көрнекіліг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, тәжірибе жасауға қажетті заттар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ук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барыс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Ұйымдастыру кезең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Оқушыларды түгелдеп сабақты бас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91" t="7442" r="7859" b="0"/>
          <a:stretch/>
        </p:blipFill>
        <p:spPr>
          <a:xfrm>
            <a:off x="3276720" y="189000"/>
            <a:ext cx="5688000" cy="44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39640"/>
            <a:ext cx="3095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изикалық дененің құрамдас бөліктер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Алау, шам, электр лампасын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ұлдыз, күн, кейбір жануарлард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 дене 2-шң денеге әсер еткенде пайда болатын қалыпты күштің қарқындылығын сипаттайтын физикалық ш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биғатта болатын барлық проце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ысымды өлшейтін құ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опырақтың құнарлылығын арттыратын з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азақстандағы қ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ылуды тез өткізетіндерге нелер жата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лектрлену құбылысын зерттеген ғал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ерді, күнді планеталарды өз орбитасында ұстап тұрған кү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нергияның белгілі бір піші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7640" y="2349360"/>
            <a:ext cx="2664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Табиғ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құбылыс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908000" y="191628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184428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23640" y="3789360"/>
            <a:ext cx="129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378936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720" y="119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3492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3141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987640" y="549360"/>
            <a:ext cx="28954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әйкесін та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440" y="1071720"/>
            <a:ext cx="259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Хим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0920" y="1052640"/>
            <a:ext cx="3751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Найзағай, күннің күркіреуі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9717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Электромагниттік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195264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Жауын-шашынның түсуі, желдің соғуы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248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Дыбыс шығару құбыл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6040" y="2903400"/>
            <a:ext cx="37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Сүттің іруі, өсімдік пен жануарлар қалдықтарының шір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08780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етеоролог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6040" y="406872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ашина, үй, жиһаз, ойыншықтар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93884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Физикалық д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6040" y="491976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Құстардың сайрауы, желдің гуілі, сағаттың соғуы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9800" y="6021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82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29600" y="1557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9800" y="422100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Құй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600" y="155736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үннің күркі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9800" y="422100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емпірқо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92160" y="11253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120" y="9874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160" y="364500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66760" y="400536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92160" y="112536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Ш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120" y="98748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Үйге кірген су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8160" y="3645000"/>
            <a:ext cx="27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Жаңб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6760" y="4005360"/>
            <a:ext cx="29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А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2720" y="6237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83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0:45Z</dcterms:created>
  <dc:creator>Ruslan_KADIROV</dc:creator>
  <dc:description/>
  <dc:language>en-US</dc:language>
  <cp:lastModifiedBy>USER</cp:lastModifiedBy>
  <dcterms:modified xsi:type="dcterms:W3CDTF">2011-11-20T11:04:17Z</dcterms:modified>
  <cp:revision>9</cp:revision>
  <dc:subject/>
  <dc:title>Слайд 1</dc:title>
</cp:coreProperties>
</file>