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3BE6-388E-45C0-A398-7DC1A524C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6F04-1C7B-445C-A9FA-F2072AB9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20FB-4322-4E5A-8C27-EE54F51F7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4A6E-92B5-4355-A0DC-C3D9BA35D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51FB-302F-495E-94B5-1E00BF0F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B5C2-A708-43BC-B5DE-569EABFA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2F52-6480-437B-9D7F-C6BB721F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C32A-103C-421C-A440-225C123C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88C7-2692-4BF5-B541-6405B5A9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092F-8C97-4C2C-8533-1F574A94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E432-DB71-4671-BF2B-FF695A3C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0AEE-8EBA-4F3D-B0DF-5373AED5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59FC-AE29-4C12-8E9E-CC24B3A01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000" y="115920"/>
            <a:ext cx="8856720" cy="6553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0280" y="260280"/>
            <a:ext cx="460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333399"/>
                </a:solidFill>
                <a:latin typeface="Arial"/>
              </a:rPr>
              <a:t>Жанқожа батыр атындағы №70 орта мекте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3440" y="234936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9999"/>
                </a:solidFill>
                <a:latin typeface="Arial"/>
              </a:rPr>
              <a:t>Ашық саба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4000" y="2955960"/>
            <a:ext cx="644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kk-KZ" sz="3600" spc="-1" strike="noStrike">
                <a:solidFill>
                  <a:srgbClr val="ff0000"/>
                </a:solidFill>
                <a:latin typeface="Arial"/>
              </a:rPr>
              <a:t>ҚАЙТАЛАУ – ОҚУ АНАСЫ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4292640"/>
            <a:ext cx="489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660066"/>
                </a:solidFill>
                <a:latin typeface="Arial"/>
              </a:rPr>
              <a:t>Өткізген:</a:t>
            </a:r>
            <a:r>
              <a:rPr b="1" lang="kk-KZ" sz="1600" spc="-1" strike="noStrike">
                <a:solidFill>
                  <a:srgbClr val="333399"/>
                </a:solidFill>
                <a:latin typeface="Arial"/>
              </a:rPr>
              <a:t>  География пәні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333399"/>
                </a:solidFill>
                <a:latin typeface="Arial"/>
              </a:rPr>
              <a:t>                  </a:t>
            </a:r>
            <a:r>
              <a:rPr b="1" lang="kk-KZ" sz="1600" spc="-1" strike="noStrike">
                <a:solidFill>
                  <a:srgbClr val="333399"/>
                </a:solidFill>
                <a:latin typeface="Arial"/>
              </a:rPr>
              <a:t>мұғалімі Арзақын Қарлығ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69560" y="6021360"/>
            <a:ext cx="173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333399"/>
                </a:solidFill>
                <a:latin typeface="Arial"/>
              </a:rPr>
              <a:t>Әйтеке би кен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333399"/>
                </a:solidFill>
                <a:latin typeface="Arial"/>
              </a:rPr>
              <a:t>2011 жы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755640" y="692280"/>
            <a:ext cx="7488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Ұлы тұлғаны тан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82000" y="3083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9999"/>
                </a:solidFill>
                <a:latin typeface="Arial"/>
              </a:rPr>
              <a:t>1. И.Ньют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61200" y="4227480"/>
            <a:ext cx="367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9999"/>
                </a:solidFill>
                <a:latin typeface="Arial"/>
              </a:rPr>
              <a:t>2. Ф.Милет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78280" y="5235480"/>
            <a:ext cx="391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9999"/>
                </a:solidFill>
                <a:latin typeface="Arial"/>
              </a:rPr>
              <a:t>3. Э.Торричел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50000" y="6256440"/>
            <a:ext cx="42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0000"/>
                </a:solidFill>
                <a:latin typeface="Arial"/>
              </a:rPr>
              <a:t>Дыбыстық құбылысқа мысал келті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116000" y="476280"/>
            <a:ext cx="691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АСЫРЫН СӨЗДЕР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8720" y="1700280"/>
            <a:ext cx="746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00"/>
                </a:solidFill>
                <a:latin typeface="Arial"/>
              </a:rPr>
              <a:t>1. Латын тілінен аударғанда “Таралу, ыдырау, жайылу” деген мағынаны білдіред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4162320"/>
            <a:ext cx="746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00"/>
                </a:solidFill>
                <a:latin typeface="Arial"/>
              </a:rPr>
              <a:t>2. Дененің жылдамдығын бір қалыпты тоқтаусыз сақтау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116000" y="476280"/>
            <a:ext cx="691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АСЫРЫН СӨЗДЕР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8720" y="1700280"/>
            <a:ext cx="7469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00"/>
                </a:solidFill>
                <a:latin typeface="Arial"/>
              </a:rPr>
              <a:t>1. Латын тілінен аударғанда “Таралу, ыдырау, жайылу” деген мағынаны білдіред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00"/>
                </a:solidFill>
                <a:latin typeface="Arial"/>
              </a:rPr>
              <a:t>                         </a:t>
            </a:r>
            <a:r>
              <a:rPr b="0" i="1" lang="kk-KZ" sz="3200" spc="-1" strike="noStrike" u="sng">
                <a:solidFill>
                  <a:srgbClr val="333399"/>
                </a:solidFill>
                <a:uFillTx/>
                <a:latin typeface="Arial"/>
              </a:rPr>
              <a:t>Диффу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4162320"/>
            <a:ext cx="746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00"/>
                </a:solidFill>
                <a:latin typeface="Arial"/>
              </a:rPr>
              <a:t>2. Дененің жылдамдығын бір қалыпты тоқтаусыз сақтау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00"/>
                </a:solidFill>
                <a:latin typeface="Arial"/>
              </a:rPr>
              <a:t>                     </a:t>
            </a:r>
            <a:r>
              <a:rPr b="0" i="1" lang="kk-KZ" sz="3200" spc="-1" strike="noStrike" u="sng">
                <a:solidFill>
                  <a:srgbClr val="333399"/>
                </a:solidFill>
                <a:uFillTx/>
                <a:latin typeface="Arial"/>
              </a:rPr>
              <a:t>Инер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65280" y="6093000"/>
            <a:ext cx="39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101-беттегі тәжірибе (зырылдауық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шашқа қаламды үйкеле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908000" y="333360"/>
            <a:ext cx="5616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Кім тапқыр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6920" y="2008080"/>
            <a:ext cx="175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1. Барометр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7440" y="2846520"/>
            <a:ext cx="190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2. Термометр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8520" y="373680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3. Дециб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77240" y="4575240"/>
            <a:ext cx="13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4. Тараз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5360" y="5294160"/>
            <a:ext cx="1055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5. Н</a:t>
            </a:r>
            <a:r>
              <a:rPr b="1" lang="kk-KZ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О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7520" y="5799240"/>
            <a:ext cx="11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6. Күш -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86560" y="638172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101-беттегі тәжіри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042920" y="620640"/>
          <a:ext cx="7272360" cy="5008680"/>
        </p:xfrm>
        <a:graphic>
          <a:graphicData uri="http://schemas.openxmlformats.org/drawingml/2006/table">
            <a:tbl>
              <a:tblPr/>
              <a:tblGrid>
                <a:gridCol w="1058760"/>
                <a:gridCol w="1605240"/>
                <a:gridCol w="4608360"/>
              </a:tblGrid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оспас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ү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у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н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ұна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йонез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Әті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3273840" y="618480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102-беттегі тәжіри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332000" y="115920"/>
            <a:ext cx="6624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Қорытынды тес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6360" y="907920"/>
            <a:ext cx="306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9999"/>
                </a:solidFill>
                <a:latin typeface="Arial"/>
              </a:rPr>
              <a:t>Судың неше күйі бар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64560" y="907920"/>
            <a:ext cx="4821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9999"/>
                </a:solidFill>
                <a:latin typeface="Arial"/>
              </a:rPr>
              <a:t>2. Қалыпты атмосфералық қыс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76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75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77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78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2419200"/>
            <a:ext cx="316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9999"/>
                </a:solidFill>
                <a:latin typeface="Arial"/>
              </a:rPr>
              <a:t>3. Денедегі электр өрісінің айналымға түсу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озғалы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ұбылы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Электр тог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Электрле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11640" y="2419200"/>
            <a:ext cx="46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9999"/>
                </a:solidFill>
                <a:latin typeface="Arial"/>
              </a:rPr>
              <a:t>4. Қашар, Лисаков, Соколов – Сарыбай қандай кен орындар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темі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көмі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лт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мы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79640" y="4352760"/>
            <a:ext cx="46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9999"/>
                </a:solidFill>
                <a:latin typeface="Arial"/>
              </a:rPr>
              <a:t>Бүкіләлемдік тартылыс заңын ашқан ғал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Ф.Милет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Г.В.Рихм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М.В.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И.Ньют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6021360"/>
            <a:ext cx="1857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Бағалау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0920" y="274680"/>
            <a:ext cx="85168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абақтың тақырыбы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Қайталау - оқу ана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 u="sng">
                <a:solidFill>
                  <a:srgbClr val="000000"/>
                </a:solidFill>
                <a:uFillTx/>
                <a:latin typeface="Arial"/>
              </a:rPr>
              <a:t>Сабақтың мақсаты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kk-KZ" sz="1800" spc="-1" strike="noStrike">
                <a:solidFill>
                  <a:srgbClr val="000000"/>
                </a:solidFill>
                <a:latin typeface="Arial"/>
              </a:rPr>
              <a:t>Білімділік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“Дене және табиғаттағы заттар” тарауын қайталау, жинақта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kk-KZ" sz="1800" spc="-1" strike="noStrike">
                <a:solidFill>
                  <a:srgbClr val="000000"/>
                </a:solidFill>
                <a:latin typeface="Arial"/>
              </a:rPr>
              <a:t>Дамытушылық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Оқушылардың есте сақтау қабілетін арттыру, ой-өрісін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дамы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i="1" lang="kk-KZ" sz="1800" spc="-1" strike="noStrike">
                <a:solidFill>
                  <a:srgbClr val="000000"/>
                </a:solidFill>
                <a:latin typeface="Arial"/>
              </a:rPr>
              <a:t>Тәрбиелік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Оқушыларды ұқыптылыққа, тазалыққа, адамгершілікке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сұлулыққа тәрбиеле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абақтың түрі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Қайтала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абақтың типі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Жинақтау пысықта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абақтың әдісі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Интерактивті тақтамен жұмыс, тәжірибе жаса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абақтың көрнекілігі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Интерактивті тақта, тәжірибе жасауға қажетті заттар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бук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абақтың барысы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1.Ұйымдастыру кезең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2. Оқушыларды түгелдеп сабақты баста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2791" t="7442" r="7859" b="0"/>
          <a:stretch/>
        </p:blipFill>
        <p:spPr>
          <a:xfrm>
            <a:off x="3276720" y="189000"/>
            <a:ext cx="5688000" cy="44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4000" y="539640"/>
            <a:ext cx="309564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Физикалық дененің құрамдас бөліктер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Алау, шам, электр лампасының жарығ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Жұлдыз, күн, кейбір жануарлардың жарығ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1 дене 2-шң денеге әсер еткенде пайда болатын қалыпты күштің қарқындылығын сипаттайтын физикалық ша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Табиғатта болатын барлық процесте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Қысымды өлшейтін құра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Топырақтың құнарлылығын арттыратын за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Қазақстандағы қа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Жылуды тез өткізетіндерге нелер жата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Электрлену құбылысын зерттеген ғал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Жерді, күнді планеталарды өз орбитасында ұстап тұрған күш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Энергияның белгілі бір пішін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987640" y="2349360"/>
            <a:ext cx="2664000" cy="158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Табиғ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құбылыста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1908000" y="1916280"/>
            <a:ext cx="1224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435640" y="184428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123640" y="3789360"/>
            <a:ext cx="129708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48360" y="3789360"/>
            <a:ext cx="1655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4720" y="39337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284720" y="119664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834920" y="3141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1640" y="314172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987640" y="549360"/>
            <a:ext cx="2895480" cy="533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әйкесін тап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3440" y="1071720"/>
            <a:ext cx="2599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Химиялық құбылы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40920" y="1052640"/>
            <a:ext cx="3751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Найзағай, күннің күркіреуі т.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971720"/>
            <a:ext cx="2590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2. Электромагниттік құбылы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56040" y="1952640"/>
            <a:ext cx="3748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2. Жауын-шашынның түсуі, желдің соғуы т.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2922480"/>
            <a:ext cx="25909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3. Дыбыс шығару құбылы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56040" y="2903400"/>
            <a:ext cx="37483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3. Сүттің іруі, өсімдік пен жануарлар қалдықтарының шіру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4087800"/>
            <a:ext cx="2590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4. Метеорологиялық құбылы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56040" y="4068720"/>
            <a:ext cx="3748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4. Машина, үй, жиһаз, ойыншықтар т.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4938840"/>
            <a:ext cx="2590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5. Физикалық де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6040" y="4919760"/>
            <a:ext cx="3748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5. Құстардың сайрауы, желдің гуілі, сағаттың соғуы т.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29800" y="6021360"/>
            <a:ext cx="25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82-ші беттегі тәжіри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66000" y="1301760"/>
            <a:ext cx="2620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шуланып бұрт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шушаң ақым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уызы көпіріп құтыр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Кез келгенді ұшыр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29600" y="1557360"/>
            <a:ext cx="199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Әуеден күбі тү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Күбінің түбі тү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29800" y="4221000"/>
            <a:ext cx="29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Көк жүзінде көп жол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ойды екен оны кім бояп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66000" y="1301760"/>
            <a:ext cx="2620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шуланып бұрт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шушаң ақым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уызы көпіріп құтыр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Кез келгенді ұшыр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009999"/>
                </a:solidFill>
                <a:uFillTx/>
                <a:latin typeface="Arial"/>
              </a:rPr>
              <a:t>Құй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29600" y="1557360"/>
            <a:ext cx="199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Әуеден күбі тү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Күбінің түбі тү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009999"/>
                </a:solidFill>
                <a:uFillTx/>
                <a:latin typeface="Arial"/>
              </a:rPr>
              <a:t>Күннің күркіре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29800" y="4221000"/>
            <a:ext cx="295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Көк жүзінде көп жол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ойды екен оны кім бояп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009999"/>
                </a:solidFill>
                <a:uFillTx/>
                <a:latin typeface="Arial"/>
              </a:rPr>
              <a:t>Кемпірқос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92160" y="1125360"/>
            <a:ext cx="300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Мөлдір моншақ өзі жұмс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8120" y="987480"/>
            <a:ext cx="227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аһарын тіге келе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Төріңе шыға өле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8160" y="3645000"/>
            <a:ext cx="27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Түбі тесік шелект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су тамшылап тұрғанд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Басталып еді ол епп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қтарылды түк қалм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66760" y="4005360"/>
            <a:ext cx="297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ағазсыз-ақ, қаламсыз-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Сурет салар адамға ұқс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92160" y="1125360"/>
            <a:ext cx="300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Мөлдір моншақ өзі жұмс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009999"/>
                </a:solidFill>
                <a:uFillTx/>
                <a:latin typeface="Arial"/>
              </a:rPr>
              <a:t>Шы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8120" y="987480"/>
            <a:ext cx="227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аһарын тіге келе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Төріңе шыға өле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009999"/>
                </a:solidFill>
                <a:uFillTx/>
                <a:latin typeface="Arial"/>
              </a:rPr>
              <a:t>Үйге кірген суы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8160" y="3645000"/>
            <a:ext cx="2728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Түбі тесік шелект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су тамшылап тұрғанд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Басталып еді ол епп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қтарылды түк қалм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009999"/>
                </a:solidFill>
                <a:uFillTx/>
                <a:latin typeface="Arial"/>
              </a:rPr>
              <a:t>Жаңбы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66760" y="4005360"/>
            <a:ext cx="297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ағазсыз-ақ, қаламсыз-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Сурет салар адамға ұқс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009999"/>
                </a:solidFill>
                <a:uFillTx/>
                <a:latin typeface="Arial"/>
              </a:rPr>
              <a:t>Ая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2720" y="6237360"/>
            <a:ext cx="25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83-ші беттегі тәжіри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06:50:45Z</dcterms:created>
  <dc:creator>Ruslan_KADIROV</dc:creator>
  <dc:description/>
  <dc:language>en-US</dc:language>
  <cp:lastModifiedBy>USER</cp:lastModifiedBy>
  <dcterms:modified xsi:type="dcterms:W3CDTF">2011-11-20T11:04:17Z</dcterms:modified>
  <cp:revision>9</cp:revision>
  <dc:subject/>
  <dc:title>Слайд 1</dc:title>
</cp:coreProperties>
</file>