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6712-71EA-4C01-A31B-225B63EE4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858A-B516-440E-8540-D898D299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0B16-00C3-4A50-A6A9-612C805E1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90A5D-E12C-4B57-960F-1709BBE36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D50A-B6D0-4178-94FB-E41624927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C038-35D7-4332-9154-9EA0E3CD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B193-6F46-498B-9834-89FCEE74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C930-6922-41B1-8D12-FABF4ABE0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25AB-B415-4BE7-BFE5-B31A34E42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6EDC-8A8E-4413-B8F1-CA36604B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30D6-E4F7-40CC-A1C7-E6D89D8E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F932-28C4-4AD0-B997-A5671FC3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AD4E-07D2-41C7-A991-D923E3BA2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00" y="115920"/>
            <a:ext cx="8856720" cy="655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0280" y="260280"/>
            <a:ext cx="460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Жанқожа батыр атындағы №70 орта мекте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3440" y="2349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9999"/>
                </a:solidFill>
                <a:latin typeface="Arial"/>
              </a:rPr>
              <a:t>Ашық саба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64000" y="2955960"/>
            <a:ext cx="644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kk-KZ" sz="3600" spc="-1" strike="noStrike">
                <a:solidFill>
                  <a:srgbClr val="ff0000"/>
                </a:solidFill>
                <a:latin typeface="Arial"/>
              </a:rPr>
              <a:t>ҚАЙТАЛАУ – ОҚУ АН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51280" y="4292640"/>
            <a:ext cx="489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660066"/>
                </a:solidFill>
                <a:latin typeface="Arial"/>
              </a:rPr>
              <a:t>Өткізген: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География пәні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мұғалімі Арзақын Қарлығ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69560" y="60213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Әйтеке би кен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600" spc="-1" strike="noStrike">
                <a:solidFill>
                  <a:srgbClr val="333399"/>
                </a:solidFill>
                <a:latin typeface="Arial"/>
              </a:rPr>
              <a:t>2011 жы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692280"/>
            <a:ext cx="748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Ұлы тұлғаны тан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82000" y="3083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1. И.Ньюто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61200" y="4227480"/>
            <a:ext cx="367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2. Ф.Милетск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778280" y="5235480"/>
            <a:ext cx="391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9999"/>
                </a:solidFill>
                <a:latin typeface="Arial"/>
              </a:rPr>
              <a:t>3. Э.Торричелл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0000" y="6256440"/>
            <a:ext cx="42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>
                <a:solidFill>
                  <a:srgbClr val="ff0000"/>
                </a:solidFill>
                <a:latin typeface="Arial"/>
              </a:rPr>
              <a:t>Дыбыстық құбылысқа мысал келті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58720" y="170028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9640" y="4162320"/>
            <a:ext cx="746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1116000" y="476280"/>
            <a:ext cx="6912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ЖАСЫРЫН СӨЗДЕР</a:t>
            </a:r>
            <a:endParaRPr b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8720" y="1700280"/>
            <a:ext cx="7469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1. Латын тілінен аударғанда “Таралу, ыдырау, жайылу” деген мағынаны білдіреді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Диффуз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162320"/>
            <a:ext cx="7469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2. Дененің жылдамдығын бір қалыпты тоқтаусыз сақтау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0000"/>
                </a:solidFill>
                <a:latin typeface="Arial"/>
              </a:rPr>
              <a:t>                     </a:t>
            </a:r>
            <a:r>
              <a:rPr b="0" i="1" lang="kk-KZ" sz="3200" spc="-1" strike="noStrike" u="sng">
                <a:solidFill>
                  <a:srgbClr val="333399"/>
                </a:solidFill>
                <a:uFillTx/>
                <a:latin typeface="Arial"/>
              </a:rPr>
              <a:t>Инер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65280" y="6093000"/>
            <a:ext cx="39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 (зырылдауық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шашқа қаламды үйкеле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1908000" y="333360"/>
            <a:ext cx="561672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Кім тапқыр?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6920" y="2008080"/>
            <a:ext cx="175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1. Бар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7440" y="2846520"/>
            <a:ext cx="190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2. Термометр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58520" y="3736800"/>
            <a:ext cx="141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3. Дециб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77240" y="457524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4. Тараз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65360" y="5294160"/>
            <a:ext cx="1055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5. Н</a:t>
            </a:r>
            <a:r>
              <a:rPr b="1" lang="kk-KZ" sz="1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О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7520" y="579924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ff0000"/>
                </a:solidFill>
                <a:latin typeface="Arial"/>
              </a:rPr>
              <a:t>6. Күш -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6560" y="638172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1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1042920" y="620640"/>
          <a:ext cx="7272360" cy="5008680"/>
        </p:xfrm>
        <a:graphic>
          <a:graphicData uri="http://schemas.openxmlformats.org/drawingml/2006/table">
            <a:tbl>
              <a:tblPr/>
              <a:tblGrid>
                <a:gridCol w="1058760"/>
                <a:gridCol w="1605240"/>
                <a:gridCol w="4608360"/>
              </a:tblGrid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№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а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Қоспасы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үт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у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н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ұна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айонез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Әті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3273840" y="618480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02-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332000" y="115920"/>
            <a:ext cx="662472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Қорытынды тест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6360" y="907920"/>
            <a:ext cx="30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0099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Судың неше күйі бар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264560" y="907920"/>
            <a:ext cx="482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2. Қалыпты атмосфералық қыс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6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5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7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780 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2419200"/>
            <a:ext cx="3168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3. Денедегі электр өрісінің айналымға түс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зға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 тог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Электрл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211640" y="241920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4. Қашар, Лисаков, Соколов – Сарыбай қандай кен орындар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емі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мі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лт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979640" y="4352760"/>
            <a:ext cx="460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9999"/>
                </a:solidFill>
                <a:latin typeface="Arial"/>
              </a:rPr>
              <a:t>Бүкіләлемдік тартылыс заңын ашқан ғалы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Ф.Милет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Г.В.Рихм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в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.В.Ломон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г)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И.Ньют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6021360"/>
            <a:ext cx="1857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ағалау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50920" y="274680"/>
            <a:ext cx="85168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ақырыб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 - оқу ана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 u="sng">
                <a:solidFill>
                  <a:srgbClr val="000000"/>
                </a:solidFill>
                <a:uFillTx/>
                <a:latin typeface="Arial"/>
              </a:rPr>
              <a:t>Сабақтың мақсаты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Білімді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“Дене және табиғаттағы заттар” тарауын қайталау, жина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Дамытушылық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ң есте сақтау қабілетін арттыру, ой-өрісін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дамы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i="1" lang="kk-KZ" sz="1800" spc="-1" strike="noStrike">
                <a:solidFill>
                  <a:srgbClr val="000000"/>
                </a:solidFill>
                <a:latin typeface="Arial"/>
              </a:rPr>
              <a:t>Тәрбиелік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Оқушыларды ұқыптылыққа, тазалыққа, адамгершілікке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сұлулыққа тәрбиеле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үр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Қайтал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тип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Жинақтау пысық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әдіс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мен жұмыс, тәжірибе жас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көрнекілігі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Интерактивті тақта, тәжірибе жасауға қажетті заттар,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бук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00"/>
                </a:solidFill>
                <a:latin typeface="Arial"/>
              </a:rPr>
              <a:t>Сабақтың барысы: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1.Ұйымдастыру кезең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2. Оқушыларды түгелдеп сабақты баста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791" t="7442" r="7859" b="0"/>
          <a:stretch/>
        </p:blipFill>
        <p:spPr>
          <a:xfrm>
            <a:off x="3276720" y="189000"/>
            <a:ext cx="5688000" cy="44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324000" y="539640"/>
            <a:ext cx="30956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Физикалық дененің құрамдас бөліктері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Алау, шам, электр лампасын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ұлдыз, күн, кейбір жануарлардың жарығ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1 дене 2-шң денеге әсер еткенде пайда болатын қалыпты күштің қарқындылығын сипаттайтын физикалық ша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абиғатта болатын барлық процесте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ысымды өлшейтін құра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Топырақтың құнарлылығын арттыратын за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Қазақстандағы қал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ылуды тез өткізетіндерге нелер жатад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лектрлену құбылысын зерттеген ғал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Жерді, күнді планеталарды өз орбитасында ұстап тұрған күш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Arial"/>
              </a:rPr>
              <a:t>Энергияның белгілі бір пішін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987640" y="2349360"/>
            <a:ext cx="2664000" cy="158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Табиғ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құбылыста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908000" y="191628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5435640" y="1844280"/>
            <a:ext cx="12970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2123640" y="3789360"/>
            <a:ext cx="129708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148360" y="3789360"/>
            <a:ext cx="1655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4720" y="39337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284720" y="1196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834920" y="314172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1640" y="314172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2987640" y="549360"/>
            <a:ext cx="2895480" cy="5331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әйкесін тап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23440" y="1071720"/>
            <a:ext cx="2599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Хим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40920" y="1052640"/>
            <a:ext cx="3751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Найзағай, күннің күркіреуі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197172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Электромагниттік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6040" y="195264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2. Жауын-шашынның түсуі, желдің соғуы т.б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39640" y="2922480"/>
            <a:ext cx="25909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Дыбыс шығару құбылы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6040" y="2903400"/>
            <a:ext cx="37483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3. Сүттің іруі, өсімдік пен жануарлар қалдықтарының шіру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408780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етеорологиялық құбылы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856040" y="406872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4. Машина, үй, жиһаз, ойыншықтар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4938840"/>
            <a:ext cx="25909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Физикалық де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56040" y="4919760"/>
            <a:ext cx="374832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5. Құстардың сайрауы, желдің гуілі, сағаттың соғуы т.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29800" y="6021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Arial"/>
              </a:rPr>
              <a:t>82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529600" y="1557360"/>
            <a:ext cx="199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9800" y="4221000"/>
            <a:ext cx="29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666000" y="1301760"/>
            <a:ext cx="2620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ланып бұрти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шушаң ақым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уызы көпіріп құт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ез келгенді ұшыр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Құйы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529600" y="1557360"/>
            <a:ext cx="199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Әуеден к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үбінің түбі тү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үннің күркір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9800" y="4221000"/>
            <a:ext cx="295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Көк жүзінде көп жол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ойды екен оны кім бояп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Кемпірқо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4592160" y="1125360"/>
            <a:ext cx="300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08120" y="987480"/>
            <a:ext cx="22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8160" y="3645000"/>
            <a:ext cx="27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66760" y="4005360"/>
            <a:ext cx="297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92160" y="1125360"/>
            <a:ext cx="300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Мөлдір моншақ өзі жұмс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Ш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08120" y="987480"/>
            <a:ext cx="227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һарын тіге ке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өріңе шыға өле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Үйге кірген суы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8160" y="3645000"/>
            <a:ext cx="27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Түбі тесік шелекте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 тамшылап тұрғанд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Басталып еді ол епп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Ақтарылды түк қалма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Жаңбы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766760" y="4005360"/>
            <a:ext cx="297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Қағазсыз-ақ, қаламсыз-а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0000"/>
                </a:solidFill>
                <a:latin typeface="Arial"/>
              </a:rPr>
              <a:t>Сурет салар адамға ұқса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009999"/>
                </a:solidFill>
                <a:uFillTx/>
                <a:latin typeface="Arial"/>
              </a:rPr>
              <a:t>Ая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2720" y="6237360"/>
            <a:ext cx="254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333399"/>
                </a:solidFill>
                <a:latin typeface="Arial"/>
              </a:rPr>
              <a:t>83-ші беттегі тәжіриб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06:50:45Z</dcterms:created>
  <dc:creator>Ruslan_KADIROV</dc:creator>
  <dc:description/>
  <dc:language>en-US</dc:language>
  <cp:lastModifiedBy>USER</cp:lastModifiedBy>
  <dcterms:modified xsi:type="dcterms:W3CDTF">2011-11-20T11:04:17Z</dcterms:modified>
  <cp:revision>9</cp:revision>
  <dc:subject/>
  <dc:title>Слайд 1</dc:title>
</cp:coreProperties>
</file>