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C4E0-F6A3-4131-8EA6-D2934C525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A2F2-82DD-4B5C-A146-E46992A3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BBD9-D2E7-418C-B65F-A89E90240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9F3D-C036-4BE0-9663-13CEE589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861F-9394-4675-A75E-3FA1A181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254C-D9BE-48AE-BAEE-BBC43836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0DB0-1013-42C0-B183-0C1F7A59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48F9-AD10-45E0-840A-7F0B64FE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D2E9-FE0B-444A-8E20-A00ED09B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9292-C36B-4D30-B8BB-E982AC4E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F403-B0F4-43FC-99ED-29DC378D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B0F7-B0EB-4BD7-8A85-8DA93F0D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4754-8F24-4E32-A199-B7CF3452F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115920"/>
            <a:ext cx="8856720" cy="6553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0280" y="260280"/>
            <a:ext cx="460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Жанқожа батыр атындағы №70 орта мекте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3440" y="23493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9999"/>
                </a:solidFill>
                <a:latin typeface="Arial"/>
              </a:rPr>
              <a:t>Ашық саба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4000" y="2955960"/>
            <a:ext cx="644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kk-KZ" sz="3600" spc="-1" strike="noStrike">
                <a:solidFill>
                  <a:srgbClr val="ff0000"/>
                </a:solidFill>
                <a:latin typeface="Arial"/>
              </a:rPr>
              <a:t>ҚАЙТАЛАУ – ОҚУ АНАСЫ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4292640"/>
            <a:ext cx="489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660066"/>
                </a:solidFill>
                <a:latin typeface="Arial"/>
              </a:rPr>
              <a:t>Өткізген:</a:t>
            </a: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  География пәні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мұғалімі Арзақын Қарлығ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69560" y="6021360"/>
            <a:ext cx="173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Әйтеке би кен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2011 жы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755640" y="692280"/>
            <a:ext cx="7488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Ұлы тұлғаны тан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82000" y="3083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9999"/>
                </a:solidFill>
                <a:latin typeface="Arial"/>
              </a:rPr>
              <a:t>1. И.Ньют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61200" y="4227480"/>
            <a:ext cx="367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9999"/>
                </a:solidFill>
                <a:latin typeface="Arial"/>
              </a:rPr>
              <a:t>2. Ф.Милет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78280" y="5235480"/>
            <a:ext cx="391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9999"/>
                </a:solidFill>
                <a:latin typeface="Arial"/>
              </a:rPr>
              <a:t>3. Э.Торричел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50000" y="6256440"/>
            <a:ext cx="42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0000"/>
                </a:solidFill>
                <a:latin typeface="Arial"/>
              </a:rPr>
              <a:t>Дыбыстық құбылысқа мысал келті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116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АСЫРЫН СӨЗДЕР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8720" y="1700280"/>
            <a:ext cx="746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1. Латын тілінен аударғанда “Таралу, ыдырау, жайылу” деген мағынаны білдіре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4162320"/>
            <a:ext cx="746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2. Дененің жылдамдығын бір қалыпты тоқтаусыз сақтау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116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АСЫРЫН СӨЗДЕР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8720" y="1700280"/>
            <a:ext cx="7469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1. Латын тілінен аударғанда “Таралу, ыдырау, жайылу” деген мағынаны білдіре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r>
              <a:rPr b="0" i="1" lang="kk-KZ" sz="3200" spc="-1" strike="noStrike" u="sng">
                <a:solidFill>
                  <a:srgbClr val="333399"/>
                </a:solidFill>
                <a:uFillTx/>
                <a:latin typeface="Arial"/>
              </a:rPr>
              <a:t>Диффу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4162320"/>
            <a:ext cx="746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2. Дененің жылдамдығын бір қалыпты тоқтаусыз сақтау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r>
              <a:rPr b="0" i="1" lang="kk-KZ" sz="3200" spc="-1" strike="noStrike" u="sng">
                <a:solidFill>
                  <a:srgbClr val="333399"/>
                </a:solidFill>
                <a:uFillTx/>
                <a:latin typeface="Arial"/>
              </a:rPr>
              <a:t>Инер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65280" y="6093000"/>
            <a:ext cx="39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101-беттегі тәжірибе (зырылдауық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шашқа қаламды үйкеле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908000" y="333360"/>
            <a:ext cx="5616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Кім тапқыр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6920" y="2008080"/>
            <a:ext cx="17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1. Барометр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7440" y="284652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2. Термометр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8520" y="373680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3. Дециб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77240" y="4575240"/>
            <a:ext cx="13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4. Тараз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5360" y="5294160"/>
            <a:ext cx="1055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5. Н</a:t>
            </a:r>
            <a:r>
              <a:rPr b="1" lang="kk-KZ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О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7520" y="579924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6. Күш 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86560" y="63817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101-беттегі тәжіри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042920" y="620640"/>
          <a:ext cx="7272360" cy="5008680"/>
        </p:xfrm>
        <a:graphic>
          <a:graphicData uri="http://schemas.openxmlformats.org/drawingml/2006/table">
            <a:tbl>
              <a:tblPr/>
              <a:tblGrid>
                <a:gridCol w="1058760"/>
                <a:gridCol w="1605240"/>
                <a:gridCol w="4608360"/>
              </a:tblGrid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оспас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ү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у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ұна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онез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Әті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3273840" y="618480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102-беттегі тәжіри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332000" y="115920"/>
            <a:ext cx="6624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Қорытынды тес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6360" y="907920"/>
            <a:ext cx="306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9999"/>
                </a:solidFill>
                <a:latin typeface="Arial"/>
              </a:rPr>
              <a:t>Судың неше күйі бар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64560" y="907920"/>
            <a:ext cx="4821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9999"/>
                </a:solidFill>
                <a:latin typeface="Arial"/>
              </a:rPr>
              <a:t>2. Қалыпты атмосфералық қыс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76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75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77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78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2419200"/>
            <a:ext cx="316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9999"/>
                </a:solidFill>
                <a:latin typeface="Arial"/>
              </a:rPr>
              <a:t>3. Денедегі электр өрісінің айналымға түсу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озғал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ұбыл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Электр тог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Электрле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11640" y="2419200"/>
            <a:ext cx="46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9999"/>
                </a:solidFill>
                <a:latin typeface="Arial"/>
              </a:rPr>
              <a:t>4. Қашар, Лисаков, Соколов – Сарыбай қандай кен орындар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емі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өмі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лт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м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79640" y="4352760"/>
            <a:ext cx="46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9999"/>
                </a:solidFill>
                <a:latin typeface="Arial"/>
              </a:rPr>
              <a:t>Бүкіләлемдік тартылыс заңын ашқан ғал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Ф.Милет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Г.В.Рихм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М.В.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И.Нью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6021360"/>
            <a:ext cx="1857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Бағалау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274680"/>
            <a:ext cx="85168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тақырыбы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Қайталау - оқу ана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 u="sng">
                <a:solidFill>
                  <a:srgbClr val="000000"/>
                </a:solidFill>
                <a:uFillTx/>
                <a:latin typeface="Arial"/>
              </a:rPr>
              <a:t>Сабақтың мақсаты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kk-KZ" sz="1800" spc="-1" strike="noStrike">
                <a:solidFill>
                  <a:srgbClr val="000000"/>
                </a:solidFill>
                <a:latin typeface="Arial"/>
              </a:rPr>
              <a:t>Білімділік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“Дене және табиғаттағы заттар” тарауын қайталау, жинақт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kk-KZ" sz="1800" spc="-1" strike="noStrike">
                <a:solidFill>
                  <a:srgbClr val="000000"/>
                </a:solidFill>
                <a:latin typeface="Arial"/>
              </a:rPr>
              <a:t>Дамытушылық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Оқушылардың есте сақтау қабілетін арттыру, ой-өрісін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дамы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kk-KZ" sz="1800" spc="-1" strike="noStrike">
                <a:solidFill>
                  <a:srgbClr val="000000"/>
                </a:solidFill>
                <a:latin typeface="Arial"/>
              </a:rPr>
              <a:t>Тәрбиелік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Оқушыларды ұқыптылыққа, тазалыққа, адамгершілікке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сұлулыққа тәрбиеле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түрі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Қайтал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типі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Жинақтау пысықт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әдісі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Интерактивті тақтамен жұмыс, тәжірибе жас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көрнекілігі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Интерактивті тақта, тәжірибе жасауға қажетті заттар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ук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барысы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1.Ұйымдастыру кезең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2. Оқушыларды түгелдеп сабақты баст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2791" t="7442" r="7859" b="0"/>
          <a:stretch/>
        </p:blipFill>
        <p:spPr>
          <a:xfrm>
            <a:off x="3276720" y="189000"/>
            <a:ext cx="5688000" cy="44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4000" y="539640"/>
            <a:ext cx="309564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Физикалық дененің құрамдас бөліктер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Алау, шам, электр лампасының жарығ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Жұлдыз, күн, кейбір жануарлардың жарығ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1 дене 2-шң денеге әсер еткенде пайда болатын қалыпты күштің қарқындылығын сипаттайтын физикалық ша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Табиғатта болатын барлық процесте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Қысымды өлшейтін құра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Топырақтың құнарлылығын арттыратын за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Қазақстандағы қ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Жылуды тез өткізетіндерге нелер жата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Электрлену құбылысын зерттеген ғал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Жерді, күнді планеталарды өз орбитасында ұстап тұрған күш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Энергияның белгілі бір пішін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987640" y="2349360"/>
            <a:ext cx="2664000" cy="158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Табиғ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құбылыст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908000" y="1916280"/>
            <a:ext cx="1224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435640" y="184428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123640" y="3789360"/>
            <a:ext cx="129708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48360" y="3789360"/>
            <a:ext cx="1655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4720" y="39337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284720" y="119664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834920" y="3141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1640" y="314172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987640" y="549360"/>
            <a:ext cx="2895480" cy="533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әйкесін тап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3440" y="1071720"/>
            <a:ext cx="2599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Химиялық құбыл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40920" y="1052640"/>
            <a:ext cx="3751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Найзағай, күннің күркіреуі т.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971720"/>
            <a:ext cx="2590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2. Электромагниттік құбыл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56040" y="1952640"/>
            <a:ext cx="3748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2. Жауын-шашынның түсуі, желдің соғуы т.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2922480"/>
            <a:ext cx="25909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3. Дыбыс шығару құбылы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56040" y="2903400"/>
            <a:ext cx="37483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3. Сүттің іруі, өсімдік пен жануарлар қалдықтарының шіру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4087800"/>
            <a:ext cx="2590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4. Метеорологиялық құбыл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56040" y="4068720"/>
            <a:ext cx="3748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4. Машина, үй, жиһаз, ойыншықтар т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4938840"/>
            <a:ext cx="2590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5. Физикалық де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6040" y="4919760"/>
            <a:ext cx="3748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5. Құстардың сайрауы, желдің гуілі, сағаттың соғуы т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29800" y="6021360"/>
            <a:ext cx="25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82-ші беттегі тәжіри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66000" y="1301760"/>
            <a:ext cx="262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шуланып бұрт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шушаң ақым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уызы көпіріп құтыр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ез келгенді ұшыр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29600" y="1557360"/>
            <a:ext cx="199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Әуеден күбі тү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үбінің түбі тү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29800" y="4221000"/>
            <a:ext cx="29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өк жүзінде көп жол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ойды екен оны кім бояп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66000" y="1301760"/>
            <a:ext cx="262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шуланып бұрт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шушаң ақым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уызы көпіріп құтыр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ез келгенді ұшыр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Құй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29600" y="1557360"/>
            <a:ext cx="199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Әуеден күбі тү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үбінің түбі тү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Күннің күркіре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29800" y="4221000"/>
            <a:ext cx="295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өк жүзінде көп жол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ойды екен оны кім бояп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Кемпірқос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92160" y="1125360"/>
            <a:ext cx="300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Мөлдір моншақ өзі жұмс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8120" y="987480"/>
            <a:ext cx="22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аһарын тіге кел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өріңе шыға өл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8160" y="3645000"/>
            <a:ext cx="27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үбі тесік шелект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су тамшылап тұрғанд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Басталып еді ол епп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қтарылды түк қалм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66760" y="4005360"/>
            <a:ext cx="297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ағазсыз-ақ, қаламсыз-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Сурет салар адамға ұқс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92160" y="1125360"/>
            <a:ext cx="300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Мөлдір моншақ өзі жұмс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Шы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8120" y="987480"/>
            <a:ext cx="227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аһарын тіге кел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өріңе шыға өл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Үйге кірген суы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8160" y="3645000"/>
            <a:ext cx="2728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үбі тесік шелект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су тамшылап тұрғанд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Басталып еді ол епп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қтарылды түк қалм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Жаңбы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66760" y="4005360"/>
            <a:ext cx="297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ағазсыз-ақ, қаламсыз-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Сурет салар адамға ұқс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Ая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2720" y="6237360"/>
            <a:ext cx="25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83-ші беттегі тәжіри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06:50:45Z</dcterms:created>
  <dc:creator>Ruslan_KADIROV</dc:creator>
  <dc:description/>
  <dc:language>en-US</dc:language>
  <cp:lastModifiedBy>USER</cp:lastModifiedBy>
  <dcterms:modified xsi:type="dcterms:W3CDTF">2011-11-20T11:04:17Z</dcterms:modified>
  <cp:revision>9</cp:revision>
  <dc:subject/>
  <dc:title>Слайд 1</dc:title>
</cp:coreProperties>
</file>